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E26-81C4-43B2-B6B1-D81C7C4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1A0-3FFE-42D9-A866-8743273F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C93-4F6E-48D0-AA11-276CB516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9C0-DE60-4676-B132-9215E739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C70D-0319-465C-A23B-2A03C23C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796-F803-447A-B704-D2E1367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225A-4D38-4506-ACC5-533139D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2E4-9A34-41F5-A8DB-A07C6E31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C05E-C267-4782-BD6D-E9AEFA2F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660D-EF64-4A61-89D4-607437DF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D4D6-56A7-4992-856D-CC44E51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FD3-0009-4868-B8CC-969AB16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2BAF-625D-404E-AFFE-C786D8C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AECB-F7D7-483A-B67D-C615CD5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5D7D-DF2B-45D4-8304-0FA65E01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326F-8506-4F63-8DE8-9D944B48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D0D-44E0-4179-84AA-C8818E1C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4B1-90FA-4F4B-9138-54F908E6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D1E-0BE7-465F-BF6C-EBFC91A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8B4-E92C-423E-82A3-7A36F01D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841-3FFD-477D-9843-DBF1CA1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3C7-C5B6-4852-AD43-C6E4DE6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748-79D2-4218-92B7-E327F95C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6C8-7CCE-480C-A83A-DC871DC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D86-875D-4CA0-A046-8CF8B794616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2F2D-1193-4FBA-AA23-9BE4264169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.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ción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09T17:13:09Z</dcterms:modified>
  <cp:revision>83</cp:revision>
  <dc:subject/>
  <dc:title>CC51A – Ingeniería de Software</dc:title>
</cp:coreProperties>
</file>