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371-496C-4F0E-9337-B7CC21B1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800-0420-4C36-A55E-AB2FD1F3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1AF-0610-4BC8-A112-B4E8F4FC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8D1-B9B2-4574-8BB7-19563D20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F1C6-B2B7-4EDF-975C-CB71BA9E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0B5B-08E2-4744-AA59-031ADFA0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6DF1-944E-4756-B63F-95D1D5C2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F6E4-3979-490B-8B18-565FAD5D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3743-F311-46FA-BA1A-57F27F3F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90B1-DB67-48A1-9F05-762C2959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C625-AC56-4404-BBD9-4D22AB18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E3F-EBFD-4CC3-A2B2-36313B0C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68A8-7EEB-4A34-BDD4-1FB2FEE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9E71-9C73-4B58-8599-20114F5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55F2-911E-429E-A32B-ABE0A6D7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0C31-798B-49DA-B0E4-5080D481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2D76-9C30-43A3-8725-246132BD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3B3-8DA4-4A4B-BC35-D7812316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D2A-F042-4E8A-BCED-67E69DA1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BA9-615D-483A-B5E5-1A61B7A0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A2E-A185-4CD7-B155-43E9E957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AED-2B53-43E2-BA73-5E930A89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E97-7D2B-442A-8520-EC9D87D4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426-96B7-408F-9A86-7409F9E2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C43D-82F4-4C95-B37B-CC501E6B79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E8D7-B8EB-4B6F-BCA1-902298214C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á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.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 Documentos de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UR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SR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 el DD con el formato establec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un resumen d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7 Código Fuent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Debe colocarse el código fuente del produc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ción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06-09T17:13:09Z</dcterms:modified>
  <cp:revision>83</cp:revision>
  <dc:subject/>
  <dc:title>CC51A – Ingeniería de Software</dc:title>
</cp:coreProperties>
</file>