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0A4-8581-435E-A508-42DF3B299D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88C4-B1FF-460F-A711-0BE76EAF9A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CD59-86D3-4012-8290-A2FAB1EA61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9FCF-3143-42FD-AD11-D36695373A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DF4-E079-4E22-AE93-F50E30924D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81F-AAA6-49E2-BE67-4D08D5F732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0575-600F-4889-85F3-8C49E89AFD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389-8405-41F1-AC13-7BF002D033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43A9-90E5-4631-B3C1-DE1D4430EB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9205-BF0D-46F8-913C-653EFB0291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CB8E-DA51-40EF-95A2-B8B74477E2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96AA-851E-45F1-BC12-37A916A2C7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607-7318-4E1F-9F7C-16DB5BB17F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2D6C-FDBB-45ED-80FD-7618F2DCC1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82BF-CFEA-4BA1-AC53-E2B82F2426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06EA-E1AA-4E34-A6C1-112035E726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67ED-7B5B-4093-8EA1-31D2084596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6C17-1B97-414A-86FC-693EC24276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F8C-748B-483B-98F8-F5EFF19873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052-8929-483C-BB65-1F3F096AFC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0F8C-B1CA-499E-95ED-AAEB146057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399-AA43-4F1C-AD38-B08F9E729C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7DC4-DA0F-4D59-B87C-A7789F1B7A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B895-0629-4550-AEC2-A01B7F829A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1A3-A8A8-4141-8273-2E52A17069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341A-91BC-402D-80F2-6680C99CD1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3797-07BD-42A3-9709-EAD781E0EA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DC2-59E7-4C6B-A255-708A1A9D13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FC2D-F25F-441C-8EF3-131B34497F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2939-E0E9-4820-A4F8-125CD24EEC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359C-2814-407A-8F4D-B986964DCB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C9BB-0991-4E88-B43B-FBEBF2C72A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8BC4-6125-4A92-82EE-D3B2335F5E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E858-9BEA-4059-AD5F-7812AD1AF3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05A2-1359-426F-A408-7502303E45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803-414A-489E-B926-37CACFC5FA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9F47-15E5-474A-943B-7722BCF9E7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207-3669-4806-B63C-47EA4C3878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434-0F92-42EF-8DED-E839FC5CA2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F82-20F2-4B43-B476-559F90A9BE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54BA-4DF8-4C53-9604-5A4F1CA5F7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19F4-F8ED-4521-8723-DEA0F7559E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799-9D68-43D9-8F7F-014E86CBCC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F01-3F2D-4209-A6B7-74013C8FDB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264F-0CEB-4F40-A978-B890FBD8CB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B50B-B6CB-40B7-9B0F-88C0835321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EDFD-07C7-4D57-B255-63C65FB8E7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69B-1DF3-48C2-9C84-4D09B65D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A51-9AC6-4823-9C71-BCFCE487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5FE-6029-47BC-BDC8-19A7C01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A5A-2D9B-46FE-A7B6-FF9AA4A0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4AA-E3BC-47B6-B160-5C2A2571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BC1-1B13-4ABA-8FC6-FACAE45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5D88-0F5F-4F0B-BB8C-832701E0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93C-9693-4792-AE73-DBCCB2F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4D42-BF74-44AB-B9FD-BE4041D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F23-DB16-4F4A-9176-E138CF0D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C699-DF32-4977-B0A7-90557E8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242-CE53-4EBE-BAB5-DED90E0B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E521-147B-419D-9A46-48185E3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021D-1FBD-45AC-9852-B8D91D7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9B00-A3E9-4E44-ADD2-64EC6CB7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E773-D9FE-469E-A7ED-95849D3A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A1A-C652-4F28-B1E0-E4B14821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230-7FDA-48AF-8609-69F58003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0B7-B0E4-47AE-8563-A077D22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71-533A-4415-BEBE-1BC2437B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CF5-F644-4EF3-8717-96B9D200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B15-10AA-4414-A13B-84F6CF7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A2D-F8BD-40BC-8EF0-DDB4D39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A46-59D8-466A-9BDF-7CD9F8C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70B1-3389-46CD-8622-655E9A3A19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55A4-7F22-4C36-A17B-0B3750878D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36400" y="4917960"/>
            <a:ext cx="8293320" cy="144864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4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5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05-12T15:31:58Z</dcterms:modified>
  <cp:revision>67</cp:revision>
  <dc:subject/>
  <dc:title>Diseñando para la Web (#1)</dc:title>
</cp:coreProperties>
</file>