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20C9-D685-48C7-9E59-A746B14540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4150-56FA-470B-8D44-155B300EEE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780F-1265-4952-82FE-77F057F862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6C8D-E55B-4B0B-9454-7E2034CB9F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4627-F9D4-4B52-9627-E0DF2691AA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7A5E-F909-44BE-A32F-BF11FB0A0F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FA64-E76A-4B82-B7F1-40A2317C5E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284F-C2C9-426B-9272-3B4BE42D42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8333-CCBA-4372-8794-6BC1B43F9C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F5CB-7966-435C-8E38-E96B834C4F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FDF0-DDD6-4851-89EA-A809CAA592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FAB2-333C-40FF-881A-7B1B996026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54A4-556B-44A5-840F-3B15400E09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F872-BC33-4D05-81CB-59620A2276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68E3-424A-49FA-893E-DDA76AE4B1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A13E-35E0-4064-AC00-5B198CF92A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F602-D00C-48BF-87EF-8AC6D6A685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B977-D3C1-4973-ACBD-7D766C4885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BAF4-9E20-4C4F-AC3A-8E9E2324FF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6693-C17D-4556-BFB6-8EEF615DCF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4D8C-99CB-467A-AFC8-D95AAE7553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3699-84EC-44DE-B9F0-D5C7134DD4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7C1-BE3F-4574-820C-00C9389C18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EE20-E592-4F9F-87FF-71667EB68B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BBB4-2BDE-469A-9250-CEFC460885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BD83-3CAE-4DB6-95A9-36514E451B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4492-B957-482F-887D-234FC7D494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2012-4FC5-4800-9D6B-C082C559ED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3D6D-6EA8-475B-99BC-F6C3C2D1E0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072E-3B5D-4202-B036-576E45E7AC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E04F-5CE3-4520-B336-5602B829C7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0BA3-2A6A-4A79-8F2F-AA2A412159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6303-2F7F-4062-A3B4-C6BE721408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5283-FC70-4823-BFDE-76CEF65256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3AA2-1529-4B28-8650-00C3386667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036F-CB3C-4C82-81EF-9AE9CD9C5A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B4F8-149B-440F-9465-2A6B808C38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21C2-E6BA-41E9-B7D2-87DC79F07A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FC29-2AF5-479F-AC37-E4E5D0621C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BE56-5E7A-4BE1-9ECB-3658FA310E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9CC1-630D-4D7B-9532-D3961E4AE1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D620-7B98-446F-8950-3D13D1B648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9789-6D5D-43B0-A03A-223746E132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4A3D-8B23-40D1-8DA5-58AAD0CFD5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7FD9-E5CB-4FAA-8C50-EDFDDB5E20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3440-6BBF-4317-AE99-2FC8625441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292C-A9F1-442D-976D-A1904B3A44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B92-E73E-4DF0-85AD-BD1F9BB2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03D-636C-4A71-BAF8-96F6E72F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CF3-AD74-4E6F-807E-F7C9AEF6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252-EA2A-4B4E-B005-F3C63D3D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08F9-4017-4475-88A9-F57CB8D0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CAF0-7A54-4E45-8685-CAB1B8C9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96E0-EED7-44EA-B120-F04E6375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FFD9-C018-47CD-B16D-BC38284F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D631-71B6-4EC3-87AA-1A351451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3BAF-91D7-4DE7-B81E-188D8FAC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F237-F7BB-4EE7-80A1-8C160883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F1D-D555-44EC-807F-6F2A53DE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24A1-4E15-40BC-8CD7-EDB9C000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2E55-E435-4831-AD83-5BE6996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E37A-C730-43BE-B15C-870DB07F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9FD4-4882-4477-BA63-110F6335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A414-0E77-4A1A-AAD5-94D410E9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BF9-5276-4E1C-BEA3-36C03B7E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4F2-F2E7-497F-8629-12958D4C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9A3-D6E7-46DF-9A59-25C45871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9CB-5D14-4ADD-9DBD-5D6744F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839-4D8D-4A22-9B08-F1C02E4A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7B8-0401-422B-8D97-89EB3434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97F-5EB3-4C7D-A1CF-102F633E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E423-5248-4410-9660-E28754A4524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EDA5-1E80-4795-8676-1CD7D65F63E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536400" y="4917960"/>
            <a:ext cx="8293320" cy="144864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4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5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8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05-12T15:31:58Z</dcterms:modified>
  <cp:revision>67</cp:revision>
  <dc:subject/>
  <dc:title>Diseñando para la Web (#1)</dc:title>
</cp:coreProperties>
</file>