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4C4-BC84-43A9-8DE9-B09C9947857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767D-449C-4A11-B245-38E60220B4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E85-9F7B-4B48-83B4-87B091B454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323-AD61-46E6-85E0-CDFA26AA7E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42C1-F7F2-41BE-B944-E5801BC6E0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A87C-92AF-4AFE-95BC-B9C2FA6603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585-F930-4BA4-A077-5B3E3AB886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BEE-A8CC-4781-852A-1DC9830394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85D-424F-40D2-AB28-36DA45CF99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973-058A-450B-93CB-D353DAD2B2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64CD-27BD-4A42-9579-FDD758536B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4893-DE37-4785-85BF-652A02B779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F724-FC9D-48D5-B7FE-C235C3D268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09C-3CE8-4EB3-85CC-536ADCDFB0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7492-9C61-4665-899D-46966950BB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D897-D675-4A89-A7B8-66BCC13C57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525A-B97F-4ABA-A08A-6F145D6569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0FB-E783-46D6-922B-3AF771920B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4859-2A4D-40E8-AEEA-56E1DF399F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C51-2B3D-4E5B-A24A-9340FBC6E1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C68-4D90-4513-A4F7-3C88AB8EAF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1B12-C700-43CF-A572-49DF62D672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929-EB2A-4E4F-BBDB-3404A342DE3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9AC6-C8A0-461C-8ED0-3331F07328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DEF2-2D76-4793-9059-0E3F017EF7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505-B88D-4823-BF02-7D3A6F4AE7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BE5-2FA9-4E73-B397-0F5FA9F114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5C4-9FD9-4D6C-AFE5-3B75AFDB45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F6F0-5DE4-431B-AF1B-59049F5B2A9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C866-F556-4E9F-9379-B1B0AA405B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CB6-CB86-42EB-B41D-59D7EF3DDD7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943C-F606-4DC7-8940-36B35BB433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FD16-9C85-4C13-AC0B-CBBA3D815C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3D73-273B-4CDE-86E2-0AA5D2E58E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9CC-FE23-4524-B7F6-3ADAF39D87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BA00-1ACD-4B5A-B3A1-BD80F44133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B44A-5167-4B80-BBF0-B0C06090FA3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857D-C921-4572-B5F0-F406FF3E29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E5B8-C1E9-4B18-A521-03C0675E622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1125-82CC-4999-9B3E-E55E8455BB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52B-AC55-48BA-8DBA-00B31D7281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AB3D-288F-4163-A7A0-AC1330F737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45A-1DBE-4081-96D1-87CF5D0A53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783C-FEFF-422D-AB3F-1412F941F5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F726-8EA9-4878-84D6-D718305CD0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BDA7-7904-42FC-84C2-ABA50D5708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B64C-BF45-4C56-957D-678FB1C49F7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5FB-345D-4F73-BACC-904D459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277-435A-4E24-ABFE-8661F36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471-CD63-4B65-856D-0304BCDB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2BF-32EF-4ACC-A48B-8ADFFAEA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5EA5-60B3-4DA2-B7C3-9ABB44A3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0E4B-6519-45E9-9404-5E916CEE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D002-2EBE-4AE4-974B-645F670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9B45-B493-4461-AA94-AE6B4D6D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C5E-5F21-4D0D-948E-353612C6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5F4F-5669-4FBF-A48C-B8E497E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8119-CB9B-4FD3-B3B0-EBEE389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454-6950-4C35-833C-D27FA3AC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FCB8-8B31-4BA3-BC38-155146E2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02BD-C72D-4BDF-8B37-2441CFCE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97A8-19D8-4B3F-8B6B-2646EAD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5485-B8B3-4D96-8A3E-9E63769A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428A-62D7-44E4-8D9E-65EEF1B7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037-56BA-4ADD-AE41-675FFDE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D64-1A3B-46F8-BD71-490FE8F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790-D3A4-4E05-849D-50DA5A2C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E8E-25A2-4A33-9331-274B1BC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22B-2B68-4EA6-A1A8-8CEF5334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D2A-3124-4173-93E3-29CEA6A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AEC-5FC7-4F95-B243-335A5D6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7B4-9D45-4CCD-AF03-FF15CCB780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5B3-EE07-4142-9756-AB3FA9FFD5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36400" y="4917960"/>
            <a:ext cx="8293320" cy="144864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4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5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05-12T15:31:58Z</dcterms:modified>
  <cp:revision>67</cp:revision>
  <dc:subject/>
  <dc:title>Diseñando para la Web (#1)</dc:title>
</cp:coreProperties>
</file>