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C51C8-6F37-46DB-85AC-BE78E407592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221AB-EEE8-4EB2-A855-838B621D334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DD12B-2933-43C8-B940-6D6C7C82441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2C950-3BCA-4382-8817-F4F0FE0B857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06850-6AB7-42BC-89C1-3A46EC10D34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93624-587D-42E1-9094-B1F5E58D086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E5AA6-7438-4C7D-9B1F-F993C9D22F2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7C3F8-FC4A-4A7B-AEB8-213F1F772CE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BC85D-B5B5-4DA6-903C-BF737934A2A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05FF8-43DC-4AEA-924B-241D6CE6939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EB25E-69AE-41E2-9F48-6ADACB4176A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BE9A5-5D06-40FE-9406-FCE7E154739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CB615-EB92-45A8-B83D-19BCEC46D10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89993-6E67-4027-994B-806F2C9F61D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95469-71B7-4E3C-8544-9CE943AA715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3E283-E719-4EFB-A222-1C6CF7F32B7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77882-B3C6-406B-9305-23336970D80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41934-599F-4456-8DA7-82F56FCD22F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E8FCE-D293-464E-9BAD-54EA43F7BAB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14EF3-470E-41D0-8909-0A63D295DA9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5CE5C-B0B9-4659-8192-349CC29B688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AB700-6803-4CBE-A0D6-6547E223E29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5A6C6-2AEF-445C-902B-B43C4CDA2D7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1B9EB-617D-4852-A999-B51857B9D72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3AFC2-2F55-4259-9078-4E91855D621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1E6AE-C4DF-4EB1-A54F-33C02CD6475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1B863-3E90-4793-9C4E-1BF46CAD6E1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4DFD-8979-4B20-AE06-DFF90727D3D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B100A-53AA-4043-AFA6-516BC69EB42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7D9EB-6527-494C-A2C6-2C05032C201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E3C6A-23A7-4AB9-ACF2-75141568D8E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156FE-CA39-4C71-B5AD-3B88B30AB2C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3D3F7-7F04-4E95-A4E0-2F9BC31449B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6A329-9E8C-49C1-AA31-F389CAF660E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72EB1-72BF-4800-A1E5-F3520B912E6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4C62D-D47A-4B1C-8598-EDEA3169BCD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36E9A-C533-45BE-8715-85988941B46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2EF6B-9CD1-471F-8A9A-8161D3811B5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F1DA-BF51-4807-AE1A-934671E3D67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B57FC-B97D-44FE-BDC6-0940697F6A1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4A4AD-67B9-4E94-8CAD-C2408AFF1A2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C2931-FDB7-404E-A964-E2D5A8FE329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FD188-13E5-41DD-8BCE-AA0005FF93D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AFD86-AF11-48FE-BBAC-E137DA7F88A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60E71-591B-47B5-9CC6-0558C81314E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DEF44-12E7-46C5-9345-ED584B1B8E7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5451D-6476-4060-9044-6802B3C6999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343A-3B13-4C64-B989-EE2C4FAE5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B91B-8317-4238-A57E-12CCE325D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756D-3502-45F8-9744-C36969E52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57C5-142D-41B1-A749-B01F48130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B81F2-DC71-4A14-9300-39CC79758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81E4E-FE24-4A00-86D9-C1B4EECDB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2277F-CBF9-49E3-970F-399B46948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62E5B-69BA-4E9F-982F-B94337423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63A39-81E8-40E8-92A1-069274A64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55CF5-2551-460A-954A-5A41EE2DF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B1438-F56A-49AF-9EF3-5F739A4A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4131-3F61-4C6F-A77E-B8A4CFC13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3C625-9208-41C7-B624-55D960EB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DADE5-99EB-4D6C-9620-0D778BD4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C7D16-6A77-41AF-BD7D-145C44E5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87568-6DB7-4192-9416-E754F4C45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152D1-61EE-454D-BE8E-8F86EC5F9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DF85-2B93-4188-AF74-58E9400C3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AB8D-BC8A-40B5-8918-3DEA29C85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B7AF-A62B-43ED-ADE8-5EE1A1EE7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75EE-495C-42DF-A162-6FFE14B8D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56CC-BE46-49B7-A611-BB92F731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10E3-08CE-40FE-9BED-A079F248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BAC3-CF5B-4774-A864-461C6B66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7CF1F-E651-4D62-A31F-55CCA010DB6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A5DC1-AC83-4833-BBE9-D5471231B9D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useit.com/alertbox/" TargetMode="External"/><Relationship Id="rId2" Type="http://schemas.openxmlformats.org/officeDocument/2006/relationships/hyperlink" Target="http://www.useit.com/alertbox/" TargetMode="External"/><Relationship Id="rId3" Type="http://schemas.openxmlformats.org/officeDocument/2006/relationships/hyperlink" Target="http://www.useit.com/alertbox/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useit.com/alertbox/9605.html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www.webpagesthatsuck.com/" TargetMode="External"/><Relationship Id="rId5" Type="http://schemas.openxmlformats.org/officeDocument/2006/relationships/hyperlink" Target="http://www.webpagesthatsuck.com/" TargetMode="External"/><Relationship Id="rId6" Type="http://schemas.openxmlformats.org/officeDocument/2006/relationships/image" Target="../media/image2.png"/><Relationship Id="rId7" Type="http://schemas.openxmlformats.org/officeDocument/2006/relationships/hyperlink" Target="http://www.dsiegel.com/tips/" TargetMode="External"/><Relationship Id="rId8" Type="http://schemas.openxmlformats.org/officeDocument/2006/relationships/hyperlink" Target="http://www.dsiegel.com/tips/" TargetMode="External"/><Relationship Id="rId9" Type="http://schemas.openxmlformats.org/officeDocument/2006/relationships/hyperlink" Target="http://www.dsiegel.com/tips/" TargetMode="External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Diseñando para la Web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495288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00280" y="215640"/>
            <a:ext cx="797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obiern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1006560" y="1711440"/>
          <a:ext cx="7400880" cy="469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6560" y="1711440"/>
                    <a:ext cx="7400880" cy="46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0" y="5778360"/>
            <a:ext cx="9144000" cy="1078200"/>
          </a:xfrm>
          <a:prstGeom prst="rect">
            <a:avLst/>
          </a:prstGeom>
          <a:solidFill>
            <a:srgbClr val="fcfdc6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Integración de los organismos gubernamentales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Mismas ventajas que en una empresa (Intranet)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00280" y="279000"/>
            <a:ext cx="797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unic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019160" y="1689120"/>
          <a:ext cx="7378560" cy="469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9160" y="1689120"/>
                    <a:ext cx="7378560" cy="46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15840" y="5181480"/>
            <a:ext cx="9128160" cy="1448640"/>
          </a:xfrm>
          <a:prstGeom prst="rect">
            <a:avLst/>
          </a:prstGeom>
          <a:solidFill>
            <a:srgbClr val="fcfdc6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Radio, T.V., PushTechnologies.                   - Acceso a B.D. Históricas de las agencias de noticias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 Almacenan y distribuyen la historia del mundo, en forma detallada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Información mundial al Instante (reportes del tiempo, comportamiento de los mercados, etc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86960" y="329760"/>
            <a:ext cx="797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ntretenimien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819440" y="1673280"/>
          <a:ext cx="6322680" cy="48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9440" y="1673280"/>
                    <a:ext cx="6322680" cy="48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15840" y="5778360"/>
            <a:ext cx="9128160" cy="1078200"/>
          </a:xfrm>
          <a:prstGeom prst="rect">
            <a:avLst/>
          </a:prstGeom>
          <a:solidFill>
            <a:srgbClr val="fcfdc6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cceso Instantáneo a un gran pool de Entretenimientos, sin moverse de su casa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Los costos de acceso son menores (no hay viajes, varios pueden usar la misma entrada, etc) 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as Web Page representan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777600" y="1828800"/>
            <a:ext cx="812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ista de la Información del Usuario, sobre una pantall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idad de Navegació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irección para obtener información a través de la Web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positorio de Informació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ágina: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es la unidad atómica que unifica a estos concept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mportancia del Diseño en la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 buen diseño en Web permite  </a:t>
            </a: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aumentar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entas de una Empres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isponibilidad de Productos y Recurs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lexibilidad en las Tare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municación entre las Person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elocidad de acceso a los Recurs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egración con los sistemas ya existent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mportancia del Diseño en la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 buen diseño en Web permite  </a:t>
            </a: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disminuir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irculación de Pape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stos en Comunicacion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stos de Personal (uso de agentes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Restricciones de Uso (sólo se necesita un browser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istas para la Usabilidad de las Páginas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sar el Título de las Págin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sar el Tamaño y el Color del Tex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sar la Estructuración de las Págin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sar las Suposiciones hech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sar la Retroalimentación que brind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sar el Formato y Distribución de las Imágen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ntener la Coherencia en todas las Págin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533520" y="5654520"/>
            <a:ext cx="8318520" cy="951120"/>
          </a:xfrm>
          <a:prstGeom prst="rect">
            <a:avLst/>
          </a:prstGeom>
          <a:solidFill>
            <a:srgbClr val="fcfdc6"/>
          </a:solidFill>
          <a:ln w="1260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ipulando estas variables, mis páginas van a ser las amigable para el usuario, más usables e intuitiva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ítulos en Páginas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98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título debe ser representativo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ra el usuario, y arañas (search engine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be tener suficiente informa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ra guíar la navegación del usuario en forma precis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ítulos largos cansan a los usuari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sar información abreviada y representativa, por ej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y Company - Home page” vs. “Welcome to My ...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áginas diferentes -&gt; títulos diferent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amaño del Texto y Colo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95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 use la combinación </a:t>
            </a: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Azul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Roj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ansa la vist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 use muchas combinaciones “Tamaño / Font” distinta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ceptable en frases pequeñ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es recomendable en párrafos o unidades de texto mayor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orque desorienta al usuari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ansa la vist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 queda claro qué se intenta comunicar con ese contras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4" name=""/>
          <p:cNvSpPr/>
          <p:nvPr/>
        </p:nvSpPr>
        <p:spPr>
          <a:xfrm>
            <a:off x="507960" y="5654520"/>
            <a:ext cx="8344080" cy="707760"/>
          </a:xfrm>
          <a:prstGeom prst="rect">
            <a:avLst/>
          </a:prstGeom>
          <a:solidFill>
            <a:srgbClr val="fcfdc6"/>
          </a:solidFill>
          <a:ln w="1260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No porque haya muchos recursos (tamaño, estilo y color) disponibles, debo usar a todos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ejorar los Preview (Thumbnail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985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umbnails (previews de imágene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uestran el preview de una imagen (generalmente grande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chica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cortar o escalar no funcionan bie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993600" y="4014720"/>
            <a:ext cx="6384960" cy="2619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77960" y="1828800"/>
            <a:ext cx="8177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ntroducción a Internet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a Web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mportancia del Diseño en la Web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istas para mejorar la Usabilidad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lgunas Herramientas: Animaciones, Frames, y Link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os 10 errores típicos del diseño para Web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2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1260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440" y="198000"/>
            <a:ext cx="813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altar lo Relevante Reduciendo las Imáge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18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imero recortar y luego escala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j.: para lograr una imagen que es el 10% del original, deb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cortar el 32% (más relevante) de la image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uego escalar un 32% (reducir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32 * .32 = .1 del origina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alance entre detalle y context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>
            <a:off x="2036880" y="4894200"/>
            <a:ext cx="4570200" cy="1363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 Haga Suposic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50880" y="1828800"/>
            <a:ext cx="811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rows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personas usan diferentes programas como browsers, y también diferentes versiones de ell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etscape, Explorer, Lynx, Opera, Mozilla,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amaño de las Ventan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todos los usuarios usan el tamaño por defecto que tienen de ventanas (por gusto o por restricciones de su monitor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scritura en la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aya al grano, con los text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5% más lenta es la lectura en una pantalla de computadora, respecto de un texto impres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l palabrerío cansa al usuari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criba pensando en Escaneabilid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s personas escanean la información de las páginas web, y sólo leen lo que les interes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structure la información con 2 o 3 niveles de títul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use encabezados representativos y resaltad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scritura en la Web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1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e hipertexto para estructurar la informa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rta la información en módulos coherentes sobre tópicos relacionad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se el estilo de pirámide invertida (muestre primero las conclusione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is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troalimentación (Feedback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 un link apunta a un objeto muy grande (imagen, video, o pág. HTML), indique en el link el tamaño del mismo (entre paréntesi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amaño de las pist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onga el tamaño de la imagen en el tag IMG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ostrar la estructura de la página, antes de que lleguen todas las imáge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a </a:t>
            </a: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Coherencia: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la Gran Ausent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La Coherencia en las páginas de un site permit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navegación intuitiv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mostrar al site como un to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integrar el contenido y las herramientas. presentad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identificar las páginas de una empresa sin necesidad de leer el contenido (publicidad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publicitar “un estilo”, al interior de la empresa (en el caso de intranets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11360" y="24084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a </a:t>
            </a: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Coherencia: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la Gran Ausent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1795320" y="1612800"/>
          <a:ext cx="5694480" cy="494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5320" y="1612800"/>
                    <a:ext cx="5694480" cy="49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2280" y="2916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La </a:t>
            </a:r>
            <a:r>
              <a:rPr b="1" lang="es-ES" sz="4400" spc="-1" strike="noStrike">
                <a:solidFill>
                  <a:srgbClr val="660066"/>
                </a:solidFill>
                <a:latin typeface="Tahoma"/>
              </a:rPr>
              <a:t>Coherencia:</a:t>
            </a: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 Gran Ausente (cont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837560" cy="33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Solucione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Style Sheet (Hojas de Estilo): Disponibles a partir de HTML 3.2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….. CSS (Cascading Style Sheet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Potenciado en XML 1.0….. XSL (eXtensible Stylesheet Language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ultados Empíric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77600" y="1828800"/>
            <a:ext cx="82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tudio a cerca de la Usabilidad: se estudiaron los 9 mejores web sit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cluyendo CNN, Disney, HP, Fidelity,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 realizaron empresas independient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atos obtenid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ocenas de horas de observación de usuari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 tuvo en cuenta la composición de los sites, a la hora de realizar los análisi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ultados Empíricos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18640" y="1697040"/>
            <a:ext cx="798516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ingún site fue muy buen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sas mal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home pages dan poca información acerca del contenido total del si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as páginas “legibles” fueron menos efectiv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personas no leen, ojea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oraciones bien formadas pueden ocultar información clav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terne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040" y="1660320"/>
            <a:ext cx="789948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a red Internet o super-red, interconecta a la mayor parte del planet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Millones de usuarios (y clientes potenciales) acceden diariamente a ell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 cada vez se hace más necesaria .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Internet plantea un nuevo escenario para el desarrollo de aplicacion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3886200" y="4114800"/>
          <a:ext cx="2362320" cy="14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4114800"/>
                    <a:ext cx="2362320" cy="14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"/>
          <p:cNvSpPr/>
          <p:nvPr/>
        </p:nvSpPr>
        <p:spPr>
          <a:xfrm>
            <a:off x="536400" y="4917960"/>
            <a:ext cx="8293320" cy="1448640"/>
          </a:xfrm>
          <a:prstGeom prst="rect">
            <a:avLst/>
          </a:prstGeom>
          <a:solidFill>
            <a:srgbClr val="fcfdc6"/>
          </a:solidFill>
          <a:ln w="1260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omunicación mundial a bajo costo                  - Millones de colaboradores, clientes, etc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epositorio mundial de información                  - Acceso a servicios en lugares remot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ayores capacidades de exportar o importar   - Globalización del mundo ........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ultados Empíricos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77960" y="1828800"/>
            <a:ext cx="8197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tiempo de “download” no fue un tema importa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 se detectó correlación entre demora y frustr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diseño gráfico tuvo poco ef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navegación debe estar integrada al conteni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 no, el usuario encuentra al site “poco usable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parar el contenido del diseño (estructura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ultados Empíricos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iolación del “protocolo de ventas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tuación estándar “humano - humano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l usuario da información personal, sólo si compr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tuación estándar basada en We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l usuario tiene que dar la información personal primero, si quiere comprar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violación de este protocolo, muchas veces auyenta a los posibles client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Algunas Herramientas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El diseño de páginas web usables, no pasa por utilizar un cierto editor o herramienta.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 Pasa por hacer un uso adecuado de los recursos disponibles, como por ejemplo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Fram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ink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Imágenes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nimacion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tc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nim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14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on buenas para llamar la aten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ero no deben ser continuas (usar estados rotativo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 velocidad de animación debe ser baj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suarios Fastidiados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s animaciones hacen más difícil la lectur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istrae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Útiles para distribuir inform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uy usadas en páginas comercial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ram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1919160" y="1865160"/>
            <a:ext cx="5327640" cy="3835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ram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1965240" y="1832040"/>
            <a:ext cx="5276880" cy="4451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ultados Empíricos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ram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son malos, pero..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ntenga el esquema de frames en todas las págin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abuse de los fram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nalice la necesidad o no de las barras de scroll, para cada fram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ink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l usuario no le gustan los links cort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j.: “If you click on 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Disneyland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will you get a map of the park? Ticket Information, etc?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links largos atraen al usuar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j.: “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How to Read the Pricing and Rating Listing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Pricing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(How to Read Pricing &amp; Rating Listings)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usar links embebidos en párraf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acen más difícil la búsqueda de inform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Genera una sensación de “información incompleta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inks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inks dentro de las págin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scroll de las páginas puede ocultar línks útiles para el usuari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aga páginas cortas para evitar lo anterio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os links circulares causan confusión al usuari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uenos Link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1654200" y="1666800"/>
            <a:ext cx="5759280" cy="4337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plicaciones Típicas de Interne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525400" y="1547280"/>
            <a:ext cx="5064120" cy="471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-mai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T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elne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tros...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o fundamentalmente: 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              “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a WEB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os 10 Errores Típicos en Diseño para Web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328400" y="2919240"/>
            <a:ext cx="6840360" cy="20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 Nielsen: “Heuristic Evaluation”.               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www.useit.com/alertbox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/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82400" y="240840"/>
            <a:ext cx="84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os 10 Errores Típicos del Diseño para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904760" y="1828440"/>
            <a:ext cx="66294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0. Grandes Tiempos de Descarga (download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9. Información Desactualizad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8. Colores y Consistenci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7. Navegación Inadecuada (no hay diseño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6. Páginas Demasiado Grand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5. Páginas Huérfana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. URLs Complej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. Abuso de Animacion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Mecanismos para Atracción de Usuari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Uso Inapropiado de Fram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10. Grandes Tiempos de Descarga (download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regla de los 10 segund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iempo máximo de espera antes de que el usuario comience a perder interés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s un factor humano muy estudiado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asta 15 segundos son aceptables en la Web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s personas se acostumbran a soportar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ero sólo en páginas important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redes han mejorado su velocidad, pero también la cantidad de usuarios se ha incrementa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peso de las páginas web no se ha reduci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9. Información Desactualizad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Web es como un gran jardín, dónde usted es el jardinero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ay que arrancar la maleza y dejar las flores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mayoría de las personas crean contenidos, pero no los mantienen actualizados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volumen de basura en la Web crece más rápidamente que el de la información úti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 un link es aún relevante, manténgalo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n otro caso, quítel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8. Link con Colores no Estándar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inks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inks a páginas no revisadas están en </a:t>
            </a: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Azu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inks a páginas revisadas están en </a:t>
            </a:r>
            <a:r>
              <a:rPr b="0" lang="en-US" sz="2400" spc="-1" strike="noStrike">
                <a:solidFill>
                  <a:srgbClr val="cc00ff"/>
                </a:solidFill>
                <a:latin typeface="Tahoma"/>
              </a:rPr>
              <a:t>púrpura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roj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cambie estos color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s una de las pocas ayudas para la navegación, que funcionan en casi todos los browser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consistencia es importante para el Usuar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 subraye objetos con rojo/azul/púrpura, pueden confundirse con un link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838080" y="3429000"/>
            <a:ext cx="754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muestre cosas que parecen botones, a menos que efectivamente sea un botón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sist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2944800" y="1841400"/>
            <a:ext cx="3240000" cy="1198800"/>
          </a:xfrm>
          <a:prstGeom prst="rect">
            <a:avLst/>
          </a:prstGeom>
          <a:ln w="0">
            <a:noFill/>
          </a:ln>
        </p:spPr>
      </p:pic>
      <p:grpSp>
        <p:nvGrpSpPr>
          <p:cNvPr id="333" name=""/>
          <p:cNvGrpSpPr/>
          <p:nvPr/>
        </p:nvGrpSpPr>
        <p:grpSpPr>
          <a:xfrm>
            <a:off x="2822400" y="631440"/>
            <a:ext cx="4810320" cy="3386520"/>
            <a:chOff x="2822400" y="631440"/>
            <a:chExt cx="4810320" cy="3386520"/>
          </a:xfrm>
        </p:grpSpPr>
        <p:grpSp>
          <p:nvGrpSpPr>
            <p:cNvPr id="334" name=""/>
            <p:cNvGrpSpPr/>
            <p:nvPr/>
          </p:nvGrpSpPr>
          <p:grpSpPr>
            <a:xfrm>
              <a:off x="2822400" y="631440"/>
              <a:ext cx="3564720" cy="3386520"/>
              <a:chOff x="2822400" y="631440"/>
              <a:chExt cx="3564720" cy="3386520"/>
            </a:xfrm>
          </p:grpSpPr>
          <p:sp>
            <p:nvSpPr>
              <p:cNvPr id="335" name=""/>
              <p:cNvSpPr/>
              <p:nvPr/>
            </p:nvSpPr>
            <p:spPr>
              <a:xfrm>
                <a:off x="2886120" y="1657440"/>
                <a:ext cx="3403440" cy="1522440"/>
              </a:xfrm>
              <a:custGeom>
                <a:avLst/>
                <a:gdLst/>
                <a:ahLst/>
                <a:rect l="l" t="t" r="r" b="b"/>
                <a:pathLst>
                  <a:path w="1888" h="851">
                    <a:moveTo>
                      <a:pt x="0" y="0"/>
                    </a:moveTo>
                    <a:cubicBezTo>
                      <a:pt x="61" y="102"/>
                      <a:pt x="251" y="123"/>
                      <a:pt x="345" y="153"/>
                    </a:cubicBezTo>
                    <a:cubicBezTo>
                      <a:pt x="531" y="211"/>
                      <a:pt x="721" y="260"/>
                      <a:pt x="909" y="313"/>
                    </a:cubicBezTo>
                    <a:cubicBezTo>
                      <a:pt x="973" y="331"/>
                      <a:pt x="1042" y="334"/>
                      <a:pt x="1101" y="364"/>
                    </a:cubicBezTo>
                    <a:cubicBezTo>
                      <a:pt x="1186" y="408"/>
                      <a:pt x="1263" y="427"/>
                      <a:pt x="1357" y="448"/>
                    </a:cubicBezTo>
                    <a:cubicBezTo>
                      <a:pt x="1413" y="483"/>
                      <a:pt x="1469" y="518"/>
                      <a:pt x="1523" y="556"/>
                    </a:cubicBezTo>
                    <a:cubicBezTo>
                      <a:pt x="1533" y="563"/>
                      <a:pt x="1545" y="568"/>
                      <a:pt x="1555" y="576"/>
                    </a:cubicBezTo>
                    <a:cubicBezTo>
                      <a:pt x="1569" y="587"/>
                      <a:pt x="1593" y="614"/>
                      <a:pt x="1593" y="614"/>
                    </a:cubicBezTo>
                    <a:cubicBezTo>
                      <a:pt x="1626" y="704"/>
                      <a:pt x="1694" y="751"/>
                      <a:pt x="1773" y="800"/>
                    </a:cubicBezTo>
                    <a:cubicBezTo>
                      <a:pt x="1797" y="815"/>
                      <a:pt x="1822" y="830"/>
                      <a:pt x="1849" y="838"/>
                    </a:cubicBezTo>
                    <a:cubicBezTo>
                      <a:pt x="1862" y="842"/>
                      <a:pt x="1888" y="851"/>
                      <a:pt x="1888" y="851"/>
                    </a:cubicBezTo>
                  </a:path>
                </a:pathLst>
              </a:custGeom>
              <a:noFill/>
              <a:ln w="57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8330400">
                <a:off x="2902680" y="1563480"/>
                <a:ext cx="3403800" cy="1522440"/>
              </a:xfrm>
              <a:custGeom>
                <a:avLst/>
                <a:gdLst/>
                <a:ahLst/>
                <a:rect l="l" t="t" r="r" b="b"/>
                <a:pathLst>
                  <a:path w="1888" h="851">
                    <a:moveTo>
                      <a:pt x="0" y="0"/>
                    </a:moveTo>
                    <a:cubicBezTo>
                      <a:pt x="61" y="102"/>
                      <a:pt x="251" y="123"/>
                      <a:pt x="345" y="153"/>
                    </a:cubicBezTo>
                    <a:cubicBezTo>
                      <a:pt x="531" y="211"/>
                      <a:pt x="721" y="260"/>
                      <a:pt x="909" y="313"/>
                    </a:cubicBezTo>
                    <a:cubicBezTo>
                      <a:pt x="973" y="331"/>
                      <a:pt x="1042" y="334"/>
                      <a:pt x="1101" y="364"/>
                    </a:cubicBezTo>
                    <a:cubicBezTo>
                      <a:pt x="1186" y="408"/>
                      <a:pt x="1263" y="427"/>
                      <a:pt x="1357" y="448"/>
                    </a:cubicBezTo>
                    <a:cubicBezTo>
                      <a:pt x="1413" y="483"/>
                      <a:pt x="1469" y="518"/>
                      <a:pt x="1523" y="556"/>
                    </a:cubicBezTo>
                    <a:cubicBezTo>
                      <a:pt x="1533" y="563"/>
                      <a:pt x="1545" y="568"/>
                      <a:pt x="1555" y="576"/>
                    </a:cubicBezTo>
                    <a:cubicBezTo>
                      <a:pt x="1569" y="587"/>
                      <a:pt x="1593" y="614"/>
                      <a:pt x="1593" y="614"/>
                    </a:cubicBezTo>
                    <a:cubicBezTo>
                      <a:pt x="1626" y="704"/>
                      <a:pt x="1694" y="751"/>
                      <a:pt x="1773" y="800"/>
                    </a:cubicBezTo>
                    <a:cubicBezTo>
                      <a:pt x="1797" y="815"/>
                      <a:pt x="1822" y="830"/>
                      <a:pt x="1849" y="838"/>
                    </a:cubicBezTo>
                    <a:cubicBezTo>
                      <a:pt x="1862" y="842"/>
                      <a:pt x="1888" y="851"/>
                      <a:pt x="1888" y="851"/>
                    </a:cubicBezTo>
                  </a:path>
                </a:pathLst>
              </a:custGeom>
              <a:noFill/>
              <a:ln w="57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6391440" y="1847880"/>
              <a:ext cx="1241280" cy="520560"/>
              <a:chOff x="6391440" y="1847880"/>
              <a:chExt cx="1241280" cy="520560"/>
            </a:xfrm>
          </p:grpSpPr>
          <p:sp>
            <p:nvSpPr>
              <p:cNvPr id="338" name=""/>
              <p:cNvSpPr/>
              <p:nvPr/>
            </p:nvSpPr>
            <p:spPr>
              <a:xfrm>
                <a:off x="6708240" y="1847880"/>
                <a:ext cx="924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b2b2b2"/>
                    </a:solidFill>
                    <a:latin typeface="SigLisa"/>
                  </a:rPr>
                  <a:t>Bad!</a:t>
                </a:r>
                <a:endParaRPr b="0" lang="en-US" sz="2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6391440" y="2041560"/>
                <a:ext cx="272880" cy="8244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7. Navegación Inadecuada (no hay diseño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l usuario no conoce su Sit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iene dificultad para encontrar inform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hay un camino claro para obtener la información (algún tipo de estructura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unicar la estructura del Sit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veer un mapa del site (subliminal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l usuario sabrá dónde está y a dónde quiere i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veer alguna herramienta de búsqued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l mejor soporte para la navegación, nunca será suficien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Qué Podría Ser Peor Que Esto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2438280" y="1828800"/>
            <a:ext cx="4945320" cy="48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6. Páginas Demasiado Grandes (larga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ólo el 10% de los usuarios usan la barra de scroll para revisar las partes no visibles en la presentación inicial de la págin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as cosas importantes y la estructura de navegación de la página debería estar siempre en la parte más alt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os nodos “hoja” pueden ser un poco más larg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personas interesadas en ellos, los leerá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ero, no abuse con es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Qué Podría Estar Mal Aquí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1071720" y="2314440"/>
            <a:ext cx="741996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plicaciones a partir de la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301480" y="1587240"/>
            <a:ext cx="4886280" cy="46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duca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ercio Electrónic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gurida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estión Empresari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obiern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unica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ntretenimient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tc....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. Páginas Huérfan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n todas las páginas debería indicarse el Web Site al que percenece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usuarios podrían accederlas a través de un link extern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ada página debería te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n link al home pag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lguna indicación del lugar que ocupa, dentro de la estructura del si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4. URLs Complej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debe incluir direcciones (IP) de máquin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usuarios tratan de decodificar el URL de la págin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ra inferir la estructura del Web Si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 pierde el soporte para la navegación y el sentido de la ubicación dentro del sit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URLs deberían ser legibles para las person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os nombres usados en cada URL deberían ser representariv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 deben incluir caracteres especiales, ni combinaciones Mayúscula/Minúcul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3. Animaciones Permanent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 use movimiento permanente en las animacione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captura de movimiento tiene un poder especial dentro del sistema de percepción humano, úselo adecuadame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l usuario necesita tranquilidad para asimilar la información que ud. pretende entregar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l &lt;BLINK&gt; es simplemente MAL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2. Mecanismos de Atracción de Usuarios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61840" y="1676520"/>
            <a:ext cx="8282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 mienta respecto a lo que ofrece y/o regal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 intente atraer a la muchedumbre, el costo asociado es muy alto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 su sistema se cae mientras consultan, los usuarios nunca regresará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ar Advertencias, en caso de ser necesari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or ej.: el software es de prueba, y vencerá su licencia de uso en 30 dí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1. Uso de Inapropiado de Fram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ueden confundir a los usuari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ompe el modelo de página Web que tiene el usuari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acciones del usuario pierden predictibilid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¿quién sabe qué información aparecerá dónde, cu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ndo usted hace un click en un link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?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frames deben ser a lo más tr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ben usarse para reflejar la estructur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 estructura dada, debe respetarse en todas las páginas, en forma consisten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Uso inapropiado de Frames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15960" y="1752120"/>
            <a:ext cx="8223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motores de búsqueda tienen problemas con la información en los fram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lgunos estudios encontraron que la mayoría de los usuarios prefieren los sites sin fram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Advertencia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: diseñadores muy experimentados pueden (algunas veces) usar frames para mejorar el impacto de una página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Pero debe usarlos tan económicamente como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a 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posibl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52280" y="2916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532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747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unque hemos avanzado mucho, la construcción de sistemas para Internet aún está verde..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Fundamentalmente en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Metodologías de apoyo al desarroll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Herramientas de Construcción (especialmente diseño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Madurez de las tecnologías involucradas (representación de datos, seguridad, privacidad, etc.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747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iseñar para la web no es fácil, pero hay que abordar este desafío lo antes posible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 con respecto a esto, no hay alternativas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Internet tal como la conocemos ahora, no durará mucho. Sin e</a:t>
            </a: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mbrago, es de esperar que los conceptos se mantengan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ferenci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ielsen’s top 10 lis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http://www.useit.com/alertbox/9605.htm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eb pages that suck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http://www.webpagesthatsuck.com</a:t>
            </a: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/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t tips for design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http://</a:t>
            </a: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8"/>
              </a:rPr>
              <a:t>www.dsiegel.com</a:t>
            </a: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9"/>
              </a:rPr>
              <a:t>/tips/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er Interface Engineer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</a:rPr>
              <a:t>http:///</a:t>
            </a: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</a:rPr>
              <a:t>www.uie.co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2120" y="317160"/>
            <a:ext cx="797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ducación en la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4640" y="1638000"/>
            <a:ext cx="798516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an aparecido muchas herramientas para impartir conocimientos a través de la Web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893960" y="2644920"/>
          <a:ext cx="5253120" cy="37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3960" y="2644920"/>
                    <a:ext cx="5253120" cy="37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523800" y="5908680"/>
            <a:ext cx="5384880" cy="707760"/>
          </a:xfrm>
          <a:prstGeom prst="rect">
            <a:avLst/>
          </a:prstGeom>
          <a:solidFill>
            <a:srgbClr val="fcfdc6"/>
          </a:solidFill>
          <a:ln w="1260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tado del arte en el mercado de Educación a Distanci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97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ercio Electrón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677960" y="1646280"/>
          <a:ext cx="6031080" cy="489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7960" y="1646280"/>
                    <a:ext cx="6031080" cy="48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955800" y="5527800"/>
            <a:ext cx="7912080" cy="1078200"/>
          </a:xfrm>
          <a:prstGeom prst="rect">
            <a:avLst/>
          </a:prstGeom>
          <a:solidFill>
            <a:srgbClr val="fcfdc6"/>
          </a:solidFill>
          <a:ln w="1260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24 hs y 365 días al año vendiendo sin empleados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 millones de potenciales clientes.                - Se requiere muy poca infraestructura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86960" y="253800"/>
            <a:ext cx="797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gur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170000" y="1692360"/>
          <a:ext cx="7211880" cy="466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0000" y="1692360"/>
                    <a:ext cx="7211880" cy="46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536400" y="5667480"/>
            <a:ext cx="8344080" cy="1078200"/>
          </a:xfrm>
          <a:prstGeom prst="rect">
            <a:avLst/>
          </a:prstGeom>
          <a:solidFill>
            <a:srgbClr val="fcfdc6"/>
          </a:solidFill>
          <a:ln w="1260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olicía, Aduana, Ejército, Agencias de Investigaciones, etc.  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omunicación barata, fácil y rápida.      - Capacidades de audio, video, imágenes y texto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86960" y="240840"/>
            <a:ext cx="797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estión Empresarial (Intranet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777960" y="1704960"/>
          <a:ext cx="7618320" cy="470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960" y="1704960"/>
                    <a:ext cx="7618320" cy="47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15840" y="6145200"/>
            <a:ext cx="9128160" cy="1078200"/>
          </a:xfrm>
          <a:prstGeom prst="rect">
            <a:avLst/>
          </a:prstGeom>
          <a:solidFill>
            <a:srgbClr val="fcfdc6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Independencia del puesto de trabajo, S.O., Aplicación Cliente  - Mejores canales de comunica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Circulación de documentos electrónicos en vez de papel          - Aumento de la eficiencia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5T16:18:49Z</dcterms:created>
  <dc:creator>sochoa</dc:creator>
  <dc:description/>
  <dc:language>en-US</dc:language>
  <cp:lastModifiedBy>Sergio F. Ochoa</cp:lastModifiedBy>
  <cp:lastPrinted>2000-04-26T16:56:46Z</cp:lastPrinted>
  <dcterms:modified xsi:type="dcterms:W3CDTF">2005-05-12T15:31:58Z</dcterms:modified>
  <cp:revision>67</cp:revision>
  <dc:subject/>
  <dc:title>Diseñando para la Web (#1)</dc:title>
</cp:coreProperties>
</file>