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5CDEB-8CED-4D57-98D8-FC28CAF9C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00D9A-F480-48B5-BB70-FF89BAA10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E55A1-D8CF-4368-8A70-815A80238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15802-F4BE-4295-8DA9-8BCEE167B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48935-1255-48AA-B332-5C5185383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DBDD0-43F4-4EA1-8268-6BF7F9242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A0CE0-452B-4659-9B46-C6FD440F3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71822-A080-4AF4-947B-0CB4AB530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C124-E781-4F13-8289-993DC6E01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30BDD-48D3-45C1-8317-60BD274A5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01C6C-2373-4522-94D0-0B0F1240B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1C10-60B5-4826-B1E3-FDF7B3CC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1FE14-8E83-49FF-88A3-3A80DD2E5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9563B-1C11-47B5-936D-98054ECEA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71EAC-A259-4228-9C73-6989AC23B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0EEED-0914-459B-A4F4-37BA4D7B1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24A0D-7DAA-4A0B-91FD-0DF3CA04F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9B6B-ADD2-41EE-B811-84389456B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BA5D-B7A9-4448-A18C-C30A7A7B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40215-B06E-4DE6-8EFA-61CC9A2C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082F8-E975-47E8-82FA-451C92CB3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8B9A9-1886-4148-BCEB-4C3E93B8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2404-ED89-4894-8786-55CBE523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DAC4-FFFB-4451-8662-991B6BBE7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105A-9CA8-4DDA-8433-EBB5184F81B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59C8-7C47-4396-A754-9ACD930FC9AD}"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15D60533-A1C3-443E-BEEE-CAA8D1A09A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956B898-AAFC-4E0C-8864-4988CF2729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18BA6DC7-4E37-4A14-867B-1F2D6D3EF7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3463C1E-92AB-4DEE-A779-9B644FC668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4408DA5A-735D-41AE-A9C5-70CBF3EFA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2F67AF7B-EE14-4591-8223-9FBF52E326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84E7E76-4E57-424D-92CE-3FA14C28F1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ED43D57-3535-42BC-953B-DE81154706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F2675C9-3975-4C55-96B7-CC41F8898F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0CE3D5B-FDC8-4315-9B01-87490BB93E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3AA628D-4297-4997-A70C-A33C3D08A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B5795F6-BFD0-4383-BD26-DD1A4F7EF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6F05FF29-D43F-4E4E-BB34-F3A97103AD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5F1B4EA-37D5-41D9-A245-73E0C946F5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2C4FA32-E8F1-4925-97DC-AFC3BCBF40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2FACEFE-E99E-4B75-9EC1-CD8C39210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EB55150-C1AD-46D4-A038-52E2103B5B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215870E2-EC0A-45EE-9BC5-1179866048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5C673D7-5341-4EBA-991F-D908B79B2A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F24BDF9-3F87-4876-A553-AAC4F5DD46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2CF5C43-243D-4170-9612-8E07AFD123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CBF98AC-CF3B-4D3A-9947-B74E658564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55DB20BF-4EBD-47CB-8216-8423C3E14A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FB82713-C87B-4969-AE5B-1AA7F98433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7636E68-5084-4E55-A229-E04FE2008B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9922A22D-5E3A-4D73-B473-367CEFFE570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C3AC63D-6790-43B8-933F-20BEFE6208F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A77D588-DEDC-4080-8A6B-1D92AC51645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D591756-956E-4190-BEB7-6D3CF6DDF58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14700A9C-347E-4696-A8AC-9C6E120D6B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7E6360F-273E-4B7E-B68E-32745834475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bjetivo:</a:t>
            </a:r>
            <a:r>
              <a:rPr b="0" lang="en-US"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ígenes:</a:t>
            </a:r>
            <a:r>
              <a:rPr b="0" lang="en-US"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C462F10-173C-4E90-8A74-D7C1A83FA17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9924ADF6-AB47-4C44-A1B6-DDB4B249E7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BA01AFDF-48AC-4138-8D76-248562A3CB9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991AD117-5C4E-4907-AA12-5A241C6EBA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D4ED8524-66A9-441C-9647-8F0DFA4F069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68BBCB0-2904-4835-BEB8-51A2E9C9B8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9B93140-55A7-402E-8B89-0CE8489157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F62A291C-2314-4186-9106-891DC4715D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70D57F8-8C66-4AFA-AB47-F767BFD583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BB2FA65-CD3B-458E-98FB-3A19886106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C67336B2-DA71-4066-834C-A519EB0F0E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F4D1C06-0844-4A09-A63F-F0A85B030B5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C903D66C-A59A-47C5-B044-D65599258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0005325-1953-4705-8CBC-FEE5A1432D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3E8C8971-495A-4548-87DA-1AA60DBC3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5B0E23B-A45F-46AD-BB79-8D2AD470D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30F89575-55A9-441F-BFCE-A9B550387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6-09T17:19:55Z</dcterms:modified>
  <cp:revision>534</cp:revision>
  <dc:subject/>
  <dc:title>Ingeniería de Software</dc:title>
</cp:coreProperties>
</file>