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ABC-EC0E-45D3-8772-B54CC51A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55A-7DE5-4435-8303-69DE81D1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3CD-2B7B-465D-8F62-1ECF5F3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2F0-4318-45EE-B815-0EEA2E8D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C63-469F-4698-9B12-141AF5F1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0380-7452-4334-A23B-8CB8E7C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8151-8221-4F78-98C7-1FA95B2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AB5-CD9B-4EFC-80EF-74CABED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19D7-929B-4374-B781-974EE68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CC5-0B53-46ED-88A8-D352243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8495-A7A6-40C3-ACB9-D7EEB41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236-802B-4D0E-8ABB-1AFDC91E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B6D3-261A-4588-800B-3797B3C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85D0-884E-49CC-826B-8A7E1AE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1C31-0CC8-40AC-AC93-F29AC21D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F723-4B56-4F70-B846-11E57BF1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3F70-D2C4-44BC-AF8A-C0BEBEF6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2AE-46FE-4F5F-910C-9A52AF5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59B-39D3-4218-ADC1-2BC4AE6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810-AA70-41C2-845F-27B8FC9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B46-2868-4AD6-8E58-0873768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A08-F75C-45E5-B874-C130EFC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8F6-70B2-47C3-864B-0D3F6986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4E3-F34E-42E3-B1C0-7925B23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48F-A1C0-4B16-BFA4-0CDEB3DACE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9C5-4775-4967-A788-3465B993E9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10 MLOC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15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Software Technical Review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5-10-06T12:32:22Z</dcterms:modified>
  <cp:revision>40</cp:revision>
  <dc:subject/>
  <dc:title>CC51A – Ingeniería de Software</dc:title>
</cp:coreProperties>
</file>