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EDCE-E21D-4769-AA81-7203C30A1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F73A-C6DE-4CE3-80F2-C557C10ED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423E-2730-410A-9F4B-496D8B2A1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20DD-9836-42F8-BA7E-636E8EF99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CE860-6A88-4E43-AFEC-1451C75F7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20932-25A3-4628-A9F9-92BDE209D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B988F-7F3B-404F-833B-1CB7A41A1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D7C95-016C-422B-B645-C662713F6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33542-8233-43C6-97D3-A4FC65370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5DE8E-8F79-42F3-A015-E993DC0F4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D42AB-10BC-4312-8129-B5406C90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BAFE-C3A3-4BAD-86DE-B4A703F8F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0559D-395E-48FF-81A3-06C91FD0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5C05E-F7B2-444A-864D-5848B4A5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AB9CA-4376-448E-88FB-D4C6CC70A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4B351-E589-4D29-A9AA-5832603C3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5FB10-1FBC-43D4-B642-0C3F0B862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D32F-965A-4B1B-A403-EDDB5B8B1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2C65-21FA-405D-83EC-6E44C8BD3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046D-295C-41DF-A693-5CC0B39AD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3498-FEA8-42C8-B5CA-B1F017BA3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AD76-0109-4FE6-B688-D5211A8C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FFF9-3069-4229-AE70-B407E713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DE26-FB05-4FAF-840B-F6EA6F3A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EC849-06BC-4FC5-A689-783C7D4FDD3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F07C0-422C-4555-8A55-78A909693FC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458c"/>
                </a:solidFill>
                <a:latin typeface="Tahoma"/>
              </a:rPr>
              <a:t>SQA (Software Quality Assurance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638600"/>
            <a:ext cx="853452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0458c"/>
                </a:solidFill>
                <a:latin typeface="Tahoma"/>
              </a:rPr>
              <a:t>Parte de este material ha sido cedido por el Prof. Jaime Navón, PhD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0458c"/>
                </a:solidFill>
                <a:latin typeface="Tahoma"/>
              </a:rPr>
              <a:t>(www.ing.puc.cl/~jnavon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visiones Técnicas Form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SzPct val="16458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Arial"/>
              </a:rPr>
              <a:t>Participan entre 3 y 5 personas, y requiere reparación previa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6458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Arial"/>
              </a:rPr>
              <a:t>Foco en un segmento específico pequeño (1 módulo o documento)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6458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Arial"/>
              </a:rPr>
              <a:t>Participan los revisores (uno actúa de jefe) y el autor, y el moderador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58c"/>
                </a:solidFill>
                <a:latin typeface="Arial"/>
              </a:rPr>
              <a:t>Precondiciones: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Arial"/>
              </a:rPr>
              <a:t>Especificación precisa (formal o informal) sobre que es lo que ese código se supone que debe hacer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Arial"/>
              </a:rPr>
              <a:t>Miembros del grupo deben conocer estándares de codificación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Arial"/>
              </a:rPr>
              <a:t>No debe usarse para evaluación del personal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Arial"/>
              </a:rPr>
              <a:t>Dispuesto a aceptar costos extra (ahorro es en largo plazo)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lgunas Directrices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Revisar el producto y no al product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Indicar los errores con tin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Hablar en tono constructiv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La idea no es avergonzar al producto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Mantenerse estrictamente dentro de la agend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No irse por las ram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El moderador es el responsabl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Limitar el debate. Algunos asuntos pueden dejarse para discusión posterio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Enunciar problemas pero no resolverl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El problema debería ser resuelto por el auto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No es una sesión de resolución de problem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lgunas Directrices...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059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Tomar notas y/o grabar la revis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imitar número de participantes e insistir en 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la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preparación previ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Arial"/>
              </a:rPr>
              <a:t>Dos cabezas piensan más que una, pero 14 no necesariamente más que 4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Arial"/>
              </a:rPr>
              <a:t>El moderador puede solicitar comentarios por escrito antes de la reunión para asegurar que la preparación de los miembros es la adecuada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Desarrollar previamente “checklists” por cada producto a revisar (para mantener el foco de la revisión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Asignar recursos y tiempos para estas reunion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Arial"/>
              </a:rPr>
              <a:t>No olvidar que es parte del proceso!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Arial"/>
              </a:rPr>
              <a:t>Proporcionar entrenamiento para los revisores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Arial"/>
              </a:rPr>
              <a:t>Es posible incluso revisar (auditar) las revisiones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lgunas Directrices...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059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 gente de SQA (en nuestro caso, “el tester”) debe registrar por escrito todos los errores/falencias encontrad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 gente de SQA (en nuestro caso, “el tester”) debe hacer un seguimiento de ellas y reportar su estado al administrador de proyec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nspeccionar los productos usando como base los requisitos definidos siempre es una buena ide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Para ellos se debe conocer cuáles son los requisitos involucrados en el producto que se está revisand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entajas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considera más efectivo que las pruebas para encontrar bugs (encuentra la causa del error en lugar del síntoma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os programadores escriben sus programas sabiendo que otros los revisarán =&gt; fácil de entender, leer, y mantene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os programadores aprenden de las revisiones, cómo hacer los programas más fáciles de entende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anula el efecto de “puntos ciegos” (programador es incapaz de ver ciertos errore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s posible imponer estándares de codificación con facilidad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xplicar el código hace que el programador lo entienda cada vez mejor (los profesores saben esto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Reduce dramáticamente tiempo de prueb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sventajas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Problemas de personalida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Puede haber personas con buenas ideas no se expresa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Puede haber personas con malas ideas se expresan much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Algunas personas odian discutir o estar en desacuer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Es fácil perderse en cosas triviales (punto, coma, etc.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Es agotador (pierde efectividad después de un par de horas o menos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unciona en la Práctic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Bell Northern Research (subsidiaria de Northern Telecom, Compañía de Telecomunicaciones de Canadá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10 MLOC software que controla un switch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inspeccionaron 2.5 MLOC a lo largo de 2 añ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encontraron alrededor de 0.8 a 1.0 errores por hora-hombr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encontraron alrededor de 37 errores por cada 1000 LOC (estudios dan 50 a 75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2.5 MLOC =&gt; 2500 x 37 = 92500 error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considera que un error detectado en etapa de testing puede tomar hasta 33 horas-hombre para diagnosticar y repara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Ahorro de tiempo es enorme !!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unciona en la Práctic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Bell Northern Research (subsidiaria de Northern Telecom, Compañía de Telecomunicaciones de Canadá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En la actualidad se está intentado incorporar la Web para hacer las revisione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publica el códig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os revisores pueden estar distribuidos geográficamen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pueden realizar revisiones asíncronas o síncronas dependiendo de las herramientas disponibl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trol Estadístico de la Cal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81547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dea básica es gastar el tiempo en las cosas que son realmente importantes.  Debemos asegurarnos de determinar, qué es lo realmente importante?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l número de causas de la gran mayoría de los errores es relativamente limita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 información sobre defectos es recogida y categorizad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intenta asociar cada defecto a la causa de origen (especificación, diseño, violación de estándar, etc.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Basándose en el principio de Pareto (20% de las causas producen el 80% de los errores) se aísla el 20% vit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Una vez que las principales causas se identifican, se corrigen los problemas que causaron los defec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jemplos de Categorí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ES: especificación errónea o incomple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MCC: mal interpretación de comunicación con clien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DS: desviación intencional de la especific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VPS: violación de estándar de program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DR: error de representación de dat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MI: interfaz de módulo inconsisten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DL: error en diseño lógic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ET: testeo erróneo o incomple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ID: documentación errónea o incomple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PLT: error en lenguaj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HCI: interfaz ambigua o incomple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MIS: miscelane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Introducción a SQ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El SQA Grou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Revisiones Técnicas Forma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Algunas Directrices ..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Ventajas y Desventajas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Datos de la Realidad ..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atos Reales .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8076960" cy="42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atos Reales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En este ejemplo, IES + MCC + EDR producen más de la mitad de los errores (53%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Si consideramos sólo los errores serios, debería mirarse con atención IES, EDR, EDL, PLT [70%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Las acciones a tomar dependen del tipo de err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Comprar herramientas case orientadas al anális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Mejorar la calidad de las revision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Contratar expertos en modelación de dat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Identificación de Riesg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353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Riesgo es una situación que en caso de darse, se transforma en un problema para el proyecto… Por lo tanto, es necesario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Identificar posibles riesg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Causas y nivel de manejo de los riesg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Probabilidad de ocurrenci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Costo del riesgo (impacto), si es que se convierte en realidad (por lo tanto pasa a ser un problema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Medidas de precau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47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Identificación de Riesg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532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Cada medida de precaución debe incluir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Cos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Impacto sobre el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Tomar decisión respecto de cada riesgo desde el punto de vista del negoci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No todos los riesgos necesitan ser administrado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Ejemplos de Riesg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2803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Requisitos cambiant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Problema pobremente definid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Rotación de person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Cambios extern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Fallas en la plataforma de desarroll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Desconocimiento de la tecnología a utiliza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Desconocimiento del proceso de desarrollo a utiliza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Pérdidas de informa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Atraso en la ejecución del proyec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Alta dependencia de algún personaj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ómo Documentar los Riesgos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268200" y="2517840"/>
            <a:ext cx="862488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49"/>
              </a:spcBef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Las actividades de SQA son necesaria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La mayoría de los equipos de trabajo no las incorporan debido al aumento de los costos y tiempos de desarroll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SzPct val="13927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.... al final terminan gastando más y tardando más por no haber incorporado actividades de SQA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SzPct val="13927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En el futuro inmediato, debido a la globalización, las empresas que no consideren al SQA como “necesario”, perecerán en manos de aquellos que sí lo hagan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SzPct val="13927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El costo del software ha bajado tanto que ahora los clientes buscan calidad. 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2880" indent="-542880">
              <a:lnSpc>
                <a:spcPct val="100000"/>
              </a:lnSpc>
              <a:spcBef>
                <a:spcPts val="649"/>
              </a:spcBef>
              <a:spcAft>
                <a:spcPts val="1301"/>
              </a:spcAft>
              <a:buSzPct val="1131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No pierda de vista los requisito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542880" indent="-542880">
              <a:lnSpc>
                <a:spcPct val="100000"/>
              </a:lnSpc>
              <a:spcBef>
                <a:spcPts val="649"/>
              </a:spcBef>
              <a:spcAft>
                <a:spcPts val="1301"/>
              </a:spcAft>
              <a:buSzPct val="1131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Todos los productos intermedios de un desarrollo de software ESTAN relacionados, y existe entre ellos una correlación que DEBE verificar la gente de SQA (en nuestro caso, “el tester”)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542880" indent="-542880">
              <a:lnSpc>
                <a:spcPct val="100000"/>
              </a:lnSpc>
              <a:spcBef>
                <a:spcPts val="649"/>
              </a:spcBef>
              <a:spcAft>
                <a:spcPts val="1301"/>
              </a:spcAft>
              <a:buSzPct val="1131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La gente de SQA debe ser proactiva, pero cuidadosa en el trato personal con el resto del equipo de trabaj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542880" indent="-542880">
              <a:lnSpc>
                <a:spcPct val="100000"/>
              </a:lnSpc>
              <a:spcBef>
                <a:spcPts val="649"/>
              </a:spcBef>
              <a:spcAft>
                <a:spcPts val="1301"/>
              </a:spcAft>
              <a:buSzPct val="1131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La gente de SQA son los mejores aliados que un Administrador de proyectos puede tener….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l Grupo SQ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Sirve como el representante del cliente (mira el producto desde el punto de vista del cliente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Asiste al grupo de desarrollo para lograr un producto final de “buena calidad” (que cumple con una lista de requisitos más exigente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Trata de responder preguntas del tipo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Se satisfacen los criterios de calidad especificados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Se ha desarrollado en base a los estándares establecidos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Coordina el manejo de los cambios (control de configuración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Identifica riesgos en forma tempran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Se preocupa de la estandarización de procesos y produc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QA (Aseguramiento de la Calidad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Calidad de Software: 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Cumplimiento de los requisitos explícitos: funcionales, de calidad y de restric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Observacione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Los requisitos son la base sobre la cual se juzga la calidad de un produ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Si no se siguen los criterios de desarrollo definidos por los estándares usados, muy probablemente no se conseguirán buenos produc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Hay además requisitos implícitos que a menudo no se mencionan (por ejemplo, fácil de mantener) que también es deseable respeta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Actividades del SQA Grou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10920" y="1523880"/>
            <a:ext cx="8227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Preparar el plan de SQA (evaluaciones, auditorías, estándares, procedimientos de reporte de errores, templates de documentos, casos de prueba, estandarización de procedimientos, etc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96680" indent="-273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l plan se prepara durante la etapa de planeación del proye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96680" indent="-273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l plan es revisado por todas las partes interesad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96680" indent="-273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l plan es la base de todas las actividades de SQ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96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Participar en el diseño del desarrollo del proceso específico a ser usado en el proyecto (puede chequear cumplimiento de estándares externos como ISO 9001, etc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96680" indent="-273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Revisar que las actividades se lleven a cabo de acuerdo al proceso descrito (identifica, documenta y monitorea las desviacione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Actividades del SQA Grou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Participar en el diseño del desarrollo del proceso específico a ser usado en el proyecto (puede chequear cumplimiento de estándares externos como ISO 9001, etc.)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Auditar ciertos productos del proces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Asegurar que las desviaciones en los productos sean manejadas y documentadas de acuerdo a un procedimien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Registrar cualquier ítem insatisfactorio y reportar a la administración superio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 gente de SQA (en nuestro caso, “el tester”) son los mejores aliados del Adm. de Proyec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Actividades del SQA Grou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Definición de los casos de prueba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n base a los requisitos de usuario, el SQA group debe generar los casos de prueba, para las pruebas a nivel de usuario (pruebas de usuario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n base a los requisitos de software, el SQA group debe generar el resto de los casos de prueba: prueba de módulos, de integración y de sistema (al meno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Ejecución de los casos de prueba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Durante el período de pruebas, el SQA Group debe coordinar las pruebas y revisar el cumplimiento de los requisitos definid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Reportar anomalías detectadas durante las prueb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visiones Técnicas Form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Las revisiones constituyen una de las actividad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mas importantes de SQ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pósito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Descubrir errores (función, lógica o implementación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Verificar que el software satisface los requisi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Asegurar que se cumplen los estándares predefinid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Lograr software desarrollado en forma uniform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Hacer más manejable los proyec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Se eliminan errores en forma relativamente temprana (barato y fácil de corregir)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visiones Técnicas Form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98984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Puede hacerse co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Documentos de diseñ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Código fuente (listo para ser compilado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Planificacio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Cada revisión se conduce en forma de una reunión cuidadosamente planeada y controlad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Hay muchos tipos de revisiones... Algunos de ellos los vimos en la clase de “Software Technical Reviews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2T15:05:57Z</dcterms:created>
  <dc:creator>Mercedario</dc:creator>
  <dc:description/>
  <dc:language>en-US</dc:language>
  <cp:lastModifiedBy>Sergio F. Ochoa</cp:lastModifiedBy>
  <dcterms:modified xsi:type="dcterms:W3CDTF">2005-10-06T12:32:22Z</dcterms:modified>
  <cp:revision>40</cp:revision>
  <dc:subject/>
  <dc:title>CC51A – Ingeniería de Software</dc:title>
</cp:coreProperties>
</file>