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FC90-3507-4DCA-950F-DF69ECC7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AE3C-2C13-47EC-883B-32093B1F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EE78-809D-455E-8409-BEE15739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0AC-CDCF-42E2-9E97-0665D85A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2818-4BBD-4289-A60D-DE22C0CC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F580-914B-42FA-A9F0-1B912CA6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B525-CC8D-4961-AAE9-F6C394EC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5963-84E8-4DBD-85E8-393F0ABA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BCDA-3167-4C3D-8130-64A7AE06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4F75-F0E0-496C-B146-6F37FB4F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02D6-74A3-4D18-85CA-739A5205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495D-47F7-40DE-BF5F-AEB2D811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5995-915A-4CD9-8733-D3535F2B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F60B-B184-4D53-9E22-E45E73E4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0277-CE06-4900-B0AD-B1B05FE9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2838-CD4D-43A8-88FD-9D47DBDB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6D7F-6FDA-492E-95A0-0B20FFB9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970-0C2C-49C7-B278-0DC2BBF9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F112-0E94-4498-AF79-A1CD8AF6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F77-D2A8-4ED8-8583-2C272F80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7E6-1C1D-4460-A9A2-4A47A5EC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378-126D-4796-AFE3-78E133CC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7BC6-35DA-40B9-B116-F196A325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81EB-6C1A-4EBD-B233-DF1DE261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A93E-D7BE-4DDE-A019-FC3EBEF3BBC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A583-60C2-4092-84CC-9923DFAD66F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QA (Software Quality Assuranc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638600"/>
            <a:ext cx="8534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, PhD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(www.ing.puc.cl/~jnavo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Participan entre 3 y 5 personas, y requiere reparación previ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Foco en un segmento específico pequeño (1 módulo o document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Participan los revisores (uno actúa de jefe) y el autor, y el moderad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Arial"/>
              </a:rPr>
              <a:t>Precondiciones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Especificación precisa (formal o informal) sobre que es lo que ese código se supone que debe hace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Miembros del grupo deben conocer estándares de codific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No debe usarse para evaluación del personal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Dispuesto a aceptar costos extra (ahorro es en largo plaz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as Directric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evisar el producto y no al produc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dicar los errores con tin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blar en tono constructiv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a idea no es avergonzar al produc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Mantenerse estrictamente dentro de la agen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o irse por las ra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l moderador es el respons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imitar el debate. Algunos asuntos pueden dejarse para discusión post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unciar problemas pero no resolverl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l problema debería ser resuelto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o es una sesión de resolución de proble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as Directrices...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omar notas y/o grabar la revis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imitar número de participantes e insistir en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paración prev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Dos cabezas piensan más que una, pero 14 no necesariamente más que 4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l moderador puede solicitar comentarios por escrito antes de la reunión para asegurar que la preparación de los miembros es la adecuad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r previamente “checklists” por cada producto a revisar (para mantener el foco de la revis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ignar recursos y tiempos para estas reun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No olvidar que es parte del proceso!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Proporcionar entrenamiento para los revisor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s posible incluso revisar (auditar) las revision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as Directrices...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debe registrar por escrito todos los errores/falencias encontr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debe hacer un seguimiento de ellas y reportar su estado al administrador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speccionar los productos usando como base los requisitos definidos siempre es una buena ide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a ellos se debe conocer cuáles son los requisitos involucrados en el producto que se está revisand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idera más efectivo que las pruebas para encontrar bugs (encuentra la causa del error en lugar del síntom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programadores escriben sus programas sabiendo que otros los revisarán =&gt; fácil de entender, leer, y manten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programadores aprenden de las revisiones, cómo hacer los programas más fáciles de enten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anula el efecto de “puntos ciegos” (programador es incapaz de ver ciertos errore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s posible imponer estándares de codificación con fac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xplicar el código hace que el programador lo entienda cada vez mejor (los profesores saben est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duce dramáticamente tiempo de prueb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sventaj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roblemas de person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uede haber personas con buenas ideas no se expresa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uede haber personas con malas ideas se expresan mu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lgunas personas odian discutir o estar en desacuer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fácil perderse en cosas triviales (punto, coma, 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s agotador (pierde efectividad después de un par de horas o men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 en la Prác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Bell Northern Research (subsidiaria de Northern Telecom, Compañía de Telecomunicaciones de Canadá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10 MLOC software que controla un swit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inspeccionaron 2.5 MLOC a lo largo de 2 añ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ncontraron alrededor de 0.8 a 1.0 errores por hora-homb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ncontraron alrededor de 37 errores por cada 1000 LOC (estudios dan 50 a 75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2.5 MLOC =&gt; 2500 x 37 = 92500 error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idera que un error detectado en etapa de testing puede tomar hasta 33 horas-hombre para diagnosticar y repar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horro de tiempo es enorme !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 en la Prác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Bell Northern Research (subsidiaria de Northern Telecom, Compañía de Telecomunicaciones de Canadá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n la actualidad se está intentado incorporar la Web para hacer las revision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ublica 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revisores pueden estar distribuidos geográficam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ueden realizar revisiones asíncronas o síncronas dependiendo de las herramientas disponi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trol Estadístico de la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15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a básica es gastar el tiempo en las cosas que son realmente importantes.  Debemos asegurarnos de determinar, qué es lo realmente importante?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número de causas de la gran mayoría de los errores es relativamente limit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nformación sobre defectos es recogida y categoriz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intenta asociar cada defecto a la causa de origen (especificación, diseño, violación de estándar, 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Basándose en el principio de Pareto (20% de las causas producen el 80% de los errores) se aísla el 20% vit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na vez que las principales causas se identifican, se corrigen los problemas que causaron los def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jemplos de Categ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ES: especificación erróne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CC: mal interpretación de comunicación con cli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S: desviación intencional de la especific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VPS: violación de estándar de progra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DR: error de representación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I: interfaz de módulo inconsist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DL: error en diseño lógic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ET: testeo erróneo o incompl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ID: documentación erróne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LT: error en lengua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CI: interfaz ambigu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IS: miscelane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ción a SQ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SQA Gro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visiones Técnicas Form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lgunas Directrices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Ventajas y Desventaja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atos de la Realidad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atos Reales 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807696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atos Real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 este ejemplo, IES + MCC + EDR producen más de la mitad de los errores (53%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consideramos sólo los errores serios, debería mirarse con atención IES, EDR, EDL, PLT [70%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s acciones a tomar dependen del tipo de err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mprar herramientas case orientadas al análi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Mejorar la calidad de las revis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ntratar expertos en modelación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Identificación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353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iesgo es una situación que en caso de darse, se transforma en un problema para el proyecto… Por lo tanto, es necesari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r posibles riesg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usas y nivel de manejo de los riesg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robabilidad de ocurrenci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sto del riesgo (impacto), si es que se convierte en realidad (por lo tanto pasa a ser un problem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Medidas de preca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7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Identificación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ada medida de precaución debe inclui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Impacto sobre 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omar decisión respecto de cada riesgo desde el punto de vista del negoc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No todos los riesgos necesitan ser administrad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equisitos cambia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roblema pobremente defini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otación de perso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mbios extern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Fallas en la plataforma de desarroll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esconocimiento de la tecnología a utiliz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esconocimiento del proceso de desarrollo a utiliz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érdidas d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traso en la ejecución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lta dependencia de algún persona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ómo Documentar los Riesgo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68200" y="2517840"/>
            <a:ext cx="8624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s actividades de SQA son necesari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mayoría de los equipos de trabajo no las incorporan debido al aumento de los costos y tiempos de desarroll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.... al final terminan gastando más y tardando más por no haber incorporado actividades de SQ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n el futuro inmediato, debido a la globalización, las empresas que no consideren al SQA como “necesario”, perecerán en manos de aquellos que sí lo hagan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costo del software ha bajado tanto que ahora los clientes buscan calidad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100000"/>
              </a:lnSpc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No pierda de vista los requisi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100000"/>
              </a:lnSpc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os los productos intermedios de un desarrollo de software ESTAN relacionados, y existe entre ellos una correlación que DEBE verificar la gente de SQA (en nuestro caso, “el tester”)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100000"/>
              </a:lnSpc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gente de SQA debe ser proactiva, pero cuidadosa en el trato personal con el resto del equipo de trabaj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100000"/>
              </a:lnSpc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gente de SQA son los mejores aliados que un Administrador de proyectos puede tener…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Grupo SQ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rve como el representante del cliente (mira el producto desde el punto de vista del cli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siste al grupo de desarrollo para lograr un producto final de “buena calidad” (que cumple con una lista de requisitos más exig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rata de responder preguntas del tip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 satisfacen los criterios de calidad especificad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 ha desarrollado en base a los estándares establecid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ordina el manejo de los cambios (control de configura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dentifica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e preocupa de la estandarización de procesos y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QA (Aseguramiento de la Calid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lidad de Software: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umplimiento de los requisitos explícitos: funcionales, de calidad y de restri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bservacion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os requisitos son la base sobre la cual se juzga la calidad de un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 no se siguen los criterios de desarrollo definidos por los estándares usados, muy probablemente no se conseguirán buenos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y además requisitos implícitos que a menudo no se mencionan (por ejemplo, fácil de mantener) que también es deseable respet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523880"/>
            <a:ext cx="8227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parar el plan de SQA (evaluaciones, auditorías, estándares, procedimientos de reporte de errores, templates de documentos, casos de prueba, estandarización de procedimient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se prepara durante la etapa de planeación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es revisado por todas las partes interes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es la base de todas las actividades de SQ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ticipar en el diseño del desarrollo del proceso específico a ser usado en el proyecto (puede chequear cumplimiento de estándares externos como ISO 9001, etc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visar que las actividades se lleven a cabo de acuerdo al proceso descrito (identifica, documenta y monitorea las desviacione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ticipar en el diseño del desarrollo del proceso específico a ser usado en el proyecto (puede chequear cumplimiento de estándares externos como ISO 9001, etc.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uditar ciertos productos d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egurar que las desviaciones en los productos sean manejadas y documentadas de acuerdo a un procedimi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gistrar cualquier ítem insatisfactorio y reportar a la administración sup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son los mejores aliados del Adm.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los casos de prueb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base a los requisitos de usuario, el SQA group debe generar los casos de prueba, para las pruebas a nivel de usuario (pruebas de usuari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base a los requisitos de software, el SQA group debe generar el resto de los casos de prueba: prueba de módulos, de integración y de sistema (al men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Ejecución de los casos de prueb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urante el período de pruebas, el SQA Group debe coordinar las pruebas y revisar el cumplimiento de los requisitos defin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portar anomalías detectadas durante las prueb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s revisiones constituyen una de las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mas importantes de SQ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pósit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scubrir errores (función, lógica o implementa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Verificar que el software satisfac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segurar que se cumplen los estándares predefin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ograr software desarrollado en forma unifor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cer más manejable los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e eliminan errores en forma relativamente temprana (barato y fácil de corregir)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9898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uede hacerse c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ocumentos de diseñ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ódigo fuente (listo para ser compilad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lanific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da revisión se conduce en forma de una reunión cuidadosamente planeada y control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muchos tipos de revisiones... Algunos de ellos los vimos en la clase de “Software Technical Review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5:05:57Z</dcterms:created>
  <dc:creator>Mercedario</dc:creator>
  <dc:description/>
  <dc:language>en-US</dc:language>
  <cp:lastModifiedBy>Sergio F. Ochoa</cp:lastModifiedBy>
  <dcterms:modified xsi:type="dcterms:W3CDTF">2005-10-06T12:32:22Z</dcterms:modified>
  <cp:revision>40</cp:revision>
  <dc:subject/>
  <dc:title>CC51A – Ingeniería de Software</dc:title>
</cp:coreProperties>
</file>