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C88-1FB2-4FC4-BF1D-410DCC01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4B5-2335-4028-9F68-BEA95B45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148-6C8B-44ED-B878-2E4D6594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1A52-D2D5-4B8E-AFAE-C8E6B487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5680-7EBA-47BC-941F-794CF602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C30D-E75A-4CAF-9E38-E2EBC4E8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F8AF-1798-4888-B125-41E431EE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E6E5-FB72-40F2-9F3C-766FEAC0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FD41-FDDC-4113-9F62-5E763939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BA09-01EA-40B7-B3B0-D31B656C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02D8-6245-43BB-98DC-978EC817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6635-AD36-4EE6-AC66-774B8072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A2B7-E569-44CB-BC52-9BCBF92D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8434-D6DA-4063-9501-4BF00BD3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43A5-3818-426B-95C4-572A30E0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F537-BC8B-4C98-B8AD-B8D7110F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CE52-EE62-42C4-ADAF-A135CF67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B33-085F-483F-9192-2FDB497E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E39-0852-45B9-A462-86A18C94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759-AB40-40BA-938B-79F4DF5F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ECA-2C35-4525-ABF5-A57CBDB1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103-830A-4B19-895D-9F10509C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6B2-8878-40C2-9872-011DB82B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48B-4141-45A0-8210-CF8D639D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E5D3-4E41-481E-850E-12EAD48FE5E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EBBF-BE24-4D5F-A360-4B1ACE5C1E8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Calidad y Mejoramiento de Procesos de Softwa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1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que ver con los objetivos a largo plazo de mi empres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2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be ser continuo. Los esfuerzos temporales no sirven para alcanzar objetivos a largo pla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3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o hay recetas mágica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4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solución depende del diagnóstico inicial, que involuc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la cultura organizacio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l proceso actu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resultados de pruebas... Sobre la solu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todología deliberada y planeada, que sigue prácticas de documentación estandarizadas para capturar en el papel (y en la práctica) cada elemento del  proceso de software, y determinar su valor agregado. Una herramienta útil para realizar ésto: diagrama ETV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so se compone de ac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ada actividad se controla usando un modelo definido: </a:t>
            </a: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ntry-Task-Verification-eX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a estructura del modelo requie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conjunto predefinido de criterios de entrada, tareas, verificaciones, y criterios de salida par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835280"/>
            <a:ext cx="783576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2292480"/>
            <a:ext cx="212112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8640" y="2292480"/>
            <a:ext cx="1892520" cy="1587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3892680"/>
            <a:ext cx="368280" cy="5205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0120" y="231156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2600" y="2311560"/>
            <a:ext cx="78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4520" y="2387520"/>
            <a:ext cx="70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X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73040" y="4597560"/>
            <a:ext cx="170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Comic Sans MS"/>
              </a:rPr>
              <a:t>VER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2240" y="2813040"/>
            <a:ext cx="20116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Entren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Orient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atrocini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sponsabilidades 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o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Bases de Da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Herramienta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Méto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9280" y="2813040"/>
            <a:ext cx="135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étr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form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920" y="5022720"/>
            <a:ext cx="1367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visione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uditorí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nális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8880" y="3193920"/>
            <a:ext cx="1600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atisfacción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du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le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1440" y="2901960"/>
            <a:ext cx="368280" cy="52056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225760" y="3853800"/>
            <a:ext cx="444600" cy="673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6200000">
            <a:off x="4425840" y="3892320"/>
            <a:ext cx="444600" cy="5968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4502160"/>
            <a:ext cx="1892520" cy="1587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2292480"/>
            <a:ext cx="212076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0080" y="5111640"/>
            <a:ext cx="368280" cy="52092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6960" y="3892680"/>
            <a:ext cx="444600" cy="59688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0 Trampas a Evit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Falta de compromiso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xpectativas irreales de la supervis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íderes que no otorgan los recurso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trenamiento inadecuad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Que el logro de un nivel CMM sea el objetiv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Mala aplicación a nivel micr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valuaciones inefectiva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etardo de la implementación de plan de ac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Mejoramiento de procesos se transforma en un jueg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perar que el proceso reemplace a la gent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equisitos para el Mejora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4"/>
              </a:spcBef>
              <a:buSzPct val="1723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Ingenieros y gerentes inteligentes, entrenados, creativos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Trabajo en equipo efectivo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Cultura compartida focalizada hacia la calidad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Objetivos de mejoramiento claros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Métricas para controlar avance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Evaluación honesta de áreas en problema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Tiempo para seleccionar, pilotar, e implantar procesos mejorados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Liderazgos y expectativas superiores consistentes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Todos están involucrados en los esfuerzos de mejoramiento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Sentido común, combinado con un compromiso para mejorar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ntes de imponer una propuesta de mejora, se debe estar seguro de que funcionará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para ello es recomendable hacer pruebas, y analizar los resul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Un vez detectadas la o las estrategias válidas, se debe trabajar en detalle sobr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tomatizar procesos es generalmente una buena opción (aunque no siempr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deben determinar objetivos, canales de comunicación, protocolos de comunicación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no involucre grandes cambios, ya que la gente normalmente se resiste a és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sea continuo, para realizar grandes cambios pero a largo plazo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ambién para avanzar sobre la base de los resultados obteni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a empresa de software debería plantearse esto, desde el momento de su fundació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mejoramiento del proceso de software no es un aspecto opcional...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 I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959120"/>
            <a:ext cx="0" cy="35877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4520" y="5576400"/>
            <a:ext cx="5692680" cy="17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46120" y="3387960"/>
            <a:ext cx="4689000" cy="141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740000">
            <a:off x="4131720" y="3169080"/>
            <a:ext cx="4289040" cy="178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1"/>
                </a:moveTo>
                <a:arcTo wR="10800" hR="10800" stAng="-6092" swAng="5408640"/>
                <a:lnTo>
                  <a:pt x="10800" y="10800"/>
                </a:lnTo>
                <a:close/>
              </a:path>
              <a:path fill="none" w="21600" h="21600">
                <a:moveTo>
                  <a:pt x="21600" y="10781"/>
                </a:moveTo>
                <a:arcTo wR="10800" hR="10800" stAng="-6092" swAng="540864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0120" y="40338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788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6926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4545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7520" y="345276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9560" y="3244680"/>
            <a:ext cx="50760" cy="5112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3840" y="316224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5360" y="573876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TIEMP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3760" y="2160720"/>
            <a:ext cx="362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COMPROMIS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1720" y="4809960"/>
            <a:ext cx="1036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a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Nom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1480" y="4743360"/>
            <a:ext cx="1208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cie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e70909"/>
                </a:solidFill>
                <a:latin typeface="Comic Sans MS"/>
              </a:rPr>
              <a:t>Buzzword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1440" y="4057560"/>
            <a:ext cx="1464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rens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Concep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2920" y="4005360"/>
            <a:ext cx="1281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Ensa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Posibilidad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1400" y="3475080"/>
            <a:ext cx="1144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op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Usos Li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8680" y="2666880"/>
            <a:ext cx="2016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itucio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Sinerg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3680" y="3276720"/>
            <a:ext cx="159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ter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Asun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321480"/>
            <a:ext cx="74646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38160"/>
            <a:ext cx="7897680" cy="360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y cómo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Númer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fácil de obte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 la mejora es relativament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gr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75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minución del esfuerzo - mayores competencias, mejores herramientas, métodos, estructuras de organización, planificación y contr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jorar proc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jorar el Produ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ocer Nuestra  Capacidad + Apoyarnos en un Estándar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Es la medida de un concepto (generalmente) abstracto, que incluy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rma de medi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stemática (reproducibl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ertine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Una escala de medida 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finirlas tempranamente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arlas para m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mpacto del proyec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uego hay que confiar en ell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– 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requisito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errore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oras/Hombre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de líneas de código (o páginas Web)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recursos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componentes estánda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uración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97040" y="1628640"/>
          <a:ext cx="6330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628640"/>
                    <a:ext cx="6330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7164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– Ejemplos de Métric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20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Ejemplo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1700280"/>
            <a:ext cx="8153280" cy="4724280"/>
            <a:chOff x="755640" y="1700280"/>
            <a:chExt cx="8153280" cy="4724280"/>
          </a:xfrm>
        </p:grpSpPr>
        <p:graphicFrame>
          <p:nvGraphicFramePr>
            <p:cNvPr id="301" name=""/>
            <p:cNvGraphicFramePr/>
            <p:nvPr/>
          </p:nvGraphicFramePr>
          <p:xfrm>
            <a:off x="755640" y="2152440"/>
            <a:ext cx="6781680" cy="168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52440"/>
                      <a:ext cx="678168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55640" y="4489560"/>
            <a:ext cx="8153280" cy="193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4489560"/>
                      <a:ext cx="8153280" cy="19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96680" y="1700280"/>
              <a:ext cx="210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% de err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60" y="4032360"/>
              <a:ext cx="278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Costos Asociad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Representación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63640" y="1906560"/>
          <a:ext cx="7040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06560"/>
                    <a:ext cx="704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nformación esencial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Formular el proyecto (tiempo, costo, recursos, etc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ver planes de contingencia ante riesgos históric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áreas problemáticas y posibles estrategias de mej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ompetitividad de mis desarro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prever en el plan de proyecto el tiempo para registrar y procesar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os número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SM Associa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a reducciones de esfuerzo de hasta el 70%, debido al desarrollo basado en compo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an Brown reporta reducciones de entre el 35 y el 55%, debido a la misma cau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&amp;T Bell Lab reporta una reducción de los costos de corrección de errores, de al menos el 50%, debido al proceso de revisión de la arquit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tional Corp. reporta reducciones de hasta el 50% debido a la automatización de los procesos involucrados en el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La comunidad internacional reporta una mejora sostenida en la calidad de los productos de software, debido al uso de patr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24"/>
              </a:spcBef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Toda empresa necesita y puede mejorar su proceso de desarrollo de Softwar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Mejorar el proceso impacta directamente en la competitividad y el futuro de la empresa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l proceso de mejoramiento debe ser lo más independiente posible de las personas involucradas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.... Es una forma de mantener la motivación de los empleados..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s fundamental para esta nueva era de escenarios globale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Inmadurez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ingeniería de software -&gt; estado de la prác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3 factores críticos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gente, tecnología, y proceso -&gt; principales determinantes de: costos, calendarios, productividad y calidad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actual de software está conducido por procesos, por lo tanto depende en gran medid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competencia me obliga a mejorar en forma continu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nuevos paradigmas apuntan a desarrollo ráp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1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posible mejorar la calidad del producto, por medio de la mejora de la calidad del proceso de software. ...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No puedo (debo) apostar por la gente, ni por la tecnologí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2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 que está en la cabeza de alguie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3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, si no se tiene la certeza de qué es lo que hay que mejorar y cuánto hay que mejorar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apacidad (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capability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)-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dición de madurez -&gt; predice la calidad 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del proces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o indica la previsibilidad de mis desarrollos, en tiempo y costo requerido, y calidad del producto ob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la capacidad del proceso puede (y debe) ser mejo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el tema es cómo y a qué precio?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étricas, métodos y mucha conduct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medir ciertos aspectos: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iesgos, productividad, aumento de calidad, satisfacción de cl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identificar áreas clave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de problem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edición de los proceso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para determinar avances futuros: seleccionar un modelo, recolectar datos, evaluar y refinar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secuencia de pasos ejecutados con un propósito específic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 de software: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junto de actividades, métodos, prácticas, y transformaciones usados para desarrollar y mantener software y sus productos asociados, i.e. planes, documentos de diseño, código, casos de prueba, manu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15160" indent="-515160">
              <a:lnSpc>
                <a:spcPct val="120000"/>
              </a:lnSpc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Comprender el estado actual de la práctica de ingeniería de software y gestión en una organiz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Seleccionar áreas de mejoramiento donde los cambios pueden significar el mayor beneficio de largo plaz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Focalizarse en agregar valor al negocio, no en alcanzar una </a:t>
            </a: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utopía de proces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Prosperar mediante la combinación de procesos efectivos con gente preparada, motivada y creativ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Qué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Cómo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Document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Mid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Previn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Resolviendo (problem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Automatiz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Siendo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01:58Z</dcterms:created>
  <dc:creator>Mercedario</dc:creator>
  <dc:description/>
  <dc:language>en-US</dc:language>
  <cp:lastModifiedBy>Sergio F. Ochoa</cp:lastModifiedBy>
  <dcterms:modified xsi:type="dcterms:W3CDTF">2005-05-19T15:32:36Z</dcterms:modified>
  <cp:revision>24</cp:revision>
  <dc:subject/>
  <dc:title>CC51A – Ingeniería de Software</dc:title>
</cp:coreProperties>
</file>