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728-A4F1-483C-93CA-55FAB278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34C-EDBE-4374-B157-9C24B289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458-E6B6-4758-93DF-F3E5C6F5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72C-231D-49DF-A047-0A072CEE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DFF2-F4F8-4C57-8467-421806E0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9032-437F-4305-8830-E344BAF8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8FD2-3B88-4445-9A72-4CE834DF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5DA0-8AF8-4262-99C9-76A8512A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316C-01F7-486D-B585-1688E366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DDF4-C24D-42B8-AF76-471E61A9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DEA8-4ED8-46FD-9218-C5E9AF68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BF2-98EE-4294-B313-BA318CF3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17EB-677F-44ED-85FB-9478B70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0E13-0730-487B-A14A-E5FA860D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A0C-9C1F-4509-9DA9-9ACB86B7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C404-263F-48B8-B4C9-EE1BFC3A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1B59-6381-40B1-BBD8-CF6BEA75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886-1886-4D2D-9CB8-E2EE2555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633-6FBE-4AB5-BDA9-5E62900D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BA3-B390-4C01-A63B-542C1BB1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D4C-B44C-4A10-9758-80EF9A56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158-39D2-4429-A912-9D22803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6BF-D3CD-421E-AAD0-C3DDF37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CFF-9398-4652-9A5D-621C2FDD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F40A-AAE2-43F9-8500-51B65A748D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B9A5-A0FA-41EA-9882-FB03070322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Calidad y Mejoramiento de Procesos de Softwar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10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1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 que ver con los objetivos a largo plazo de mi empres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2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be ser continuo. Los esfuerzos temporales no sirven para alcanzar objetivos a largo pla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3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o hay recetas mágica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SzPct val="113173"/>
              <a:buBlip>
                <a:blip r:embed="rId4"/>
              </a:buBlip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solución depende del diagnóstico inicial, que involuc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la cultura organizacio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l proceso actu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088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álisis de resultados de pruebas... Sobre la solu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todología deliberada y planeada, que sigue prácticas de documentación estandarizadas para capturar en el papel (y en la práctica) cada elemento del  proceso de software, y determinar su valor agregado. Una herramienta útil para realizar ésto: diagrama ETV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so se compone de actividad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ada actividad se controla usando un modelo definido: </a:t>
            </a: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ntry-Task-Verification-eX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a estructura del modelo requiere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conjunto predefinido de criterios de entrada, tareas, verificaciones, y criterios de salida par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agrama ETV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920880" y="1835280"/>
            <a:ext cx="7835760" cy="4483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5440" y="2292480"/>
            <a:ext cx="212112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8640" y="2292480"/>
            <a:ext cx="1892520" cy="1587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4560" y="3892680"/>
            <a:ext cx="368280" cy="52056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70120" y="231156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2600" y="2311560"/>
            <a:ext cx="78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4520" y="2387520"/>
            <a:ext cx="70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EX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73040" y="4597560"/>
            <a:ext cx="170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Comic Sans MS"/>
              </a:rPr>
              <a:t>VERIF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2240" y="2813040"/>
            <a:ext cx="201168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olít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cedimi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Entrenami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Orient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Patrocini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esponsabilidades 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Ro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Bases de Da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Herramienta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Arial"/>
              </a:rPr>
              <a:t>Méto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9280" y="2813040"/>
            <a:ext cx="135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étric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form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920" y="5022720"/>
            <a:ext cx="1367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visiones /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uditorí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cion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nálisi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8880" y="3193920"/>
            <a:ext cx="16002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atisfacción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ctiv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rodu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le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11440" y="2901960"/>
            <a:ext cx="368280" cy="52056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5225760" y="3853800"/>
            <a:ext cx="444600" cy="673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6200000">
            <a:off x="4425840" y="3892320"/>
            <a:ext cx="444600" cy="5968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4502160"/>
            <a:ext cx="1892520" cy="1587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7280" y="2292480"/>
            <a:ext cx="2120760" cy="379728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0080" y="5111640"/>
            <a:ext cx="368280" cy="52092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616960" y="3892680"/>
            <a:ext cx="444600" cy="596880"/>
          </a:xfrm>
          <a:prstGeom prst="rightArrow">
            <a:avLst>
              <a:gd name="adj1" fmla="val 50000"/>
              <a:gd name="adj2" fmla="val 48755"/>
            </a:avLst>
          </a:prstGeom>
          <a:gradFill rotWithShape="0">
            <a:gsLst>
              <a:gs pos="0">
                <a:srgbClr val="6c633b"/>
              </a:gs>
              <a:gs pos="50000">
                <a:srgbClr val="ecd882"/>
              </a:gs>
              <a:gs pos="100000">
                <a:srgbClr val="6c633b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0 Trampas a Evit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Falta de compromiso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xpectativas irreales de la supervis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íderes que no otorgan los recurso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trenamiento inadecuad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Que el logro de un nivel CMM sea el objetiv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ala aplicación a nivel micr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valuaciones inefectiva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etardo de la implementación de plan de ac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Mejoramiento de procesos se transforma en un jueg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perar que el proceso reemplace a la gent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equisitos para el Mejora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SzPct val="1723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Ingenieros y gerentes inteligentes, entrenados, creativo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Trabajo en equipo efectivo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Cultura compartida focalizada hacia la calidad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Objetivos de mejoramiento claro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Métricas para controlar avance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Evaluación honesta de áreas en problema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Tiempo para seleccionar, pilotar, e implantar procesos mejorado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Liderazgos y expectativas superiores consistentes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Todos están involucrados en los esfuerzos de mejoramiento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723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Sentido común, combinado con un compromiso para mejorar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ntes de imponer una propuesta de mejora, se debe estar seguro de que funcionará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para ello es recomendable hacer pruebas, y analizar los resul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Un vez detectadas la o las estrategias válidas, se debe trabajar en detalle sobr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utomatizar procesos es generalmente una buena opción (aunque no siempr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deben determinar objetivos, canales de comunicación, protocolos de comunicación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no involucre grandes cambios, ya que la gente normalmente se resiste a és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s importante que el mejoramiento sea continuo, para realizar grandes cambios pero a largo plazo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ambién para avanzar sobre la base de los resultados obteni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a empresa de software debería plantearse esto, desde el momento de su fundación..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mejoramiento del proceso de software no es un aspecto opcional....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 I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1959120"/>
            <a:ext cx="0" cy="35877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4520" y="5576400"/>
            <a:ext cx="5692680" cy="17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46120" y="3387960"/>
            <a:ext cx="4689000" cy="141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740000">
            <a:off x="4131720" y="3169080"/>
            <a:ext cx="4289040" cy="178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81"/>
                </a:moveTo>
                <a:arcTo wR="10800" hR="10800" stAng="-6092" swAng="5408640"/>
                <a:lnTo>
                  <a:pt x="10800" y="10800"/>
                </a:lnTo>
                <a:close/>
              </a:path>
              <a:path fill="none" w="21600" h="21600">
                <a:moveTo>
                  <a:pt x="21600" y="10781"/>
                </a:moveTo>
                <a:arcTo wR="10800" hR="10800" stAng="-6092" swAng="5408640"/>
              </a:path>
            </a:pathLst>
          </a:custGeom>
          <a:noFill/>
          <a:ln cap="rnd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0120" y="40338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788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8760" y="46926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98840" y="454500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7520" y="345276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89560" y="3244680"/>
            <a:ext cx="50760" cy="5112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73840" y="3162240"/>
            <a:ext cx="50760" cy="507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5360" y="5738760"/>
            <a:ext cx="1226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TIEMP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23760" y="2160720"/>
            <a:ext cx="36216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Comic Sans MS"/>
              </a:rPr>
              <a:t>COMPROMIS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1720" y="4809960"/>
            <a:ext cx="1036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a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Nom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1480" y="4743360"/>
            <a:ext cx="1208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cie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e70909"/>
                </a:solidFill>
                <a:latin typeface="Comic Sans MS"/>
              </a:rPr>
              <a:t>Buzzword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1440" y="4057560"/>
            <a:ext cx="1464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mprens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Concep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2920" y="4005360"/>
            <a:ext cx="1281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Ensa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Posibilidad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31400" y="3475080"/>
            <a:ext cx="11444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op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Usos Lib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8680" y="2666880"/>
            <a:ext cx="2016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itucio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Sinerg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3680" y="3276720"/>
            <a:ext cx="159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ternal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70909"/>
                </a:solidFill>
                <a:latin typeface="Comic Sans MS"/>
              </a:rPr>
              <a:t>Asun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321480"/>
            <a:ext cx="74646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38160"/>
            <a:ext cx="7897680" cy="360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tiv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y cómo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Númer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romiso para Cambi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fácil de obte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 la mejora es relativament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ogr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75000"/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minución del esfuerzo - mayores competencias, mejores herramientas, métodos, estructuras de organización, planificación y contro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jorar proc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jorar el Produ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jorar el Proceso </a:t>
            </a:r>
            <a:r>
              <a:rPr b="0" lang="en-US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onocer Nuestra  Capacidad + Apoyarnos en un Estándar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Es la medida de un concepto (generalmente) abstracto, que incluy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rma de med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stemática (reproducibl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ertin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Una escala de medida para ese concep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nstituyen mi información histórica regist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finirlas tempranamente (sólo las que sean útil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arlas para medi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requisitos, etapas, hitos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mpacto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uidado con el exceso de contr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uego hay que confiar en el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– Ejemplos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requisito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y tipo de errores por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 de corrección de errores, usando varios crite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oras/Hombre totales, y por fas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ntidad de líneas de código (o páginas Web) por proyecto, y por requisito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recursos (especialmente ge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so de componentes estánda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uración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97040" y="1628640"/>
          <a:ext cx="633096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1628640"/>
                    <a:ext cx="6330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7164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– Ejemplos de Métric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20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Ejemplo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1700280"/>
            <a:ext cx="8153280" cy="4724280"/>
            <a:chOff x="755640" y="1700280"/>
            <a:chExt cx="8153280" cy="4724280"/>
          </a:xfrm>
        </p:grpSpPr>
        <p:graphicFrame>
          <p:nvGraphicFramePr>
            <p:cNvPr id="301" name=""/>
            <p:cNvGraphicFramePr/>
            <p:nvPr/>
          </p:nvGraphicFramePr>
          <p:xfrm>
            <a:off x="755640" y="2152440"/>
            <a:ext cx="6781680" cy="1681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152440"/>
                      <a:ext cx="678168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55640" y="4489560"/>
            <a:ext cx="8153280" cy="193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4489560"/>
                      <a:ext cx="8153280" cy="19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96680" y="1700280"/>
              <a:ext cx="2102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% de erro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7360" y="4032360"/>
              <a:ext cx="278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66ff"/>
                  </a:solidFill>
                  <a:latin typeface="Univers Condensed"/>
                </a:rPr>
                <a:t>Costos Asociad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Arial"/>
              </a:rPr>
              <a:t>Representación de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63640" y="1906560"/>
          <a:ext cx="7040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06560"/>
                    <a:ext cx="704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FdP -  Métr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nformación esencial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Formular el proyecto (tiempo, costo, recursos, etc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ver planes de contingencia ante riesgos históric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ntificar áreas problemáticas y posibles estrategias de mej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ejorar la competitividad de mis desarro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Hay que prever en el plan de proyecto el tiempo para registrar y procesar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os números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SM Associate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orta reducciones de esfuerzo de hasta el 70%, debido al desarrollo basado en compon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an Brown reporta reducciones de entre el 35 y el 55%, debido a la misma cau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&amp;T Bell Lab reporta una reducción de los costos de corrección de errores, de al menos el 50%, debido al proceso de revisión de la arquit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ational Corp. reporta reducciones de hasta el 50% debido a la automatización de los procesos involucrados en el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La comunidad internacional reporta una mejora sostenida en la calidad de los productos de software, debido al uso de patr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Toda empresa necesita y puede mejorar su proceso de desarrollo de Softwar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Mejorar el proceso impacta directamente en la competitividad y el futuro de la empresa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l proceso de mejoramiento debe ser lo más independiente posible de las personas involucradas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.... Es una forma de mantener la motivación de los empleados..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24"/>
              </a:spcBef>
              <a:buSzPct val="14480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0458c"/>
                </a:solidFill>
                <a:latin typeface="Tahoma"/>
              </a:rPr>
              <a:t>Es fundamental para esta nueva era de escenarios globales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Inmadurez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ingeniería de software -&gt; estado de la prác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3 factores críticos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gente, tecnología, y proceso -&gt; principales determinantes de: costos, calendarios, productividad y calidad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actual de software está conducido por procesos, por lo tanto depende en gran medid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competencia me obliga a mejorar en forma continu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nuevos paradigmas apuntan a desarrollo ráp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1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posible mejorar la calidad del producto, por medio de la mejora de la calidad del proceso de software. ...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No puedo (debo) apostar por la gente, ni por la tecnologí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2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 que está en la cabeza de alguie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incipio básico 3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o se puede mejorar algo, si no se tiene la certeza de qué es lo que hay que mejorar y cuánto hay que mejorar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apacidad (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capability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)-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medición de madurez -&gt; predice la calidad </a:t>
            </a: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del proces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o indica la previsibilidad de mis desarrollos, en tiempo y costo requerido, y calidad del producto ob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la capacidad del proceso puede (y debe) ser mejor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el tema es cómo y a qué precio?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tivación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étricas, métodos y mucha conduct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medir ciertos aspectos: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riesgos, productividad, aumento de calidad, satisfacción de cl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Dificultad para identificar áreas clave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de problem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Necesidad de medición de los procesos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 para determinar avances futuros: seleccionar un modelo, recolectar datos, evaluar y refinar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0728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secuencia de pasos ejecutados con un propósito específic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Proceso de software: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junto de actividades, métodos, prácticas, y transformaciones usados para desarrollar y mantener software y sus productos asociados, i.e. planes, documentos de diseño, código, casos de prueba, manu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15160" indent="-515160">
              <a:lnSpc>
                <a:spcPct val="12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ejoramiento del proceso de software: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Comprender el estado actual de la práctica de ingeniería de software y gestión en una organiz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Seleccionar áreas de mejoramiento donde los cambios pueden significar el mayor beneficio de largo plaz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Focalizarse en agregar valor al negocio, no en alcanzar una </a:t>
            </a:r>
            <a:r>
              <a:rPr b="0" i="1" lang="es-ES_tradnl" sz="2200" spc="-1" strike="noStrike">
                <a:solidFill>
                  <a:srgbClr val="40458c"/>
                </a:solidFill>
                <a:latin typeface="Tahoma"/>
              </a:rPr>
              <a:t>utopía de proces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911520" indent="-282960">
              <a:lnSpc>
                <a:spcPct val="12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565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Prosperar mediante la combinación de procesos efectivos con gente preparada, motivada y creativ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roceso de Mejora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Qué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¿Cómo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Document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Mid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Previnie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Resolviendo (problem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Automatiz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. Siendo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01:58Z</dcterms:created>
  <dc:creator>Mercedario</dc:creator>
  <dc:description/>
  <dc:language>en-US</dc:language>
  <cp:lastModifiedBy>Sergio F. Ochoa</cp:lastModifiedBy>
  <dcterms:modified xsi:type="dcterms:W3CDTF">2005-05-19T15:32:36Z</dcterms:modified>
  <cp:revision>24</cp:revision>
  <dc:subject/>
  <dc:title>CC51A – Ingeniería de Software</dc:title>
</cp:coreProperties>
</file>