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56B-95E2-40DE-9DB4-9CCC465F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F8D-E2B3-405A-B7E1-CE5883DA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1CE-5DEE-41D1-8BB1-9A58394A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1CE-BE83-4B9A-9B9C-7E06F301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2A07-E8FB-4C03-92BA-865CC01C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480E-B0C8-42A7-B940-B6D00DF1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C196-7A0F-49E3-B534-1ABC320F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5021-AEAB-4D7E-89C6-9D1FB6D4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35F5-B2F8-4967-8782-D87921B6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906D-16FB-471F-B506-137C443B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A5AB-3F08-41F4-89E2-16C393D5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969-567E-463B-BD46-265411F5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241B-6B6A-405D-A181-1822ECE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92D8-D23D-45A2-A6E1-B643FA49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142C-7BC7-46CD-A56E-58870C81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A5D9-C8FE-43F9-9A50-167EED7B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24FF-6932-4081-ADA6-49322CAD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CB9-5FE8-4CAE-9028-2CD63B5F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012-1FB1-4C84-B7A2-DFFCAAA9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077-A99A-4985-BFD4-463B3C31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4A8-CAB5-4E7D-A371-0F682B7C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F0D-7358-44E2-A57E-A6245025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7F8-8A91-480E-AB9B-884C7551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1E0-AFFC-4908-A046-4BE44A55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4CFA-BD05-4C08-8A10-BC3509209FF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153A-9423-4E1B-802F-2CF274F2D1CB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Planificación de la Caminata – Fase de Análi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6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reparación de la Caminata (Planificación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6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jecu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6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Analist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entregar el documento a los revisores con suficiente antelación (24hs antes, como mínim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entregar a los revisores, el login y password para acceder a ReqAdmin (24hs antes, como mínim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preparar una presentación (en PowerPoint) de 15minutos (como máx.), a cerca de los requisitos de su sistem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presentar lo más representativo del proyecto (servicios, restricciones, requisitos críticos, etc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Uno de los autores debe presentar el trabaj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Otro(s) debe(n) tomar nota de las observaciones de los revisores. Este es conocido como el “</a:t>
            </a:r>
            <a:r>
              <a:rPr b="0" i="1" lang="es-CL" sz="2000" spc="-1" strike="noStrike">
                <a:solidFill>
                  <a:srgbClr val="40458c"/>
                </a:solidFill>
                <a:latin typeface="Tahoma"/>
              </a:rPr>
              <a:t>Registrador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”. Ojalá graben las revisiones (al menos la parte de las preguntas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Lleguen antes de la hora fijada y comprueben que todo está OK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Revisor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leer y entender el documento antes de la revisión. Todos los miembros del proyecto expositor, son revis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Moderado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leer y entender el documento antes de la revisión, si va a realizar observ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Tést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leer y entender el documento antes de la revi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velar por la correctitud y completitud del elemento inspeccion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verificar el cumplimiento del Estándar utiliz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Analist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Uno debe presentar el trabajo, otro toma nota (si corresponde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No se aceptan justificaciones.... si existen problemas, el Adm. del Proy. debe arreglarlo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scuche (y agradezca) a sus compañeros, por las observaciones que le hagan. Ellos le están ayudando a mejorar su trabaj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Moderad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coordinar la reunión, y velar por el cumplimiento de los tiempos establec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ignar la palabra, para que los revisores puedan participar (el orden de participación queda a su criteri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s recomendable que el moderador no haga de revisor, salvo en casos excepciona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Revisor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hacer preguntas u observaciones puntuales... Recuerden que tienen poco tiempo para revis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observar primero lo que es más importante. Si sobra tiempo, se puede revisar el res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Observar sin herir al auto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edir la palabra, y hablar sólo cuando se le haya asign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Téste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ser el primero en realizar observaciones. Primero lo importante, y si queda tiempo se revisa el res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Registrador</a:t>
            </a:r>
            <a:r>
              <a:rPr b="1" lang="es-CL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s el encargado de registrar todas las observaciones, para luego generar lista de correc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Tést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Debe reunirse con el registrador para generar la memoria de la revisión (tienen 48hs para hacerl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El documento de revisión o memoria de revisión debe ser enviado a todos los participantes de la revisión (miembros del grupo, y profesores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El documento debe indicar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Identificación del Proyecto, y Versión del Docu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ocumento Revisado, y la Fecha de Revis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stado del Documento (desprob, aprob.,con revisiones mayores o menores, etc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Lista de Cosas a Corregir: Indicar claramente qué corregir, y las soluciones sugeridas (si las hub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Lista de Cosas a Revisar: Indicar claramente qué revis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Moderado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Fijará una fecha para la cual la corrección de errores/revisiones deben estar conclui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Autores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terminar las revisiones/correcciones para la fecha fij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F. Ochoa</cp:lastModifiedBy>
  <cp:lastPrinted>1999-02-10T22:32:39Z</cp:lastPrinted>
  <dcterms:modified xsi:type="dcterms:W3CDTF">2005-09-01T16:55:01Z</dcterms:modified>
  <cp:revision>37</cp:revision>
  <dc:subject/>
  <dc:title>Software Technical Reviews</dc:title>
</cp:coreProperties>
</file>