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E9D-E2B5-4B48-ADBB-63048167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F30-A3C0-4A13-BF87-D554F93B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A9E-F938-4992-A4B8-59469998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0F5-1754-4927-A45C-53585F4C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5BB2-9979-47EB-98C7-99B0E26E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6331-D74F-479C-8EB2-4327ED73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43A2-36F3-4834-84B4-83787D16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EFE8-C04F-4E98-A1AE-22B7725F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2EEE-488E-439E-9898-F584B8DE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0D62-6409-4582-B315-F6B07600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1555-140E-4F91-939B-F0FE71B3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5C8-D8E0-4E9A-839C-21BD8D33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FA9A-CC86-4D93-BFC8-F4202A70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B0A7-CBB0-4F58-9181-FCBDC44F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5FC7-7A08-40AC-9764-8B9080D6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96C8-7B1D-4273-97FD-4EF9E47E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9A97-52D3-462B-8E04-EEA9F70F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C34-7422-42C3-8675-CC161579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35C-7593-4CCC-AFF4-4C650B99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536-8137-4DBE-9B9B-18FAE55F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3E9-C114-4C92-ACE6-05EB23D6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6D8-5327-47C8-8370-9F055B7A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346-C876-4C0F-B329-54D17110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197-BD56-49C6-9A42-09DF54C4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636C-B399-4302-9B7E-56EE8D76F02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61A8-6DBE-4260-B6A2-01244EDFF9E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lanificación de la Caminata – Fase de Análi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 de la Caminata (Planificación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jec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Analist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entregar el documento a los revisores con suficiente antelación (24hs antes, como mínim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entregar a los revisores, el login y password para acceder a ReqAdmin (24hs antes, como mínim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preparar una presentación (en PowerPoint) de 15minutos (como máx.), a cerca de los requisitos de su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presentar lo más representativo del proyecto (servicios, restricciones, requisitos crític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Uno de los autores debe presentar el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Otro(s) debe(n) tomar nota de las observaciones de los revisores. Este es conocido como el “</a:t>
            </a:r>
            <a:r>
              <a:rPr b="0" i="1" lang="es-CL" sz="2000" spc="-1" strike="noStrike">
                <a:solidFill>
                  <a:srgbClr val="40458c"/>
                </a:solidFill>
                <a:latin typeface="Tahoma"/>
              </a:rPr>
              <a:t>Registrador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”. Ojalá graben las revisiones (al menos la parte de las pregunt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leguen antes de la hora fijada y comprueben que todo está OK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Revisor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leer y entender el documento antes de la revisión. Todos los miembros del proyecto expositor, son revis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leer y entender el documento antes de la revisión, si va a realizar observ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Tést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leer y entender el documento antes de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lar por la correctitud y completitud del elemento inspeccion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rificar el cumplimiento del Estándar utiliz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Analist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Uno debe presentar el trabajo, otro toma nota (si correspond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No se aceptan justificaciones.... si existen problemas, el Adm. del Proy. debe arreglarl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cuche (y agradezca) a sus compañeros, por las observaciones que le hagan. Ellos le están ayudando a mejorar su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coordinar la reunión, y velar por el cumplimiento de los tiempos estable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ignar la palabra, para que los revisores puedan participar (el orden de participación queda a su criteri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 recomendable que el moderador no haga de revisor, salvo en casos excepc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Revisor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hacer preguntas u observaciones puntuales... Recuerden que tienen poco tiempo para revis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observar primero lo que es más importante. Si sobra tiempo, se puede revisar el res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Observar sin herir al auto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edir la palabra, y hablar sólo cuando se le haya asign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Téste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ser el primero en realizar observaciones. Primero lo importante, y si queda tiempo se revisa el res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Registrador</a:t>
            </a:r>
            <a:r>
              <a:rPr b="1" lang="es-CL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 el encargado de registrar todas las observaciones, para luego generar lista de corr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Tést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ebe reunirse con el registrador para generar la memoria de la revisión (tienen 48hs para hacerl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El documento de revisión o memoria de revisión debe ser enviado a todos los participantes de la revisión (miembros del grupo, y profesores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El documento debe indicar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ción del Proyecto, y Versión d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ocumento Revisado, y la Fecha de Revi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tado del Documento (desprob, aprob.,con revisiones mayores o menore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ista de Cosas a Corregir: Indicar claramente qué corregir, y las soluciones sugeridas (si las hub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ista de Cosas a Revisar: Indicar claramente qué revis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Fijará una fecha para la cual la corrección de errores/revisiones deben estar conclui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Autore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terminar las revisiones/correcciones para la fecha fij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1999-02-10T22:32:39Z</cp:lastPrinted>
  <dcterms:modified xsi:type="dcterms:W3CDTF">2005-09-01T16:55:01Z</dcterms:modified>
  <cp:revision>37</cp:revision>
  <dc:subject/>
  <dc:title>Software Technical Reviews</dc:title>
</cp:coreProperties>
</file>