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5D1F-B736-4EE4-9B97-B2E856D82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0486-1160-41E3-8CC6-3260A90A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A77E-7687-445F-89E6-0A5D7E8FD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2CAC-2D9F-4301-A6BD-2CC245DEB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9947-8F8B-42BA-A735-7476CC4D2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ADEC-5098-4EC7-8F9F-D99A0492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F58A-5092-4AFA-822E-03EBC0CD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0252-C482-4568-96B4-1B0AC134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9402-A867-4B12-BD81-49AEA708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F811-609E-4083-BEC1-A3EB1298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F0F4-C420-4890-9EF1-FEC91768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89DD-7FE8-42DD-BD21-A6E3E8DE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0B12-FB77-47CC-AE1E-F32F7388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BCDC-9E0B-4029-93E3-6CCAA3B2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90C9-E56C-4FE1-8483-0C297B16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B436-A8CD-4900-B78E-8BA08AB0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653B-AC23-434B-91E2-FF6886ED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C290-02E7-41F1-9220-36A8E3B4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BAB2-3EF2-4BD6-86D2-711209E8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DD66-AD1E-4B8C-8A0D-BF823D24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98BC-3FE5-4F1F-970D-5736A562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ADA2-823E-4B83-A534-E356D3F6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A2CF-6ADF-4BEB-9BD9-2548091D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D221-D027-41B7-AF93-C3E70821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9234-C84F-40DE-9D36-3D0D3432645F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FDD9-1548-4FF4-B45E-D1F434C87EF0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Planificación de la Caminata – Fase de Análi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tenid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6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reparación de la Caminata (Planificación)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16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jecu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16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guimi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pa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Analista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n entregar el documento a los revisores con suficiente antelación (24hs antes, como mínim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n entregar a los revisores, el login y password para acceder a ReqAdmin (24hs antes, como mínim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n preparar una presentación (en PowerPoint) de 15minutos (como máx.), a cerca de los requisitos de su sistem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n presentar lo más representativo del proyecto (servicios, restricciones, requisitos críticos, etc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Uno de los autores debe presentar el trabaj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Otro(s) debe(n) tomar nota de las observaciones de los revisores. Este es conocido como el “</a:t>
            </a:r>
            <a:r>
              <a:rPr b="0" i="1" lang="es-CL" sz="2000" spc="-1" strike="noStrike">
                <a:solidFill>
                  <a:srgbClr val="40458c"/>
                </a:solidFill>
                <a:latin typeface="Tahoma"/>
              </a:rPr>
              <a:t>Registrador</a:t>
            </a: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”. Ojalá graben las revisiones (al menos la parte de las preguntas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Lleguen antes de la hora fijada y comprueben que todo está OK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Revisor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n leer y entender el documento antes de la revisión. Todos los miembros del proyecto expositor, son revisor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pa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458c"/>
                </a:solidFill>
                <a:latin typeface="Tahoma"/>
              </a:rPr>
              <a:t>Moderado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 leer y entender el documento antes de la revisión, si va a realizar observa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458c"/>
                </a:solidFill>
                <a:latin typeface="Tahoma"/>
              </a:rPr>
              <a:t>Téste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 leer y entender el documento antes de la revis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 velar por la correctitud y completitud del elemento inspeccion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 verificar el cumplimiento del Estándar utiliz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Analista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Uno debe presentar el trabajo, otro toma nota (si corresponde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No se aceptan justificaciones.... si existen problemas, el Adm. del Proy. debe arreglarlos !!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scuche (y agradezca) a sus compañeros, por las observaciones que le hagan. Ellos le están ayudando a mejorar su trabaj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Moderado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 coordinar la reunión, y velar por el cumplimiento de los tiempos estableci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signar la palabra, para que los revisores puedan participar (el orden de participación queda a su criteri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s recomendable que el moderador no haga de revisor, salvo en casos excepcional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Revisor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n hacer preguntas u observaciones puntuales... Recuerden que tienen poco tiempo para revisa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n observar primero lo que es más importante. Si sobra tiempo, se puede revisar el res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Observar sin herir al auto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edir la palabra, y hablar sólo cuando se le haya asignad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Téste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 ser el primero en realizar observaciones. Primero lo importante, y si queda tiempo se revisa el res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Registrador</a:t>
            </a:r>
            <a:r>
              <a:rPr b="1" lang="es-CL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s el encargado de registrar todas las observaciones, para luego generar lista de correccion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Segu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458c"/>
                </a:solidFill>
                <a:latin typeface="Tahoma"/>
              </a:rPr>
              <a:t>Téste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Debe reunirse con el registrador para generar la memoria de la revisión (tienen 48hs para hacerlo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El documento de revisión o memoria de revisión debe ser enviado a todos los participantes de la revisión (miembros del grupo, y profesores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El documento debe indicar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Identificación del Proyecto, y Versión del Documen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ocumento Revisado, y la Fecha de Revis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stado del Documento (desprob, aprob.,con revisiones mayores o menores, etc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Lista de Cosas a Corregir: Indicar claramente qué corregir, y las soluciones sugeridas (si las hub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Lista de Cosas a Revisar: Indicar claramente qué revisa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Segu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458c"/>
                </a:solidFill>
                <a:latin typeface="Tahoma"/>
              </a:rPr>
              <a:t>Moderado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Fijará una fecha para la cual la corrección de errores/revisiones deben estar conclui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458c"/>
                </a:solidFill>
                <a:latin typeface="Tahoma"/>
              </a:rPr>
              <a:t>Autores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n terminar las revisiones/correcciones para la fecha fij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8:46:50Z</dcterms:created>
  <dc:creator>Sergio Ochoa</dc:creator>
  <dc:description/>
  <dc:language>en-US</dc:language>
  <cp:lastModifiedBy>Sergio F. Ochoa</cp:lastModifiedBy>
  <cp:lastPrinted>1999-02-10T22:32:39Z</cp:lastPrinted>
  <dcterms:modified xsi:type="dcterms:W3CDTF">2005-09-01T16:55:01Z</dcterms:modified>
  <cp:revision>37</cp:revision>
  <dc:subject/>
  <dc:title>Software Technical Reviews</dc:title>
</cp:coreProperties>
</file>