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249-56BF-4FC1-AED5-DB4D9686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094-EE4D-4AA4-8AB6-68014C27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51C-6271-472F-B200-02C18490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30D-CC3D-4FB7-91A8-9B6E7970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5F45-81B5-47BC-9C02-D8066E92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7F28-DE6D-4B95-82CB-2BB0CC47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DA18-AF0E-457C-AFB0-5310368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61DE-B8BC-4ED3-9404-8C441AF8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4D8A-5438-4A42-9656-EE725E3E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A32B-164E-413B-948F-EFB95BAC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BC61-1AE1-47C3-810D-74FD16B9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46C-CDBB-489D-83D8-4B470DA9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B40D-2B4E-411A-962C-D7F34AD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F4D0-CCB4-449A-A222-7CD51787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52A7-3999-48B9-BF95-5F963396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5A1A-366B-40B3-B7F6-E38F444B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CAC3-D5E2-4EF5-8B02-ED27F945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9D2-ADCD-4194-AFE8-DB7A9EC6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7F0-A4C6-4E68-965E-1C41BD92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EA8-3AF9-4876-B060-35698648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4E1-88AA-4510-B41F-C613110A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F66-BF2D-4202-AF4B-25446ED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248-1C6A-453D-8E73-DDDF7E2B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5A8-F70B-4301-A7BE-7287077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43F8-B9B9-408B-BED8-BFF4BC52D95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C823-0BA1-4A7D-98F4-5E2F839DB03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r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es de la reunión, el moderador y el autor se reu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799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le entrega al autor una lista de los defectos encontrados,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.... pero no abuse,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2002-05-02T12:05:49Z</cp:lastPrinted>
  <dcterms:modified xsi:type="dcterms:W3CDTF">2005-09-01T16:43:19Z</dcterms:modified>
  <cp:revision>41</cp:revision>
  <dc:subject/>
  <dc:title>Software Technical Reviews</dc:title>
</cp:coreProperties>
</file>