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326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90E7-957E-4F46-AF55-2D1F516FD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7F1A-6154-4673-A862-954A838C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39EB-08B7-4A90-AB08-0D199233D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0D94-67E9-49DA-AEF9-5E6413F46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4F35-1D2E-4CBD-A7CA-44C56353F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814E-59C7-45AE-A3DB-82D5840B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6332-4489-433A-9BB1-865E7608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B291-3B5F-41D9-B741-D1490949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47395-17BF-4923-8E93-FC408353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8BF3-D1D2-4F91-ABF8-4D283485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B428-F252-416F-A839-EA442376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5916-E791-4B91-9B6C-153E65D4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2714-1BD0-4019-8B72-6556A0FA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1A1F-2E68-4C83-8042-9BC9F90D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4DA7-A474-4C95-B237-45688F89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7222-74E6-48BD-8C37-2219B2BC9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3F36-4630-4304-B307-F6B868D19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0BFC-0A54-40BF-A699-9E1A2445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3463-84C7-4B27-B634-584F2755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31BE-3EB7-4B59-8D12-5D8F86E0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6200-4C75-48C8-86FC-7BF74504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7BA3-CD70-4377-8C33-CA19B2BA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CB4F-8995-41F9-A11D-3AA34268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5AFA-7BBF-4781-B09F-2EABA816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3BD0-7530-4D8A-9A04-59C7333DC756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CCBF-F245-4756-B995-A2E47F6F60D4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Software Technical Review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40458c"/>
                </a:solidFill>
                <a:latin typeface="Tahoma"/>
              </a:rPr>
              <a:t>Sergio Ocho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49"/>
              </a:spcBef>
              <a:spcAft>
                <a:spcPts val="975"/>
              </a:spcAft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moderador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terminar si todos están preparados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Guiar la caminata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rbitrar los medios para obtener conclusiones útiles, de los desacuerdos o errores encontrados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 algn="just">
              <a:spcBef>
                <a:spcPts val="649"/>
              </a:spcBef>
              <a:spcAft>
                <a:spcPts val="975"/>
              </a:spcAft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registrador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Tomar notas de los defectos y de los cursos de acción a seguir. Con esto generará una lista que se les entregará a los participant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gistrará comentarios menores como observaciones sobre: fonts, gramática, puntuación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odría ser útil grabar la revis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1280" y="148572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649"/>
              </a:spcBef>
              <a:spcAft>
                <a:spcPts val="1301"/>
              </a:spcAft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autor/presentador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resentar el materi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Ser claro e ir “al grano” con las explicaciones (presentar sólo lo relevante!!!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Clarificar las dudas de los revisores (“ir al grano”!!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No debe mostrar una actitud de protección hacia su trabaj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 algn="just">
              <a:spcBef>
                <a:spcPts val="649"/>
              </a:spcBef>
              <a:spcAft>
                <a:spcPts val="1301"/>
              </a:spcAft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revisores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n: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repararse para la revis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Identificar errores durante la revis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visar el trabajo, no al autor…. y ser constructivos !!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1280" y="1619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Al final de la caminata (Walkthrough)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 </a:t>
            </a:r>
            <a:r>
              <a:rPr b="0" i="1" lang="es-CL" sz="2000" spc="-1" strike="noStrike" u="sng">
                <a:solidFill>
                  <a:srgbClr val="40458c"/>
                </a:solidFill>
                <a:uFillTx/>
                <a:latin typeface="Tahoma"/>
              </a:rPr>
              <a:t>determinarse el grado de aprobación del documen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l status (aprob/desaprob) debe constar en la lista de errores/deficiencias encontradas, y en el documen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 proveerse control de versiones sobre todos los documentos, especialmente los revisa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Segu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Registrador debe reportar los errores por escrito,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al moderador y al au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l autor debe corregir los errore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y notificar al moderador, de que esto se ha hech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uego, ser realizará una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reunión corta entre el moderador y el autor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terminar si los errores encontrados han sido corregi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segurarse que no se han introducido nuevos errores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oderador podría incluir revisores adicionale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 futuras reuniones, si él cree que se requiere experiencia técnica adicion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Inspe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8480" indent="-4384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Planific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Explicación Introductori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Prepar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Reunión de Inspec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Tercer Tiemp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orrec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8480" indent="-438480">
              <a:spcBef>
                <a:spcPts val="799"/>
              </a:spcBef>
              <a:buSzPct val="1131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eguimien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lanif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55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oderador (QAE) deb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Asegurar que el producto está list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 la inspe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Seleccionar al equip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inspección y asignar ro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stablecer el lugar, día y hor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la inspec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segurar que el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aterial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necesario para la inspección ha sido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istribuid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en tiempo y for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terminar si la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inspecc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l producto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puede ser hecha en una reun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o si se necesitarán má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terminar si los revisores están familiarizad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con el material a revis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xplicación Introductor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e planifica una explicación introductoria si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equipo de inspección no está familiarizado con el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producto es nuevo, o está siendo inspeccionado por primera vez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No se han hecho inspecciones en 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pa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751"/>
              </a:spcBef>
              <a:buSzPct val="1207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Los revisores deben: 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Chequear el documento contra los requisitos y los estándares, para asegurar su cumplimient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Registrar los defectos en la preparación del documento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Identificar ALERTA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 algn="just">
              <a:lnSpc>
                <a:spcPct val="90000"/>
              </a:lnSpc>
              <a:spcBef>
                <a:spcPts val="751"/>
              </a:spcBef>
              <a:buSzPct val="1207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El moderador debe: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Revisar las observaciones de cada reviso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Identificar posibles focos de problemas, que necesiten atención extra durante la inspecc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Reprogramar una inspección, si el equipo de inspectores no está lo suficientemente preparado, o si tienen problemas de disponibilidad para asistir a la reun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unión de Inspec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5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ímite de tiempo:  90 minu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15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spues de la reunión, el moderador y el autor se reunen (brevemente) para estimar el esfuerzo de corrección, y la fecha de la siguiente reunión (Caminata/Auditoría/etc.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150000"/>
              </a:lnSpc>
              <a:spcBef>
                <a:spcPts val="799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e le entrega al autor una lista de los defectos encontrados, para que le sirva como guía de corrección.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unión de Inspec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l final de la reunión deb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sumirse el número y tipo de defectos encontrados, y el moderador y/o el equipo de trabajo determinará cuando será necesaria otra inspección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l moderador debe determinar si el tercer tiempo es necesario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Si el tercer tiempo es necesario, entonces se le asignan tareas individuales a los inspector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tenid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5791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onsideraciones Genera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Revisiones (entre pare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Auditorí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aminatas (Walkthrough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Inspecc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unión de Inspec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registrador deb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gistrar los temas no resueltos, para ser tratados durante el tercer tiempo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gistrar cada defecto, su ubicación, una breve descripción del defecto/error, el tipo de defecto al que pertenece, y el inspector que lo encontró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Construir la lista de defectos encontrados durante la inspecc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Tercer Tiemp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Tiempo usado pa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iscusion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nalizar Posibles Solucion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errar temas Abier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Revisar los Defectos Encontrado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(documentándol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rre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autor corrige los defectos encontr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os defectos menores deben ser corregidos, sólo si los costos y tiempos lo permiten (aunque deben ser agendados).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moderador debe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segurarse que todos los aspectos relacionados con un defecto, han sido considerados por el au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Segu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unión corta entre el moderador y el autor para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terminar si los errores encontrados han sido corregi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segurarse que no se han introducido nuevos errores.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moderador podría incluir revisores adicionales para futuras reuniones, si él cree que se requiere experiencia técnica adicio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…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TFs  ayudan 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Mantener el control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Publicitar el estado de avance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Identificar falencias y/o riesg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Generar nuevas ideas, y considerar otros puntos de vis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Generar casos de prueb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vanzar sobre una base sóli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tc…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or lo tanto, hágalas periódicamente.... pero no abuse, las RTF son un medio, no un fi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483920"/>
            <a:ext cx="807732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evisiones de software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sirven para validar la calidad y/o el estado de un producto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e producto a revisar puede ser un documento,  un módulo, un prototipo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xisten distinto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tipos de revisione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 Cada una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especializad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en un determinado producto / escen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evisione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yudan a encontrar falencias, y a identificar riesgo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que serían difíciles de encontrar de otra maner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evisiones son necesarias…. Hágalas !!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sideracione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26560" y="1557360"/>
            <a:ext cx="80773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5600" indent="-43560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Lea (y respete) el manual sobre “Protocolos de Comunicación entre miembros del Proyecto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e </a:t>
            </a:r>
            <a:r>
              <a:rPr b="0" i="1" lang="es-CL" sz="3200" spc="-1" strike="noStrike" u="sng">
                <a:solidFill>
                  <a:srgbClr val="40458c"/>
                </a:solidFill>
                <a:uFillTx/>
                <a:latin typeface="Tahoma"/>
              </a:rPr>
              <a:t>revisa el trabajo, NO al autor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e </a:t>
            </a:r>
            <a:r>
              <a:rPr b="0" i="1" lang="es-CL" sz="3200" spc="-1" strike="noStrike" u="sng">
                <a:solidFill>
                  <a:srgbClr val="40458c"/>
                </a:solidFill>
                <a:uFillTx/>
                <a:latin typeface="Tahoma"/>
              </a:rPr>
              <a:t>buscan defectos, NO formas de implementar sus ideas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iga las instrucciones del moderador, y los tiempos asignados a cada activida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Las </a:t>
            </a:r>
            <a:r>
              <a:rPr b="0" i="1" lang="es-CL" sz="3200" spc="-1" strike="noStrike" u="sng">
                <a:solidFill>
                  <a:srgbClr val="40458c"/>
                </a:solidFill>
                <a:uFillTx/>
                <a:latin typeface="Tahoma"/>
              </a:rPr>
              <a:t>críticas destructivas, NO benefician a nadie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visiones (entre pare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49080" y="1557360"/>
            <a:ext cx="8459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1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Generalmente están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orientadas al Código Fu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2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u objetivo e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detectar Errores o Problemas de Lógica y de Programación en forma tempran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3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suntos a Revisar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Correctitu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Variables en Desus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Funciones Omiti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ráctica de Programación Pobr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dundanc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dhesión al Estándar de Escritura de Códig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SzPct val="150784"/>
              <a:buBlip>
                <a:blip r:embed="rId4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ímite de Tiempo: 60 min. (por sesió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Auditorí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80773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visión Formal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su objetivo 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valuar el nivel de conformidad con estándares y pla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ontrolar que se han hecho los cambios programa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uditar el proyecto… en forma interna o exter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uditor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es el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sponsable de verificar el proceso de auditorí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y la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cciones derivada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 és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ímite de Tiempo: 60 min. (por sesión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Walkthrough (Caminata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Las Caminatas involucran tres fas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21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Planificación (preparació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21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Ejecución (revisió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21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eguimiento (post-revisió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lanif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08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6600" indent="-426600" algn="just">
              <a:lnSpc>
                <a:spcPct val="80000"/>
              </a:lnSpc>
              <a:spcBef>
                <a:spcPts val="774"/>
              </a:spcBef>
              <a:spcAft>
                <a:spcPts val="1162"/>
              </a:spcAft>
              <a:buSzPct val="1130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Las </a:t>
            </a:r>
            <a:r>
              <a:rPr b="0" i="1" lang="es-CL" sz="3100" spc="-1" strike="noStrike" u="sng">
                <a:solidFill>
                  <a:srgbClr val="40458c"/>
                </a:solidFill>
                <a:uFillTx/>
                <a:latin typeface="Tahoma"/>
              </a:rPr>
              <a:t>caminatas deben ser bien planificadas</a:t>
            </a: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, y con suficiente anterioridad (una semana) por un Quality Assurance Engineer (QAE).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marL="426600" indent="-426600" algn="just">
              <a:lnSpc>
                <a:spcPct val="80000"/>
              </a:lnSpc>
              <a:spcBef>
                <a:spcPts val="774"/>
              </a:spcBef>
              <a:spcAft>
                <a:spcPts val="1162"/>
              </a:spcAft>
              <a:buSzPct val="1130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El QAE enviará una invitación a los participantes, vía mail. 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marL="426600" indent="-426600" algn="just">
              <a:lnSpc>
                <a:spcPct val="80000"/>
              </a:lnSpc>
              <a:spcBef>
                <a:spcPts val="774"/>
              </a:spcBef>
              <a:spcAft>
                <a:spcPts val="1162"/>
              </a:spcAft>
              <a:buSzPct val="1130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0" i="1" lang="es-CL" sz="3100" spc="-1" strike="noStrike" u="sng">
                <a:solidFill>
                  <a:srgbClr val="40458c"/>
                </a:solidFill>
                <a:uFillTx/>
                <a:latin typeface="Tahoma"/>
              </a:rPr>
              <a:t>roles que deberán estar presentes</a:t>
            </a: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 son: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Moderad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u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2 a 3 Reviso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gistrador(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lanifica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81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 algn="just">
              <a:lnSpc>
                <a:spcPct val="110000"/>
              </a:lnSpc>
              <a:spcBef>
                <a:spcPts val="751"/>
              </a:spcBef>
              <a:spcAft>
                <a:spcPts val="1500"/>
              </a:spcAft>
              <a:buSzPct val="1131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000" spc="-1" strike="noStrike" u="sng">
                <a:solidFill>
                  <a:srgbClr val="40458c"/>
                </a:solidFill>
                <a:uFillTx/>
                <a:latin typeface="Tahoma"/>
              </a:rPr>
              <a:t>Expertos externos pueden</a:t>
            </a: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 eventualmente </a:t>
            </a:r>
            <a:r>
              <a:rPr b="0" i="1" lang="es-CL" sz="3000" spc="-1" strike="noStrike" u="sng">
                <a:solidFill>
                  <a:srgbClr val="40458c"/>
                </a:solidFill>
                <a:uFillTx/>
                <a:latin typeface="Tahoma"/>
              </a:rPr>
              <a:t>ser invitados a la revisiones</a:t>
            </a: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, sólo cuando se requiera conocimientos especializados, con respecto a algún tema. 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517320" indent="-517320" algn="just">
              <a:lnSpc>
                <a:spcPct val="110000"/>
              </a:lnSpc>
              <a:spcBef>
                <a:spcPts val="751"/>
              </a:spcBef>
              <a:spcAft>
                <a:spcPts val="1500"/>
              </a:spcAft>
              <a:buSzPct val="1131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Límite de tiempo: 90 minutos aprox.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517320" indent="-517320" algn="just">
              <a:lnSpc>
                <a:spcPct val="110000"/>
              </a:lnSpc>
              <a:spcBef>
                <a:spcPts val="751"/>
              </a:spcBef>
              <a:spcAft>
                <a:spcPts val="1500"/>
              </a:spcAft>
              <a:buSzPct val="1131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Incluye: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lvl="1" marL="968400" indent="-277200" algn="just">
              <a:lnSpc>
                <a:spcPct val="11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Reunir y distribuir el material (48hs antes).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68400" indent="-277200" algn="just">
              <a:lnSpc>
                <a:spcPct val="11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oordinar el día y hora de la camina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18:46:50Z</dcterms:created>
  <dc:creator>Sergio Ochoa</dc:creator>
  <dc:description/>
  <dc:language>en-US</dc:language>
  <cp:lastModifiedBy>Sergio F. Ochoa</cp:lastModifiedBy>
  <cp:lastPrinted>2002-05-02T12:05:49Z</cp:lastPrinted>
  <dcterms:modified xsi:type="dcterms:W3CDTF">2005-09-01T16:43:19Z</dcterms:modified>
  <cp:revision>41</cp:revision>
  <dc:subject/>
  <dc:title>Software Technical Reviews</dc:title>
</cp:coreProperties>
</file>