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DCF-52FA-4EF7-88CC-8CF877F7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D47-6E68-4050-913D-9D92993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CEE-43AB-47FE-85D0-9DF4DC5B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610-1313-4764-B42A-13E3ECC4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8EA-D5BC-40E6-8C70-8405641D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7330-F391-46C8-8227-F332CE60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0391-1A0C-4F6E-BF90-93008817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9A1C-EECD-4424-9B46-3ADBC0C5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4BA1-8B09-4E8B-A6CF-0B31CEE4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7B2C-0A2E-4540-8893-7FD94B80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4734-3375-485C-9A20-72D89DD0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3B2-55C7-4334-A0BC-57758FB6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80AF-F51B-45EF-B7EE-E875078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1B7F-AD71-40E0-9A6D-8182BE5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C1FF-1C7D-43CB-9424-04875A48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AE85-DDD7-4BA1-B98F-A7109117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9101-21D8-452D-80A0-9A089E6A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203-6935-4F21-9817-14F84A3B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187-ABB4-47D2-B8B9-01FE9B92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9A4-D979-431E-8531-FAAEBA11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298-E4BB-4C34-8AF3-57E33182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44C-6A7C-437D-98B7-FB7C1475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E37-1FEE-4883-A82D-AEA9EE1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F18-1F7D-428E-BED5-84298354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F755-62F5-4A38-B17F-C54EB766C9D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FE1D-C6D1-49F6-9E72-087522A8612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r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es de la reunión, el moderador y el autor se reu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le entrega al autor una lista de los defectos encontrados,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.... pero no abuse,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5-09-01T16:43:19Z</dcterms:modified>
  <cp:revision>41</cp:revision>
  <dc:subject/>
  <dc:title>Software Technical Reviews</dc:title>
</cp:coreProperties>
</file>