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8BA-2DFB-42AB-8756-12BFEF3F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40B-B27A-4CD7-A0EC-99EC2592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CF3-053F-45AB-9A67-5F7FD4D4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BE1-583A-443B-923E-F51BC373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FFC7-B99C-4C9A-B340-84886C51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0530-64AF-46BA-9FC9-8D102216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272E-A3F9-43C7-8C96-9B91C02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8F9F-40DE-4146-9133-ED8555A9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75C9-4953-455E-8DAE-B7C496EA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2121-8948-42FD-BFF2-A2D2A082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6BA5-B130-4AA2-904F-AB1C85D7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F4D-9692-4016-947E-A4AB7127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FBDE-9A0E-49FE-92C1-33FBF5DD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9733-EE7E-4EA6-80ED-B9CF0C23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60BE-13DA-441E-ABA1-D1FC6713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A980-BD60-4503-9FBB-04CE6125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8C5A-F6ED-415E-929C-5AC4633C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02F-D8D9-4D57-9FB2-C4BE35FB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555-E605-4E3C-BB94-25120E89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A770-1C08-41E9-957F-C9B44047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084-5364-4B9C-B10E-43AE8373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B3C-B0FC-4488-AC3E-D4E59B1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228-C13B-4B6C-95ED-CCB3B5DC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62F-D179-4104-9936-D4CED51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4FBD-B421-4C05-A923-D2E632A16FA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00F2-74D3-4917-8D50-7B89BBF1358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r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es de la reunión, el moderador y el autor se reu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le entrega al autor una lista de los defectos encontrados,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.... pero no abuse,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5-09-01T16:43:19Z</dcterms:modified>
  <cp:revision>41</cp:revision>
  <dc:subject/>
  <dc:title>Software Technical Reviews</dc:title>
</cp:coreProperties>
</file>