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15C8-1183-44D6-ABA7-68731E66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DAB7-F03E-44E8-988F-4329FA06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A118-85EC-45AF-AF00-FCDF83CA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0C00-5439-493B-953B-C036C93B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5CDB-1846-4C6B-B968-739738FB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624E-65B3-4380-A74E-94765E89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4057-09FA-4998-A157-97EFCD12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1C34-02E2-445C-9AC8-E2B47B63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8457-4668-4D6A-9EF1-CE6B9D5B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7680-ECD4-4B39-AB6E-07303B1B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742F-CF9B-4EAE-99FA-9C631A8C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EDBD-D3F7-49AC-BCBD-0DF86F0C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FD07-028D-4F66-8099-9CB5619E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118E-A58E-494F-A3BB-FF49EC46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C328-995E-4CAA-A8C6-8983735C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6B82-46A1-422E-B471-9321A1E0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BE2F-6B77-4C4B-9B01-850353DF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F937-9D91-4B73-9854-42483B75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C296-82E0-465A-9F82-110FB53D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8735-DBEA-43BA-B91F-6F2BA659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E726-0E75-4601-8B45-F0D8D3F2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865-CF1A-4664-B7A9-D564EE5A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EF16-E029-49FE-B933-1E6026DA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3F14-B655-40D9-A98B-54E26FE7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A02A-B799-4534-8D38-CF299ACDEA91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C9A4-C614-492D-82FA-9C5A9F4924C0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Software Technical Revi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40458c"/>
                </a:solidFill>
                <a:latin typeface="Tahoma"/>
              </a:rPr>
              <a:t>Sergio Ocho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49"/>
              </a:spcBef>
              <a:spcAft>
                <a:spcPts val="975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moder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terminar si todos están preparad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Guiar la caminata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rbitrar los medios para obtener conclusiones útiles, de los desacuerdos o errores encontrad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just">
              <a:spcBef>
                <a:spcPts val="649"/>
              </a:spcBef>
              <a:spcAft>
                <a:spcPts val="975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registr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Tomar notas de los defectos y de los cursos de acción a seguir. Con esto generará una lista que se les entregará a los participant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á comentarios menores como observaciones sobre: fonts, gramática, puntuación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odría ser útil grabar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1280" y="148572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49"/>
              </a:spcBef>
              <a:spcAft>
                <a:spcPts val="1301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autor/present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esentar el materi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er claro e ir “al grano” con las explicaciones (presentar sólo lo relevante!!!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larificar las dudas de los revisores (“ir al grano”!!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No debe mostrar una actitud de protección hacia su trabaj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spcBef>
                <a:spcPts val="649"/>
              </a:spcBef>
              <a:spcAft>
                <a:spcPts val="1301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revisores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n: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epararse para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Identificar errores durante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visar el trabajo, no al autor…. y ser constructivos !!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128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l final de la caminata (Walkthrough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</a:t>
            </a:r>
            <a:r>
              <a:rPr b="0" i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determinarse el grado de aprobación del documen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status (aprob/desaprob) debe constar en la lista de errores/deficiencias encontradas, y en el docu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proveerse control de versiones sobre todos los documentos, especialmente los revisa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gistrador debe reportar los errores por escrito,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al moderador y a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l autor debe corregir los error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notificar al moderador, de que esto se ha hech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uego, ser realizará una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unión corta entre el moderador y el auto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terminar si los errores encontrados han sido corregi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segurarse que no se han introducido nuevos errores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oderador podría incluir revisores adicional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futuras reuniones, si él cree que se requiere experiencia técnica adicion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Inspe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8480" indent="-438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lanifi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xplicación Introductor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repar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eunión de Inspec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Tercer Tiemp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rrec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guimien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55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oderador (QAE) deb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segurar que el producto está list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la inspe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Seleccionar al equip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inspección y asignar ro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stablecer el lugar, día y hor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la inspe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 que 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teri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necesario para la inspección ha sido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istribui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 tiempo y for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terminar si la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inspecc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producto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uede ser hecha en una reun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o si se necesitarán má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terminar si los revisores están familiarizad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con el material a revis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xplicación Introducto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 planifica una explicación introductoria si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quipo de inspección no está familiarizado con 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oducto es nuevo, o está siendo inspeccionado por primera vez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No se han hecho inspecciones en 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Los revisores deben: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Chequear el documento contra los requisitos y los estándares, para asegurar su cumplimient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gistrar los defectos en la preparación del documento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dentificar ALERTA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El moderador debe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visar las observaciones de cada revis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dentificar posibles focos de problemas, que necesiten atención extra durante la inspec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programar una inspección, si el equipo de inspectores no está lo suficientemente preparado, o si tienen problemas de disponibilidad para asistir a la reun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5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ímite de tiempo:  90 minu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spues de la reunión, el moderador y el autor se reunen (brevemente) para estimar el esfuerzo de corrección, y la fecha de la siguiente reunión (Caminata/Auditoría/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150000"/>
              </a:lnSpc>
              <a:spcBef>
                <a:spcPts val="799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le entrega al autor una lista de los defectos encontrados, para que le sirva como guía de corrección.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l final de la reunión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sumirse el número y tipo de defectos encontrados, y el moderador y/o el equipo de trabajo determinará cuando será necesaria otra inspección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moderador debe determinar si el tercer tiempo es necesario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i el tercer tiempo es necesario, entonces se le asignan tareas individuales a los inspecto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teni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5791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nsideraciones Gener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evisiones (entre par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Auditorí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aminatas (Walkthrough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Inspec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registrador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 los temas no resueltos, para ser tratados durante el tercer tiemp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 cada defecto, su ubicación, una breve descripción del defecto/error, el tipo de defecto al que pertenece, y el inspector que lo encontró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onstruir la lista de defectos encontrados durante la inspecc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Tercer Tiemp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iempo usado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iscusio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nalizar Posibles Solucio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errar temas Abier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visar los Defectos Encontrado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(documentándol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rre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autor corrige los defectos encontr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os defectos menores deben ser corregidos, sólo si los costos y tiempos lo permiten (aunque deben ser agendados)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moderador debe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se que todos los aspectos relacionados con un defecto, han sido considerados por e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unión corta entre el moderador y el autor para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terminar si los errores encontrados han sido corregi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se que no se han introducido nuevos errores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moderador podría incluir revisores adicionales para futuras reuniones, si él cree que se requiere experiencia técnica adi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…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TFs  ayudan 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Mantener el control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Publicitar el estado de avance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dentificar falencias y/o riesg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Generar nuevas ideas, y considerar otros puntos de vi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Generar casos de prueb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vanzar sobre una base sóli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tc…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or lo tanto, hágalas periódicamente.... pero no abuse, las RTF son un medio, no un fi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483920"/>
            <a:ext cx="807732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de softwar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sirven para validar la calidad y/o el estado de un product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producto a revisar puede ser un documento,  un módulo, un prototip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xisten distinto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tipos de revisione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 Cada una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pecializad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n un determinado producto / escen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yudan a encontrar falencias, y a identificar riesgo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que serían difíciles de encontrar de otra mane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son necesarias…. Hágalas !!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sideracione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80773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5600" indent="-43560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Lea (y respete) el manual sobre “Protocolos de Comunicación entre miembros del Proyecto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 </a:t>
            </a:r>
            <a:r>
              <a:rPr b="0" i="1" lang="es-CL" sz="3200" spc="-1" strike="noStrike" u="sng">
                <a:solidFill>
                  <a:srgbClr val="40458c"/>
                </a:solidFill>
                <a:uFillTx/>
                <a:latin typeface="Tahoma"/>
              </a:rPr>
              <a:t>revisa el trabajo, NO al autor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 </a:t>
            </a:r>
            <a:r>
              <a:rPr b="0" i="1" lang="es-CL" sz="3200" spc="-1" strike="noStrike" u="sng">
                <a:solidFill>
                  <a:srgbClr val="40458c"/>
                </a:solidFill>
                <a:uFillTx/>
                <a:latin typeface="Tahoma"/>
              </a:rPr>
              <a:t>buscan defectos, NO formas de implementar sus ideas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iga las instrucciones del moderador, y los tiempos asignados a cada activida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0" i="1" lang="es-CL" sz="3200" spc="-1" strike="noStrike" u="sng">
                <a:solidFill>
                  <a:srgbClr val="40458c"/>
                </a:solidFill>
                <a:uFillTx/>
                <a:latin typeface="Tahoma"/>
              </a:rPr>
              <a:t>críticas destructivas, NO benefician a nadie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visiones (entre pare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49080" y="1557360"/>
            <a:ext cx="8459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Generalmente están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orientadas al Código Fu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u objetivo e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etectar Errores o Problemas de Lógica y de Programación en forma tempran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3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suntos a Revisar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orrectitu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Variables en Desus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Funciones Omit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áctica de Programación Pob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dundanc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dhesión al Estándar de Escritura de Códig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4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ímite de Tiempo: 60 min. (por ses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Auditorí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773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visión Formal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su objetivo 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valuar el nivel de conformidad con estándares y pla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ontrolar que se han hecho los cambios programa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uditar el proyecto… en forma interna o exter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udit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s el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sponsable de verificar el proceso de auditorí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y la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cciones derivada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és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ímite de Tiempo: 60 min. (por sesió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Walkthrough (Caminata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Las Caminatas involucran tres fas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lanificación (preparac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jecución (revis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guimiento (post-revis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0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0" i="1" lang="es-CL" sz="3100" spc="-1" strike="noStrike" u="sng">
                <a:solidFill>
                  <a:srgbClr val="40458c"/>
                </a:solidFill>
                <a:uFillTx/>
                <a:latin typeface="Tahoma"/>
              </a:rPr>
              <a:t>caminatas deben ser bien planificadas</a:t>
            </a: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, y con suficiente anterioridad (una semana) por un Quality Assurance Engineer (QAE).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El QAE enviará una invitación a los participantes, vía mail. 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CL" sz="3100" spc="-1" strike="noStrike" u="sng">
                <a:solidFill>
                  <a:srgbClr val="40458c"/>
                </a:solidFill>
                <a:uFillTx/>
                <a:latin typeface="Tahoma"/>
              </a:rPr>
              <a:t>roles que deberán estar presentes</a:t>
            </a: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 son: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Moderad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u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2 a 3 Revis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gistrador(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81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000" spc="-1" strike="noStrike" u="sng">
                <a:solidFill>
                  <a:srgbClr val="40458c"/>
                </a:solidFill>
                <a:uFillTx/>
                <a:latin typeface="Tahoma"/>
              </a:rPr>
              <a:t>Expertos externos pueden</a:t>
            </a: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 eventualmente </a:t>
            </a:r>
            <a:r>
              <a:rPr b="0" i="1" lang="es-CL" sz="3000" spc="-1" strike="noStrike" u="sng">
                <a:solidFill>
                  <a:srgbClr val="40458c"/>
                </a:solidFill>
                <a:uFillTx/>
                <a:latin typeface="Tahoma"/>
              </a:rPr>
              <a:t>ser invitados a la revisiones</a:t>
            </a: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, sólo cuando se requiera conocimientos especializados, con respecto a algún tema.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517320" indent="-5173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Límite de tiempo: 90 minutos aprox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517320" indent="-5173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Incluye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968400" indent="-277200" algn="just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unir y distribuir el material (48hs antes)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68400" indent="-277200" algn="just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oordinar el día y hora de la camina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8:46:50Z</dcterms:created>
  <dc:creator>Sergio Ochoa</dc:creator>
  <dc:description/>
  <dc:language>en-US</dc:language>
  <cp:lastModifiedBy>Sergio F. Ochoa</cp:lastModifiedBy>
  <cp:lastPrinted>2002-05-02T12:05:49Z</cp:lastPrinted>
  <dcterms:modified xsi:type="dcterms:W3CDTF">2005-09-01T16:43:19Z</dcterms:modified>
  <cp:revision>41</cp:revision>
  <dc:subject/>
  <dc:title>Software Technical Reviews</dc:title>
</cp:coreProperties>
</file>