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F71-0B9A-4388-A723-B2337C2F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291-12CF-44F0-935E-6D7D3F60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CFB-8DE1-42F8-BEB7-930EFF9D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DBD-E4A7-4C6A-A2E6-6F56C41E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B464-44F2-4F41-821C-01EB9037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D29F-7427-4CC3-BC5F-F792B5A5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4055-781D-4432-9D29-B0D6467A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8B26-7B45-421D-9CF3-5BF05492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F259-0FE3-447A-8E64-AF8538FC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B372-AEAC-452C-96AE-06E76569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EA2A-E743-4BA8-8A0A-E31A60C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89F-1B2B-4DAC-B13F-348E69B2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C91D-F1E3-4BE0-8DC2-69799AD7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B9ED-A56C-4223-961E-97199B2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6557-A165-4779-B9E2-CA9C5227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8AED-EA4E-402F-A983-79F1DAFA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C3E8-ECB8-43F4-8CD1-740B356E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626-CE2C-441C-A2A3-4F11D4DA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DD5-2FC9-4791-98EB-4924D6DF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E67-595D-4F46-9A74-8DDF71F6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5E7-55EC-4C42-8E12-6D8B317C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C56-E272-4E2E-B7FC-EEFBE568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F85-ADE8-4F79-9D0E-A18C176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3A7-FAE8-4FB3-965C-E3DE4959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4102-7CCA-42FC-9ACE-EA054773CA8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C0B4-222B-48AD-8027-B2769C319A02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r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es de la reunión, el moderador y el autor se reu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le entrega al autor una lista de los defectos encontrados,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.... pero no abuse,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5-09-01T16:43:19Z</dcterms:modified>
  <cp:revision>41</cp:revision>
  <dc:subject/>
  <dc:title>Software Technical Reviews</dc:title>
</cp:coreProperties>
</file>