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459-AE59-4590-A3BB-6D5D4D6B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DB0-C14F-49BB-97C9-E50CCAE4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DBA-A730-4D6D-9EC1-4C12C0A6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2243-AEA2-46B2-82A3-3FE4355B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177B-FB1B-42B6-B10F-5AE88E69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78E2-6917-4808-BB1C-5BA82600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B76E-1B31-4D04-8A23-DBBDA78B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6FB1-DB77-4B40-855E-D5F9A800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AE02-62FC-4761-A30F-3DC050D3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D22F-EA82-4FD3-8F76-5088729E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4D90-A216-42E9-BF64-8D6B3E4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133-AE99-4315-91D2-5B856E22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8FEE-B4B8-45FA-9F1E-1929645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16D4-AD6A-49A8-9873-1250BC5A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B91E-A073-4024-89EC-3A0AACD1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A6E4-6F4C-4530-AAFF-BD32724B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BE0F-3B73-40A0-B396-FE3FD0B3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E8D-1FC0-4E64-9D25-E22AA954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D13-18F8-45B7-BC8F-62B1E93F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920-A3D7-4355-B320-882CC216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36C7-DE38-4447-8BFA-66D7137A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DD27-363E-4AB3-B50C-064736FC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CEB-1B0B-4E41-AA61-973E27CF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895-282D-44B3-AACA-52B9FBB1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4E6E-5B2B-4580-A3EE-935ADB7940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3652-0359-4695-B3AE-9456F57667E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es importante saber entrevist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información debe capturar el entrevistador en la primera entrevi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debería grabar las entrevista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U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S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Tiene sentido construir 2 Documentos de Requisi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ree que las Revisiones de Software son realmente necesarias? 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caso afirmativo, ¿Qué tipo de Revisión utilizaría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Ochoachoa</cp:lastModifiedBy>
  <dcterms:modified xsi:type="dcterms:W3CDTF">2001-09-24T15:27:31Z</dcterms:modified>
  <cp:revision>13</cp:revision>
  <dc:subject/>
  <dc:title>CC51A – Ingeniería de Software</dc:title>
</cp:coreProperties>
</file>