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3964-6EBA-4A72-8546-9608DD7FF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7F10-F99D-4AF8-B186-BE5202EA3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3D40-8F92-4D2D-A62E-6515130F6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D498-6953-46F5-9A94-657333EC1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EBC3F-D831-4FA3-A3CB-8B2225D08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26903-3484-4FDE-9BDA-8A619EBFE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D59CA-66E0-4BC4-8DDE-D76C5BDDF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A295A-B0DD-48C6-9FA1-C8433ED1E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DFBCF-784C-4C6A-A46B-32976961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18BE3-C44D-4447-98AA-1F1D54806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E5809-5F14-4F9A-8F1F-E49EDAE1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D8EE-4B0F-43DB-9F58-F02EF173B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B9800-9B33-4957-A80B-3FD85F5E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30EBC-366D-47F4-991B-6A95CB51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B4CA1-DCDD-44E9-B11D-D384A1A49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B8090-C9A2-4F5A-81CC-DFA144FD0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E9E83-C9D9-4B84-94E3-977C08651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BF46-C43D-4031-A429-CFC346C18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FF6C-B553-4F8C-B5D5-BFC63C2D1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5345-8E81-4AA9-A38E-0653CA130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B59C-D283-4056-9156-A0C75772E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9E22-E6D2-4F12-81FD-256CAB8C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A6C4-ED75-4333-B836-A0942E2F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C447-42DE-4F4A-805E-0D153509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1983B-CC6B-4704-8560-D6FE9EF5C8C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34E27-A9A2-4E56-8DE3-86881E6CA54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458c"/>
                </a:solidFill>
                <a:latin typeface="Tahoma"/>
              </a:rPr>
              <a:t>Discusión sobre el Capítulo 3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Por qué es importante saber entrevistar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información debe capturar el entrevistador en la primera entrevista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Por qué debería grabar las entrevista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debería expresar el URD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debería expresar el SRD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Tiene sentido construir 2 Documentos de Requisito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ree que las Revisiones de Software son realmente necesarias? Por qué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En caso afirmativo, ¿Qué tipo de Revisión utilizaría?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7:44:22Z</dcterms:created>
  <dc:creator>Mercedario</dc:creator>
  <dc:description/>
  <dc:language>en-US</dc:language>
  <cp:lastModifiedBy>Sergio Ochoachoa</cp:lastModifiedBy>
  <dcterms:modified xsi:type="dcterms:W3CDTF">2001-09-24T15:27:31Z</dcterms:modified>
  <cp:revision>13</cp:revision>
  <dc:subject/>
  <dc:title>CC51A – Ingeniería de Software</dc:title>
</cp:coreProperties>
</file>