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92F4-4BBC-4EC5-AAC6-268CF7861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5904-6FD3-471D-A44A-AA2DAA9A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E735-505A-43C1-B8C4-7CE223AAA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C580-1575-4E42-8343-F25374E04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0812-D92A-496E-BE3A-9B9CE46B2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B6F1-9EE7-4451-A4A2-D5149367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584E-B2C7-4919-BD23-79341ECB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EA32-04DE-4137-BB5C-B32AF565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F787-0994-475D-9DB0-0A4CC27B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56CA-FB79-40FC-9E54-4C455439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1447-A01A-497A-8295-0B71A813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C025-69F7-4081-916B-86598A50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EA5E-6445-435F-B109-1A44F997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AB59-2AE8-4767-9D63-D549345B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6787-FCF2-4436-80AC-8E58673F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CBC8-FC85-44CD-99A4-ACDE16C3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10DC-1574-43CB-BC67-4F2C6A4DD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85CB-E2A8-49F7-89BF-AF99564A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E9FA-F29F-4A21-A70D-BF163174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4E48-9B0F-46C8-BC6F-4730FF13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2AC5-F163-44C2-93E9-C33B9F05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E03D-DB2D-4F8F-BEAE-3F634114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53A6-418A-470A-A2D6-2F0D2258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DC6C-57D9-42CF-855F-8DD5C6ED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00DE-3F53-43AE-B490-F64179DAEE4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594F-ED83-4136-83AA-71520FCC48D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301920"/>
            <a:ext cx="70358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Requisitos y Calidad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83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s 4/5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quisitos Vagos.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Consecuencia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No podemos demostrar que hemos logrado los objetiv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No podemos demostrar que no los hemos lograd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No podemos evaluar alternativas de diseñ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e termina especificando medios y no fi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i hay más de una forma de expresar un objetivo, tal vez no es un objetivo, sino un medio para lograr algo. Por ej. la interfaz en VisualBasi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ipos de Requis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Requisitos de Usuario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xpresan las necesidades del usu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601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Requisitos de Software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xpresan las capacidades que debe tener el software, para poder satisfacer los requisitos del usu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r otra parte también está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quisitos Funcion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quisitos de Ca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quisitos de Restri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ipos de Requis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Requisitos Funcionales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indican </a:t>
            </a:r>
            <a:r>
              <a:rPr b="1" i="1" lang="es-ES" sz="2400" spc="-1" strike="noStrike">
                <a:solidFill>
                  <a:srgbClr val="40458c"/>
                </a:solidFill>
                <a:latin typeface="Tahoma"/>
              </a:rPr>
              <a:t>¿Qué?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Deben ser alcanzados si o sí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Requisitos de Ca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indican </a:t>
            </a:r>
            <a:r>
              <a:rPr b="1" i="1" lang="es-ES" sz="2400" spc="-1" strike="noStrike">
                <a:solidFill>
                  <a:srgbClr val="40458c"/>
                </a:solidFill>
                <a:latin typeface="Tahoma"/>
              </a:rPr>
              <a:t>¿Cuán bien?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 calidad final dependerá del logro de estos objetiv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Requisitos de Restricción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indican </a:t>
            </a:r>
            <a:r>
              <a:rPr b="1" i="1" lang="es-ES" sz="2400" spc="-1" strike="noStrike">
                <a:solidFill>
                  <a:srgbClr val="40458c"/>
                </a:solidFill>
                <a:latin typeface="Tahoma"/>
              </a:rPr>
              <a:t>¿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Con qué restricciones</a:t>
            </a:r>
            <a:r>
              <a:rPr b="1" i="1" lang="es-ES" sz="2400" spc="-1" strike="noStrike">
                <a:solidFill>
                  <a:srgbClr val="40458c"/>
                </a:solidFill>
                <a:latin typeface="Tahoma"/>
              </a:rPr>
              <a:t>?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. En función de costos, tiempos, personal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- Los requisitos más difíciles de especificar son los req. de ca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- Los requisitos funcionales y los de restricción, suelen especificarse bi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Tipos de Requis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 Usuar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Funciona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Restri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Funciona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Ca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Restri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Requisitos -&gt;Atributos del Soft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todos los requisitos de calidad pueden y deben ser especificados sin ambigüedades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los requisitos determinan los atributos del software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i un requisito está claramente expresado (por ej. terminar antes del 3/5/2001), se le da prioridad por sobre otros requisitos no tan claros (“más fácil”, “mejor”, “consistente”, “amigable”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i queremos que los datos sean consistentes (por ej.), debemos indicar a qu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é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le llamamos “consistente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Veamos el siguiente ejemplo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 de Especificac. de Req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NOMBRE: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istencia de Medi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ESCALA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Probabilidad de que dos mediciones básicas sean consisten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PRUEBA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1000 mediciones básicas comparadas usando 3 cifras significativ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CTUAL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entre 90% y 95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PEOR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98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PLANIFICADO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99.5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UTORIDAD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minuta del 20/12/2004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tro Ejemplo de Especificación de Requis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NOMBRE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sistencia de Da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ESCALA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Probabilidad de que se muestre un dato inconsistente, sin que se advierta su inconsistenci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UEBA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Sobre una base de datos 100% consistente, se ingresan inconsistencias hasta hacerla 98% inconsistente. Luego se cuentan los datos inconsistentes no detectado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ACTU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100% (no hay detección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EOR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5%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LANIFICADO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1%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AUTORIDAD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ntrevista con Usuario (05/12/2004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jemplos de Requisitos de Ca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tos atributos deberían ser revisados a la hora de especificar un sistema. Debido a que aparecen en la mayoría de el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tre los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Requisitos de Calidad Típicos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gura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371600" y="3962520"/>
          <a:ext cx="7391520" cy="2046240"/>
        </p:xfrm>
        <a:graphic>
          <a:graphicData uri="http://schemas.openxmlformats.org/drawingml/2006/table">
            <a:tbl>
              <a:tblPr/>
              <a:tblGrid>
                <a:gridCol w="3566520"/>
                <a:gridCol w="216000"/>
                <a:gridCol w="3609000"/>
              </a:tblGrid>
              <a:tr h="20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Funcionalidad: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ertinenci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recisión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nteroper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dherenci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egur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Usabilidad: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ntendi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prendi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Oper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ceptación de Uso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s de Requisitos de Calidad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tre los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Requisitos de Calidad Típicos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gura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295280" y="2438280"/>
          <a:ext cx="7391520" cy="2183040"/>
        </p:xfrm>
        <a:graphic>
          <a:graphicData uri="http://schemas.openxmlformats.org/drawingml/2006/table">
            <a:tbl>
              <a:tblPr/>
              <a:tblGrid>
                <a:gridCol w="3566520"/>
                <a:gridCol w="216000"/>
                <a:gridCol w="3609000"/>
              </a:tblGrid>
              <a:tr h="218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antenibilidad: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naliz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ambi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st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Demostr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ortabilidad: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dapt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nstanci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decuación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Reemplaz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1295280" y="4619520"/>
          <a:ext cx="7391520" cy="1668600"/>
        </p:xfrm>
        <a:graphic>
          <a:graphicData uri="http://schemas.openxmlformats.org/drawingml/2006/table">
            <a:tbl>
              <a:tblPr/>
              <a:tblGrid>
                <a:gridCol w="3566520"/>
                <a:gridCol w="216000"/>
                <a:gridCol w="3609000"/>
              </a:tblGrid>
              <a:tr h="166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ficiencia: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Rendimiento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Uso de Recurso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onfiabilidad: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adurez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olerancia a Falla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Recuper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quisitos Usuales Importan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requisitos de calidad antes mostrados, casi siempre deben ser especific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a lista de requisitos debería formar parte de la plantilla estánda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sí se disminuye el riesgo de no especificar requisitos obv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 más fácil acordarse de qué preguntar, o de negociar con el cliente en caso de ser neces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 nuevos empleados pueden aprender de cómo hacemos las cosas aquí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Introducción y principios básic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cal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alidad medible a través de los atribu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quisitos de Ca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Atributos crític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pecificación de atribu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Uso de Métric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quisitos Usuales Important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Funciona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nfia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Usa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ficienc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Manteni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orta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tos requisitos son conocidos como las “</a:t>
            </a: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ilidades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” de un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nciona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3160" indent="-4431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njunto de requisitos referidos a la existencia las capacidades de un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s capacidades que satisfacen necesidades expresas o implícitas de los 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us sub-requisitos s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31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lvl="1" marL="827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Pertinencia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a existencia de funciones apropiadas para las tareas especifica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27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Precisión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a capacidad de entregar resultados correctos o con un grado de error acotad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ncionalidad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Interoperabilidad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 habilidad de interactuar con determinados sistemas (No confundir con reemplazabilidad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Adherencia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 compatibilidad con estándares, convenciones o regula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Seguridad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 habilidad de prevenir uso no autorizado, tanto intencional como accidental, de programas y da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fiabi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capacidad de mantener un nivel adecuado de servicio, bajo ciertas condiciones y por cierto tiemp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us sub-requisitos s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Madurez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atributos relacionados con la frecuencia de fallas por errores del software, o bien con el porcentaje de tiempo que el sistema estará disponi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Tolerancia a Fallas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habilidad de funcionar aún después de ciertas fall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Recuper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capacidad, tiempo y costo para reestablecer un nivel de servicio, y recuperar datos después de una fall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Usabi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78800" indent="-4788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Atributos (o requisitos) relacionados con el esfuerzo de uso, y la evaluación del uso, realizada por los 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78800" indent="-4788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ntre sus sub-requisitos está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78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lvl="1" marL="84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Entendi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posibilidad de que los usuarios reconozcan los conceptos y su aplicabi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4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Aprendi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sfuerzo necesario para adquirir un determinado nivel de destrez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4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Oper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sfuerzo necesario para operar y controlar la operación del softwa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4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Agrado de uso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valuación subjetiva (encuesta) hecha por los usuari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antenibi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Atributos (o requisitos) relacionados con el esfuerzo de hacer modificacio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ntre sus sub-requisitos está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Analiz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sfuerzo de diagnosticar deficiencias o causas de fallas, o de identificar las partes a modifica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Cambi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sfuerzo de hacer un cambi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Est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riesgo de efectos inesperados por realizar un cambi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Demostr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sfuerzo de comprobar o validar la corre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ortabi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Habilidad de ser transferido de un ambiente a otr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ntre sus sub-requisitos está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Adapt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capacidad de adaptarse a otros ambientes usando los medios del softwa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Instal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sfuerzo de instalación en un determinado ambien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Adecuación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adherencia a estándares o convenciones de portabi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ortabilidad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1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Reemplazabilidad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posibilidad de ser usado en lugar de otro software, en el ambiente del otr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NOTAS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04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1- No debe confundirse con interoperabilidad (algunos llaman a ambos “compatibilidad”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204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2- La reemplazabilidad está relacionada con la instalabilidad y la adaptabilidad. Debido a su importancia, se pone por separ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fici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elación entre el nivel de rendimiento, y la cantidad de recursos usados, bajo ciertas condicion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Uso del Tiempo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requisitos relacionados con tiempos de respuesta, tiempos de procesamiento, o tasas de servicio (throughpu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Uso del Recursos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requisitos relacionados con el uso de recurs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25440" indent="-2214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antidad de recurs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225440" indent="-2214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Duración del u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quisitos Crít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chas veces hay requisitos tan importantes y conocidos, que por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obvio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nadie los dic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incipio de lo obvi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1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cosas obvias, que todos saben, no se pueden dejar que se cuiden solas...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requisito crítico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es aquel que si está fuera de control, amenaza la viabilidad de la solu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18640" indent="-271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olvidarse de 1 sólo requisito crítico puede ser suficiente para un desast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 requisito crítico puede ser de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calidad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funciona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o de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restricción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spectos Relevantes en Calidad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uando se habla de “calidad de software”, hay 2 aspectos que es necesario considera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-2826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Especificación de Requisitos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rata toda la problemática asociada a la especificación de requisitos completos, sin ambigüedades, y verifica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-2826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ocesos de Supervisión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ta la problemática asociada al proceso de supervisión de procesos y produ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 esta presentación nos abocaremos al primero de estos aspectos. El segundo especto lo veremos en el capítulo 4 (SQA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luciones, Medios y Fi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a </a:t>
            </a:r>
            <a:r>
              <a:rPr b="1" i="1" lang="en-US" sz="2800" spc="-1" strike="noStrike">
                <a:solidFill>
                  <a:srgbClr val="40458c"/>
                </a:solidFill>
                <a:latin typeface="Tahoma"/>
              </a:rPr>
              <a:t>solución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 un conjunto de ideas que si se implementan, tienen un impacto positivo en alguna parte del proble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soluciones son los medio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 requisitos son los fi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soluciones suelen tener impactos negativ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na solución es interesante sólo si sus impactos positivos son mayores que los negativ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evaluar una solución necesitamo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quisitos clar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dentificar los impactos positivos sobre los requisi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dentificar los impactos negativos y efectos latera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so de recurs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luciones y Requis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quisito Funcion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s un requisito absoluto, con dos posibles estados: verdadero o fal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quisito de Calidad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s un requisito que se puede expresar en una escala de medi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Solución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s una idea que de ser implementada, debería impactar en forma positiva a los requisi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labor del “Administrador de Proyectos” es hacer todo lo posible, para que la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solució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ncontrada satisfaga los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requisito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jetivos Escondid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chas especificaciones mencionan soluciones, pero esconden objetiv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grama escrito en C”, tal vez significa 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bajo costo de portar el softwar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Arriendo de un computador central en menos de $x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, tal vez significa que 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se cuenta con $x mensuales, para ese ítem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Servidor de BD replicado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, tal vez significa 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que la probabilidad de que los datos estén inaccesibles, sea menor que z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Función automatizad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, tal vez significa 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rápida y con poco errore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, o tal vez significa 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bajo costo de operació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ncipio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7720" y="188928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649"/>
              </a:spcBef>
              <a:buSzPct val="1131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La especificación de requisitos es o debería ser la piedra angular de la administración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49"/>
              </a:spcBef>
              <a:buSzPct val="1131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Expresa los objetivos de un sistema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 puede usar para describir sistemas existentes y sistemas futur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49"/>
              </a:spcBef>
              <a:buSzPct val="1131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Un atributo es un concepto de calidad que describe cualitativamente un sistema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49"/>
              </a:spcBef>
              <a:buSzPct val="1131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Una especificación de atributos es una lista de atributos, donde se especifica el nivel con el que se quiere alcanzar cada un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pecificación de Requisitos sirve para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presentar multiplicidad de vistas del sistema (desde el pto. de vista del usuario, del cliente, etc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gistrar” la historia de las necesidades (cambios y refinamiento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gistrar” las decisiones en cuanto a uso de recursos, prioridades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gistrar” objetivos (requisitos de calidad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gistrar” restricciones (atributos de recurso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Qué Requisitos Especificamos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odos.... especialmente los crític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veces “los atributos dependen mucho del problema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rmalmente debemos hacer una lista de atributos relevantes para cada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 importante revisar proyectos similares, que hayamos hecho, para chequear si nos falta algo importa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ntajas de Especificar Requis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4360" y="1676520"/>
            <a:ext cx="820872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0458c"/>
                </a:solidFill>
                <a:latin typeface="Tahoma"/>
              </a:rPr>
              <a:t>La especificación de requisitos es engorrosa, pero tiene varias ventajas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Para los Client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Certeza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Tienen más probabilidad de obtener lo que quier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Comparación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Las ofertas de distintos proveedores son compara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Clarificación: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e promueve una discusión temprana de los tem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Demostrabilidad: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erá más fácil determinar si los requisitos fueron o no cumpli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ntajas de Especificar Requisi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4000" y="1676520"/>
            <a:ext cx="8055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Para la Fuerza de Venta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erteza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Menor probabilidad de perder una propuesta por no entender los requisi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5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- Sabremos antes que la competencia qué es lo que se necesit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Imagen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Se nos percibirá como realmente interesados en saber qué es lo que se necesi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Manejo del Riesgo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abemos qué? y cuánto? se necesita. Se detectan riesgo en forma tempra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ontrol de Cambios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Podemos demostrar que nuevas solicitudes, deben ser tratadas como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cambi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laridad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Podemos hablar sin ambigüedades y sin doble sentido, sobr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51960" indent="-2214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as fortalezas de nuestra propuest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51960" indent="-2214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os resultados esperados, en lugar de promesas vaga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ntajas de Especificar Requisi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Para Desarrolladores y Subcontratista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demos basar las estimaciones en un entendimiento firme de los requisi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cliente no nos puede sorprender con requisitos más exigentes, sin estar dispuesto a pagar/negociar la diferenci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demos diseñar por objetivos, lo cual tiene más posibilidades de éxito, que hacer algo y ver si sirv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uedo ejercer un “control de cambios”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20492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osotros debemos tener la sartén por el mango, no el cliente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872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pecificar la calidad” no significa que mi software será de “buena calidad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pecificar la calidad” significa que conozco lo que debo entregar al cli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pecificar la calidad” significa que el cliente sabe lo que debo entrega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pecificar la calidad” significa que conozco mis limitaciones, por lo tanto puedo trabajar para superarl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pecificar la calidad” me ayuda a presentar presupuestos realistas, y a no perder diner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deas Relevantes..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alidad es la clave del éxito en el negocio del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a mejorar la productividad del software construido, hay que mejorar su cal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a mejorar la calidad del producto, hay que mejorar la calidad del proces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gestión es tan importante como la tecnologí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20120" indent="-4201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existe la posibilidad de desarrollar o comprar “un software de calidad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0120" indent="-4201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empre hay que especificar la calidad.... pero que eso no sea el centro de mi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0120" indent="-42012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caer en una “parálisis por análisis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0120" indent="-42012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os requisitos usuales, y preguntar por ellos !!!, siempre antes de entregar un presupues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0120" indent="-42012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se permitan ambigüedades... el cliente puede ser más vivo que ustedes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Qué es Calidad 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calidad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576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La totalidad de características y atributos de un producto o servicio, que están relacionados con satisfacer necesidades expresas o implícitas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76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lidad = Satisfac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576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alidad depende de la expectativas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Por Qué Necesito Calidad 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calidad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 un asunto de competitiv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 esencial para sobrevivi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 esencial para export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 rentab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tiene clientes y aumenta las util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entes de Baja Ca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quisitos imprecisos, mal entendidos o incomple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fectos en el software constru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fectos en el soporte prest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alta de monitoreo del proceso y del produ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oblemas de la Ing.de Soft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principal problema es: 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falta de claridad en los requisitos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queremos tener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éxito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debemos definir éxito en función d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s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laz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curs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atisfacción de Requisi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tc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Si los objetivos no están claros, no los alcanzaremos claramente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jemplos de Requisitos Vagos.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funcionalidad del nuevo sistema debe ser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ejor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que la del sistema anterior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nuevo sistema debe tener una interfaz en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Visual Basic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que lo haga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ás fáci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usar, en particular sin las dificultades de uso del sistema actual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sistema brindará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ejores reporte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modo que se pueda aprovechar al máximo la Base de Datos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sistema asegurará que los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dato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sean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correcto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8:23:22Z</dcterms:created>
  <dc:creator>Mercedario</dc:creator>
  <dc:description/>
  <dc:language>en-US</dc:language>
  <cp:lastModifiedBy>Sergio F. Ochoa</cp:lastModifiedBy>
  <cp:lastPrinted>2002-04-22T22:37:49Z</cp:lastPrinted>
  <dcterms:modified xsi:type="dcterms:W3CDTF">2005-04-21T15:29:12Z</dcterms:modified>
  <cp:revision>39</cp:revision>
  <dc:subject/>
  <dc:title>CC51A – Ingeniería de Software</dc:title>
</cp:coreProperties>
</file>