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FF9-56DA-4A61-9D7E-81856532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FC3-D502-44C9-95C2-65095F7D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F96-9544-48F1-B39B-E5CB9019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FF7-E1CB-4950-9493-A0D70FA4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8942-43A3-4DB7-96ED-56D323C4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DBF1-52D3-44DE-BB5D-8EE9E47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C783-5F9E-4B2F-B218-A35B5C2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3262-C10E-45A8-B67B-B3937317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09B-07B3-4AC2-9764-B7FA873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CC6-61B0-46F9-B861-8A705EA2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6F2-C008-4766-84AD-CB4731B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C47-78EA-4972-B9B1-0BDD81AF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5042-699F-4ED2-894F-8088C40A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4AC9-1E59-4632-A693-F1656CE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C31F-3EA6-4AB1-B34A-C3079B90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8F1-B85B-4DD5-A35E-FF762D5B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0901-6E54-4053-8FE4-99028018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92A-0577-4B43-B4F8-2124114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160-3942-451F-9DE4-6583FB4F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20B-7C36-47C6-A050-9CD1E641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07C-5FB8-4CDD-9D6D-71BEB90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34B-3473-4422-BF63-C4A167A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63C-C630-4C9A-96E9-23774AD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224-2086-438D-B270-2112995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A1B-4D07-4B89-9889-4CBA3896EF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6F8E-C75C-48F8-8B22-BFBEBED6EB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96252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? y cuánto?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5-04-21T15:29:12Z</dcterms:modified>
  <cp:revision>39</cp:revision>
  <dc:subject/>
  <dc:title>CC51A – Ingeniería de Software</dc:title>
</cp:coreProperties>
</file>