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A0A5-0F48-47F5-80A3-77CA4EB2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DA7C-2978-4D6B-A48C-77C3A7F5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1C6A-0774-4EA6-9244-10527369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2FE-F3BE-4EEA-95CB-D655B30B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6328-159A-4086-9C52-84D9C111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8C6A-F368-4567-9F80-D1B202A4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A10E-1945-4E00-9EC7-A67572D4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362D-9B4E-44CC-A52A-BD690890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09A5-E3D2-4FF0-A911-70370C76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F2A5-019E-4945-886B-2B7084FF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0EBD-04CD-4F77-A889-CDC9DA5A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E3AB-1020-4DEE-B175-AB4376EB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DCE0-CCEA-4793-8ED3-65FE122A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D76B-90F8-4162-95F7-030278CB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1CF0-81BB-426A-8629-28B0381F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C5DE-0A07-42CA-A596-B5735BE4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E57E-7AD0-414D-B925-ED0FA05F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FC5D-5A33-4BF3-9F08-EE5FE57E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065-F1D0-4DA1-A03E-A207FF52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928-06CB-4AB2-A295-78E547BA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ED47-81B9-46D9-A5B2-57005852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DCF6-8C8D-4A2B-9610-8F570674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59C-B04D-4882-9940-80A4EE46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3E2-2857-4D29-BCB3-01D5A2E5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4874-A52A-4890-93DC-1791F933F32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3D10-23C2-4E52-9FA6-BC12262E625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8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es son las actividades principales de la administración de proyect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tan importante es la labor del administrador de proyectos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e debe hacer ante un retraso del proyect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herramientas me pueden ayudar a administrar mejor mis proyecto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La coordinación de las actividades de los miembros del equipo de trabajo, forma parte de la administración del proyect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aspectos son importantes tener en cuenta al elegir un modelo de funcionamiento para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xiste un “mejor modelo” de funcionamiento de equipos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ara qué puede servir un protocolo de comunicación, para un equipo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s lo mismo un grupo de trabajo, que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mejor modelo de estimación de costos/tiempos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elementos son esenciales para realizar una buena estimación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poder hacer buenas estimacione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or qué somos tan malos estimando?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5-25T22:01:29Z</dcterms:modified>
  <cp:revision>13</cp:revision>
  <dc:subject/>
  <dc:title>CC51A – Ingeniería de Software</dc:title>
</cp:coreProperties>
</file>