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EB9-9352-4CAA-9825-BCC81DEF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E50-2006-4CDC-B828-8FD6F385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FD8-F443-4ACF-9990-64DB69A1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190-E834-45B2-9EE9-C5DF5774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FF55-4F10-43D5-B197-C276AEF0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E7AA-9172-465C-B7E4-2E72EBFD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CBEF-C633-4D58-886A-A0AEAAAC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4C22-FE81-44B5-9270-318E8A97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1050-23D9-4A9D-AE2B-C1176F83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120D-318A-4A67-A8D5-B3603C35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9D87-CEAD-4CB6-B69D-779059D5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136-5A9E-40AA-A802-5C9570EC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1286-0D09-4A5E-8E59-E8FDDA89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7947-4BDD-4975-B01F-F2B97C4D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624E-E21E-42CE-9835-EB8803C1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7022-1242-41AA-A1C2-8C89DDB9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1A0A-FE8C-4263-BFE3-E659093B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03B-5FB4-47EB-AFF3-18887EB5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3AA-3309-40E9-9F64-C82E2FDB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BFF-697F-4EE4-960A-D636DBF8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841-E668-4AB6-A100-533E0DC6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9C2-2CCE-4964-A045-3BB698ED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AAE-5D95-4D3D-8DFB-8E6DBF13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DF6-31BD-4983-9755-0A779BFF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7422-E97D-40D6-9377-0E6803D94D5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1DDF-DB80-4CFF-94F0-88AE5FC66CE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Tahoma"/>
              </a:rPr>
              <a:t>Introducción a la Gestión de Proyecto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, Parte b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Formas de monitoreo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levar a cabo reuniones periódicas en las cuales los participantes informan del estado de las tareas, el progreso o los problemas encontr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terminar si las metas están siendo cumplidas de acuerdo a lo programado (checkpoin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mparar tiempos planeados contra tiempos reales, para las distintas tareas. Emitir alertas en caso de ser necesario (por ej. Para disparar un plan de contingenci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1828800"/>
          <a:ext cx="73915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231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l detectar problemas con la planific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gnar más recursos al área afect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adecuar el personal en gener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mbiar la programación d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sar técnicas de “time-box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Básicamente, es una estrategia de tip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define la entrega del primer incremento, y luego se reajustan todas las tareas de acuerdo a es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l llegar al límite de tiempo de una tarea para ese incremento, esa tarea se detiene y comienza la sigui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unque una tarea no esté completa, muchas veces es posible postergar la última parte para el siguiente incre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áximas....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mayoría de las veces el administrador del proyecto marca la diferencia entre el éxito o el fracaso de un proyecto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estión es tan importante como la parte técnica....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 es difícil encontrar un buen administrador de proyecto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administración de proyectos es una disciplina que se debe aprender....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 un equipo de trabajo, el adm. de proyectos es quien peor la pas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¿Cómo Mejorar la Adm. de Proyectos de Software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Requiere saber ¿dónde estamos ho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?. Con exactitud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ere revis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r/rediseñ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proceso de administración de proyectos actu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ingeniería de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planificación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seguimiento y control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aseguramiento de la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administración de la configu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expansión de los sistemas de software en tamaño, complejidad, distribución e importancia empuja los límites de lo que hasta la fecha sabíamos desarroll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tar de avanzar más allá de los sistemas legados, hacia tecnologías más modernas, trae su propio conjunto de problemas técnicos y organizacion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administración de proyectos de software se hace cada vez más difícil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competencia obliga a las empresas de desarrollo a mejorar su productividad, manteniendo o mejorando la calidad de sus productos, realizando además desarrollos más rápidos y económ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icionalmente, la velocidad de preparación de personal de desarrollo calificado, es menor que la requerid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emás, actualmente el personal tiene competencias adicionales a las tradicionales (por ej. diseño gráfico, diseño de procesos de negocio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trucción y mantención de software es una tarea difícil y será aún más difíc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truir software de una cierta calidad, en forma repetible, es una tarea aún más difíc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o esto se refleja en la Administración de Proyectos.... Este es el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por qué?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as máximas antes menciona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íntomas Comu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recisión en el entendimiento de las necesidades del usuario fina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lta de habilidad para manejar requisitos cambiant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ódulos que no calzan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ftware que es difícil de mantener o extend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íntomas Comu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cubrimiento tardío de fallas seri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emas ajenos, como el Y2K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iembros del equipo en muchas cosas, o ausentes, haciendo imposible reconstruir historia de camb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lta (o problemas) de comunicación entre los miembros del equi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1752480"/>
            <a:ext cx="746748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s Básic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ific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ministr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las Notici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íntom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cienci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ministraci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ón de requisitos ad-ho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omunicación ambigua e impreci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sponsabilidades y roles difu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rquitectura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escabrosa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jidad muy grande. Falta de segmentación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consistencias no detectadas en requisitos, diseño e imple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steo insufic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ciencias Comu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valuación subjetiva del estado d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capacidad de los miembros para trabajar en grup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llas para analizar y atacar los riesg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agación de cambios no controlad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utomatización insufic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as Práctica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construir buen software no basta con ser buen programad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ello, hay que conocer, planificar y controlar los procesos y recursos asignados a un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iste una nueva ola en ingeniería de software, basada en dichos principios, que permite visualizar el futuro en forma más optimi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una definición de cada macro-tarea, junto con estimaciones de tiempos y recursos requer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además un marco de referencia para monitoreo y control de es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se desarrolla al comienzo pero es continuamente refinada a medida que el trabajo prog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alvo raras excepciones, los recursos y tiempos estimados inicialmente, difícilmente son alcanz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Hay que controlar (monitorear) todo... pero el monitoreo es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Si el trabajo no coincide con los tiempos y recursos asignados, debe recortarse la tarea, o aumentarse los tiempos y/o recursos asign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ita clásica…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 se incorpora más gente a un proyecto que ya está atrasado, éste se atrasará aún más” (Brooks, 197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Es necesario ir comparando las estimaciones iniciales, con las reales, tan pronto como se pue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Hay que reaccionar rápido ante los riesg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os modelos de estimación de esfuerzo son útiles, pero deben ser usados con cuidado. Modelos no calibrados pueden generar errores de hasta un 500% o má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No hay modelo que pueda captar las características del producto, del equipo de desarroll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na buena intuición soportada por experiencia documentada (información histórica) generalmente es más precisa que cualquier mode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alquier comandante que acepta llevar a cabo un plan que él considera defectuoso es culpable; él debe exponer sus razones, e insistir en los cambios necesarios y finalmente ofrecer su dimisión antes de ser el instrumento de la derrota de su ejército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Napole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i no estamos convencidos,.... no podremos administrar nad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administración (o gestión) requiere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contro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distribuir la estimación del esfuerzo a lo largo del proyecto asign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126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consiste en establecer los hitos y las actividades para chequear el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redefinir la planificación sobre la marcha. Aportando medidas para palear los desfasajes respecto a la planificación inic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control (o seguimiento)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ejecutar las actividades de revisión previstas en la etapa de planificación, y comparar los resultados contra lo planific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ara hacer esto hay que seguir una serie de Principios Básic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•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gmentación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el proyecto debe ser separado en un número manejable de actividades y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Interdependenci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la planificación debe reflejar la segmentación de tareas, y la relaciones entre ellas. Algunas tareas ocurren en secuencia, otras en paralelo, algunas son requisito de otr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signación de tiempo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a cada tarea se le debe asignar un cierto número de unidades de trabajo (personas-días, etc) y fechas de inicio y térmi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Validación del esfuerzo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se debe verificar que la gente afectada a una tarea esté disponible, que la cantidad no esté sobredimensionada, y además que sea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imes New Roman"/>
              </a:rPr>
              <a:t>• </a:t>
            </a: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efinición de responsabilidades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- cada tarea debe tener un responsa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alida definida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- cada tarea debe tener una salida o producto bien definido. Por ejemplo: diseño de un módulo, plan de pruebas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efinición de metas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- cada grupo de tareas debe estar asociado con una m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ificación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126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e pueden usar cosas como PERT o CP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Cualquiera de estos métodos provee mecanismos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66800" indent="-253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terminar la ruta crítica (secuencia de tareas que define la duración del proyect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66800" indent="-253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tablecer estimaciones probables para tareas individu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66800" indent="-253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lcular tiempos límites que definen ventanas de tiempo para las distintas ac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080" indent="-203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 más temprano que una actividad puede empezar si todas las precedentes se completan en el mínimo tiemp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72080" indent="-203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 más tarde que puede comenzar una tarea sin aumentar el tiempo mínimo d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66800" indent="-253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xisten herramientas de software para ell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lanificación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1752480"/>
          <a:ext cx="6172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172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contrastar la realidad contra lo planificado, ... y generar planes de contingencia,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monitorear (controlar) todo, así me aseguraré de tener “las riendas el proyecto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onitorear es un medio.... No un fi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676520"/>
          <a:ext cx="7924680" cy="228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676520"/>
                    <a:ext cx="79246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adminsochoa</cp:lastModifiedBy>
  <cp:lastPrinted>1999-10-28T19:03:53Z</cp:lastPrinted>
  <dcterms:modified xsi:type="dcterms:W3CDTF">2004-08-19T13:34:52Z</dcterms:modified>
  <cp:revision>102</cp:revision>
  <dc:subject/>
  <dc:title>CC51A</dc:title>
</cp:coreProperties>
</file>