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8DF-C648-4F0B-BD3E-ADE246A8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EB4-ABBB-4E47-BF16-582B7149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6F7-219F-47A4-88FA-9B33034B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0E2-DA1E-4AF2-9BCF-DB9F8827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0A5-EB5C-4881-BD94-7D8D079E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6E03-81D1-47C4-8683-5694171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F7BA-1523-4DA6-BDD4-769E4FE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241-3952-413A-8D8D-81602BD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D362-943E-46C3-A6EE-92DAA82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761D-26B8-4763-BE6A-292CF83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350E-EB94-4896-84EC-E33A358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DA08-69CB-4AAC-9A4C-9959277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A184-A6FB-4330-AB5E-58BB8BF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BCE-9B3F-4DDA-91A3-F24CBBD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502C-FEBB-4F35-8EF5-4392E349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221F-BB0D-4729-978D-0F3DF5A3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A1B9-8571-40AE-AE27-E8EC067E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165-A563-4DFA-9812-E1CF2B4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1B5-3000-475F-B9C2-F05BE8C0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549-33B8-465B-91D5-E18F6A6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99B-C985-4E40-9EB5-55185595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D9B-821E-4E1C-8071-DE185CD0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85A-C57E-40A9-A601-A9AEF1A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CDB-081B-4944-902C-03357C3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5EA-DEE1-49EB-884F-A07F05E6C05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E16-1954-49EB-AD5D-70A395E7CB37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Tahoma"/>
              </a:rPr>
              <a:t>Introducción a la Gestión de Proyecto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, Parte b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Formas de monitoreo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523520"/>
            <a:ext cx="8231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l detectar problemas con la planif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más recursos al área afec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adecuar el personal en gener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mbiar la programación d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sar técnicas de “time-box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Básicamente, es una estrategia de tip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áximas....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gestión es tan importante como la parte técnica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... es difícil encontrar un buen administrador de proyecto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administración de proyectos es una disciplina que se debe aprender...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 un equipo de trabajo, el adm. de proyectos es quien peor la pas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¿Cómo Mejorar la Adm. de Proyectos de Software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Requiere saber ¿dónde estamos ho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?. Con exactitud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ere revis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r/rediseñ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proceso de administración de proyectos actu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ingeniería de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planificación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seguimiento y control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El aseguramiento de la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</a:rPr>
              <a:t>La administración de la configu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las Noti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administración de proyectos de software se hace cada vez más difícil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alas Notici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 esto se refleja en la Administración de Proyectos.... Este es el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por qué?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las máximas antes mencio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íntom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recisión en el entendimiento de las necesidades del usuario fina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ta de habilidad para manejar requisitos cambia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ódulos que no calzan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ftware que es difícil de mantener o exten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íntom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cubrimiento tardío de fallas seri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as ajenos, como el Y2K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(o problemas) de comunicación entre los miembros del equi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ciencias Comu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ministraci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ón de requisitos ad-ho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municación ambigua e impreci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sponsabilidades y roles difu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rquitectura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escabrosa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jidad muy grande. Falta de segmentación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onsistencias no detectadas en requisitos, diseño 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steo insufic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ciencias Comu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valuación subjetiva del estad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capacidad de los miembros para trabajar en grup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llas para analizar y atacar los riesg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agación de cambios no controlad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utomatización insufic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as Práctica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construir buen software no basta con ser buen programad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controlar (monitorear) todo... pero el monitoreo es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ita clásica…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Hay que reaccionar rápido ante los riesg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Básicos de la Adm.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Napole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i no estamos convencidos,.... no podremos administrar nad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administración (o gestión) requiere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y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lanific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control (o seguimiento)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ara hacer esto hay que seguir una serie de Principios Básico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Segmentación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el proyecto debe ser separado en un número manejable de actividades y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Interdependenci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Asignación de tiemp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Validación del esfuerzo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incipios Básicos de la Adm. de Proyec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imes New Roman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responsabilidade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 respons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alida definida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efinición de metas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- cada grupo de tareas debe estar asociado con una m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nificación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e pueden usar cosas como PERT o CP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Cualquiera de estos métodos provee mecanismo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tablecer estimaciones probables para tareas individu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2080" indent="-203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66800" indent="-253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isten herramientas de software para e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lanificación de Tarea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trol de Tar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Monitorear es un medio.... No un fin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adminsochoa</cp:lastModifiedBy>
  <cp:lastPrinted>1999-10-28T19:03:53Z</cp:lastPrinted>
  <dcterms:modified xsi:type="dcterms:W3CDTF">2004-08-19T13:34:52Z</dcterms:modified>
  <cp:revision>102</cp:revision>
  <dc:subject/>
  <dc:title>CC51A</dc:title>
</cp:coreProperties>
</file>