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1FF9-5F1A-4214-ABAD-7D9DC22D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89EA-098F-42F7-9166-4F912405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6458-429F-4B88-ABB4-E7D3D21A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A2E4-D46E-494B-BE5C-F88A487B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7686-F043-4C9A-9763-675D83FA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9E44-A51B-47CE-9C81-3471ED50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7963-69E6-4D65-9B8B-7F3F5C54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CA1C-9EDD-4DF3-8A75-E637E330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3AA4-FF67-4DB6-9F7F-EC34B95A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5225-FBED-4FD3-BB74-B0D43A3F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EB45-11E9-4BF9-8BA3-89D4EE8B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3345-ADDA-4454-ABB5-36AC18EA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D19C-9321-44F8-A9A7-E04299AF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DB3C-EAA6-449A-95C4-AF83FA13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6F92-004E-41E2-B423-325C9FC9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C153-DBF5-44EC-B751-B2B205A3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A0E8-D79B-4FBC-B57A-60585C3D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2859-2DE1-4FAE-B946-D33C909A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EB60-E191-44CD-888B-73449920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E608-889B-404E-A1F1-D9C4F29A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0658-955A-48FC-807F-75F7B117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2FF0-FC01-4E80-9ED8-3AA7C796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3268-9732-46FE-B383-0141CDA7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2E54-DD37-497D-BB1D-88E34649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FAB3-EC46-41DB-A432-2CC131CB5BAF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D576-C6D3-4F0C-BEBC-D0CC8E8F66EE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40458c"/>
                </a:solidFill>
                <a:latin typeface="Tahoma"/>
              </a:rPr>
              <a:t>Introducción a la Gestión de Proyectos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, PhD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(www.ing.puc.cl/~jnavon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5, Parte b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Formas de monitoreo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levar a cabo reuniones periódicas en las cuales los participantes informan del estado de las tareas, el progreso o los problemas encontra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terminar si las metas están siendo cumplidas de acuerdo a lo programado (checkpoint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mparar tiempos planeados contra tiempos reales, para las distintas tareas. Emitir alertas en caso de ser necesario (por ej. Para disparar un plan de contingenci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43000" y="1828800"/>
          <a:ext cx="739152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73915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231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Al detectar problemas con la planific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ignar más recursos al área afect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adecuar el personal en gener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mbiar la programación del proyec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Usar técnicas de “time-box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Básicamente, es una estrategia de tipo incremen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Se define la entrega del primer incremento, y luego se reajustan todas las tareas de acuerdo a este incre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Al llegar al límite de tiempo de una tarea para ese incremento, esa tarea se detiene y comienza la siguie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Aunque una tarea no esté completa, muchas veces es posible postergar la última parte para el siguiente incremen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áximas....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mayoría de las veces el administrador del proyecto marca la diferencia entre el éxito o el fracaso de un proyecto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gestión es tan importante como la parte técnica....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... es difícil encontrar un buen administrador de proyectos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administración de proyectos es una disciplina que se debe aprender....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 un equipo de trabajo, el adm. de proyectos es quien peor la pasa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¿Cómo Mejorar la Adm. de Proyectos de Software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Requiere saber ¿dónde estamos hoy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?. Con exactitud !!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quiere revis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ar/rediseña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proceso de administración de proyectos actua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ingeniería de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planificación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seguimiento y control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aseguramiento de la ca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administración de la configur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las Noti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expansión de los sistemas de software en tamaño, complejidad, distribución e importancia empuja los límites de lo que hasta la fecha sabíamos desarroll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tar de avanzar más allá de los sistemas legados, hacia tecnologías más modernas, trae su propio conjunto de problemas técnicos y organizacion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administración de proyectos de software se hace cada vez más difícil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alas Notici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competencia obliga a las empresas de desarrollo a mejorar su productividad, manteniendo o mejorando la calidad de sus productos, realizando además desarrollos más rápidos y económic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dicionalmente, la velocidad de preparación de personal de desarrollo calificado, es menor que la requerid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demás, actualmente el personal tiene competencias adicionales a las tradicionales (por ej. diseño gráfico, diseño de procesos de negocio, etc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alas Notici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onstrucción y mantención de software es una tarea difícil y será aún más difíci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truir software de una cierta calidad, en forma repetible, es una tarea aún más difíci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odo esto se refleja en la Administración de Proyectos.... Este es el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por qué?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las máximas antes mencionad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íntomas Comu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recisión en el entendimiento de las necesidades del usuario fina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alta de habilidad para manejar requisitos cambiant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ódulos que no calzan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ftware que es difícil de mantener o extende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íntomas Comu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scubrimiento tardío de fallas seri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blemas ajenos, como el Y2K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iembros del equipo en muchas cosas, o ausentes, haciendo imposible reconstruir historia de camb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alta (o problemas) de comunicación entre los miembros del equip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1752480"/>
            <a:ext cx="746748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incipios Básic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anificación de Proyect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ministración de Proyect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las Noticia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íntomas Comun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iciencias Comun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lusion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ficiencias Comu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dministraci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ón de requisitos ad-ho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Comunicación ambigua e imprecis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sponsabilidades y roles difus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rquitecturas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escabrosas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plejidad muy grande. Falta de segmentación del proble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consistencias no detectadas en requisitos, diseño e implement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esteo insufici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ciencias Comu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valuación subjetiva del estado del proye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capacidad de los miembros para trabajar en grup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allas para analizar y atacar los riesg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pagación de cambios no controlad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utomatización insuficien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enas Práctica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a construir buen software no basta con ser buen programad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a ello, hay que conocer, planificar y controlar los procesos y recursos asignados a un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iste una nueva ola en ingeniería de software, basada en dichos principios, que permite visualizar el futuro en forma más optimis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3055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planificación del proyecto provee una definición de cada macro-tarea, junto con estimaciones de tiempos y recursos requeri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planificación del proyecto provee además un marco de referencia para monitoreo y control de est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planificación del proyecto se desarrolla al comienzo pero es continuamente refinada a medida que el trabajo progres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alvo raras excepciones, los recursos y tiempos estimados inicialmente, difícilmente son alcanz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Hay que controlar (monitorear) todo... pero el monitoreo es un medio, no un fi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Si el trabajo no coincide con los tiempos y recursos asignados, debe recortarse la tarea, o aumentarse los tiempos y/o recursos asign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ita clásica…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i se incorpora más gente a un proyecto que ya está atrasado, éste se atrasará aún más” (Brooks, 1975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Es necesario ir comparando las estimaciones iniciales, con las reales, tan pronto como se pue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Hay que reaccionar rápido ante los riesgo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os modelos de estimación de esfuerzo son útiles, pero deben ser usados con cuidado. Modelos no calibrados pueden generar errores de hasta un 500% o má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No hay modelo que pueda captar las características del producto, del equipo de desarroll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na buena intuición soportada por experiencia documentada (información histórica) generalmente es más precisa que cualquier model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Básicos de la Adm. de Proyec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ualquier comandante que acepta llevar a cabo un plan que él considera defectuoso es culpable; él debe exponer sus razones, e insistir en los cambios necesarios y finalmente ofrecer su dimisión antes de ser el instrumento de la derrota de su ejército”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                               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Napole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i no estamos convencidos,.... no podremos administrar nad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administración (o gestión) requiere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y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contro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l proyecto consiste en distribuir la estimación del esfuerzo a lo largo del proyecto asign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126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consiste en establecer los hitos y las actividades para chequear el avance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l proyecto consiste en redefinir la planificación sobre la marcha. Aportando medidas para palear los desfasajes respecto a la planificación inic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control (o seguimiento)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l proyecto consiste en ejecutar las actividades de revisión previstas en la etapa de planificación, y comparar los resultados contra lo planific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ara hacer esto hay que seguir una serie de Principios Básico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•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Segmentación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el proyecto debe ser separado en un número manejable de actividades y tare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Interdependencia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– la planificación debe reflejar la segmentación de tareas, y la relaciones entre ellas. Algunas tareas ocurren en secuencia, otras en paralelo, algunas son requisito de otr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Asignación de tiempo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a cada tarea se le debe asignar un cierto número de unidades de trabajo (personas-días, etc) y fechas de inicio y términ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Validación del esfuerzo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– se debe verificar que la gente afectada a una tarea esté disponible, que la cantidad no esté sobredimensionada, y además que sea sufic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imes New Roman"/>
              </a:rPr>
              <a:t>• </a:t>
            </a: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Definición de responsabilidades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- cada tarea debe tener un responsab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Salida definida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- cada tarea debe tener una salida o producto bien definido. Por ejemplo: diseño de un módulo, plan de pruebas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Definición de metas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- cada grupo de tareas debe estar asociado con una me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lanificación de Tare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126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0760" indent="-4107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Se pueden usar cosas como PERT o CP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10760" indent="-4107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Cualquiera de estos métodos provee mecanismos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66800" indent="-253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terminar la ruta crítica (secuencia de tareas que define la duración del proyecto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66800" indent="-253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stablecer estimaciones probables para tareas individu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66800" indent="-253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lcular tiempos límites que definen ventanas de tiempo para las distintas activida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2080" indent="-203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o más temprano que una actividad puede empezar si todas las precedentes se completan en el mínimo tiemp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72080" indent="-203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o más tarde que puede comenzar una tarea sin aumentar el tiempo mínimo del proyec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66800" indent="-253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xisten herramientas de software para ell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lanificación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66680" y="1752480"/>
          <a:ext cx="617220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617220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4114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Hay que contrastar la realidad contra lo planificado, ... y generar planes de contingencia, en caso de ser neces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Hay que monitorear (controlar) todo, así me aseguraré de tener “las riendas el proyecto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Monitorear es un medio.... No un fin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2120" y="1676520"/>
          <a:ext cx="7924680" cy="228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1676520"/>
                    <a:ext cx="7924680" cy="22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04:54:06Z</dcterms:created>
  <dc:creator>Sergio Ochoa</dc:creator>
  <dc:description/>
  <dc:language>en-US</dc:language>
  <cp:lastModifiedBy>adminsochoa</cp:lastModifiedBy>
  <cp:lastPrinted>1999-10-28T19:03:53Z</cp:lastPrinted>
  <dcterms:modified xsi:type="dcterms:W3CDTF">2004-08-19T13:34:52Z</dcterms:modified>
  <cp:revision>102</cp:revision>
  <dc:subject/>
  <dc:title>CC51A</dc:title>
</cp:coreProperties>
</file>