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5EBA-7CEA-4536-8FE8-B2A9D7723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1A58-D3F8-47E7-9E89-C9F6E92E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B520-3371-4DB2-8F20-7F219474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83A3-4660-49FD-AFE0-6E05899FE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3415-D4DD-4910-924B-26ED340D9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0E8A-FCA0-4D23-95F1-10AD6E75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B0CF-7A92-441B-9188-ECC07765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275E-4891-4F78-B81E-46CA2D28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D25A-EB56-4A56-A361-0DF21798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4D7C-3B98-4804-A482-C30E04E4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B22C-6775-4FFF-B8AF-0FD50810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7FC3-FE88-4A50-92B7-854DCB42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1551-7644-4E43-B94B-746EF812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EFB4-7415-46BB-B382-28DB3B94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7F65-E8BD-4C19-BE3D-CFE5A496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C684-D67A-4C66-A302-3DDB15469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CD27-8682-43D6-A885-BB23F6270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16B3-D324-4D0D-AC21-FB2D6FE4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79B8-E585-44F9-B236-A686AFD8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3BC1-2BD9-45AE-9A92-D0FD3141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9B40-7791-4BD0-9C0E-EECE17A0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7061-A791-4C19-9EB7-D138DE8D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12B0-EA5A-4F84-BFAA-55DDF836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48A0-F41B-4D73-8CEE-67FF573D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B3D1-9929-48C0-8EF1-BFA87BCBC684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22FE-24FE-4003-AA07-991460CB591E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301920"/>
            <a:ext cx="70358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El Estándar de Ingeniería de Software de la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“European Space Agency (ESA)”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83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5 - Versió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79A2-FF21-4EAB-A260-A40BC29BD3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Usuari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l principal responsable del producto de esta fase es el </a:t>
            </a:r>
            <a:r>
              <a:rPr b="1" lang="es-CL" sz="2000" spc="-1" strike="noStrike" u="sng">
                <a:solidFill>
                  <a:srgbClr val="40458c"/>
                </a:solidFill>
                <a:uFillTx/>
                <a:latin typeface="Tahoma"/>
              </a:rPr>
              <a:t>analista</a:t>
            </a: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l apoyo de los </a:t>
            </a:r>
            <a:r>
              <a:rPr b="1" lang="es-CL" sz="2000" spc="-1" strike="noStrike" u="sng">
                <a:solidFill>
                  <a:srgbClr val="40458c"/>
                </a:solidFill>
                <a:uFillTx/>
                <a:latin typeface="Tahoma"/>
              </a:rPr>
              <a:t>desarrolladores</a:t>
            </a: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 en esta etapa varía según la familiaridad de los usuarios con el softwa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Siempre debe producirse un </a:t>
            </a:r>
            <a:r>
              <a:rPr b="1" lang="es-CL" sz="2000" spc="-1" strike="noStrike" u="sng">
                <a:solidFill>
                  <a:srgbClr val="40458c"/>
                </a:solidFill>
                <a:uFillTx/>
                <a:latin typeface="Tahoma"/>
              </a:rPr>
              <a:t>URD</a:t>
            </a: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. La revisión </a:t>
            </a:r>
            <a:r>
              <a:rPr b="1" lang="es-CL" sz="2000" spc="-1" strike="noStrike" u="sng">
                <a:solidFill>
                  <a:srgbClr val="40458c"/>
                </a:solidFill>
                <a:uFillTx/>
                <a:latin typeface="Tahoma"/>
              </a:rPr>
              <a:t>(UR/R)</a:t>
            </a: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 es hecha por los usuarios, los ingenieros de software y hardware, el téster y el administrador del proyec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l principal responsable de ésta y de todas las revisiones es el </a:t>
            </a:r>
            <a:r>
              <a:rPr b="1" lang="es-CL" sz="2000" spc="-1" strike="noStrike" u="sng">
                <a:solidFill>
                  <a:srgbClr val="40458c"/>
                </a:solidFill>
                <a:uFillTx/>
                <a:latin typeface="Tahoma"/>
              </a:rPr>
              <a:t>téster</a:t>
            </a: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48hs después de cualquier revisión s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be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ntregar un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ocumento de revis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que indique las falencias encontradas. Esto también es responsabilidad del tést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ntes de completar la UR/R debe construirse un </a:t>
            </a:r>
            <a:r>
              <a:rPr b="1" lang="es-CL" sz="2000" spc="-1" strike="noStrike" u="sng">
                <a:solidFill>
                  <a:srgbClr val="40458c"/>
                </a:solidFill>
                <a:uFillTx/>
                <a:latin typeface="Tahoma"/>
              </a:rPr>
              <a:t>Plan de Administración del Proyecto</a:t>
            </a: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 de Software que muestre todas las fases siguientes, con estimación de recurs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1ACA-30A6-4F15-A5D5-6086D6091B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79261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52520" indent="-45252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Fase de análisis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principal responsable del producto de esta fase es el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nalist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arte vital de l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descripción del modelo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que especifica lo que debe hacer el software, y no cómo debe hacerl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presenta l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visión del desarrollador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y no necesariamente la del cliente/usu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 necesario presentar prototipos al cliente/usuario para clarificar requisitos de software y completar requisitos de 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AE2D-A44C-4940-99BF-7314E1A37E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064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15160" indent="-51516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ntregable principal es el “Documento de Requisitos de Software” </a:t>
            </a: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(SRD)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5160" indent="-51516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ada proyecto de software debe tener este documen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5160" indent="-51516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 omitirse terminología de implement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5160" indent="-51516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visado por los usuarios, los ingenieros de software y hardware, y por el administrador del proyecto, durante la “Revisión de Requisitos de Software” </a:t>
            </a: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(SR/R)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5160" indent="-51516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incipal responsable de ésta y de todas las revisiones es el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téster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5160" indent="-51516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48hs después de cualquier revisión s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be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ntregar un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ocumento de revis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que indique las falencias encontradas. Esto también es responsabilidad del tést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EFB1-01A4-4191-A802-4ABB83DC08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n esta fase se debe revisar el Plan de Administración del Proyecto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Mejores esfuerzos para tener estimaciones con errores no mayores al 30%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be construirse un plan detallado para la fase 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2F95-A258-4B0D-8BCF-67D35FD49D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propósito es el de definir la estructura del software. El modelo construido en la fase SR es el punto de parti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e modelo es transformado en diseño arquitectónico asignando funciones a componentes de software y definiendo el control y flujo de datos entre ell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C751-1517-441D-9654-E748B6FADB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a fase puede considerar varias iteraciones del diseñ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ben ser identificadas las dificultades técnicas o partes críticas del diseñ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uede ser necesario realizar prototipos del software para confirmar las suposiciones básicas del diseñ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F7F9-61AA-4BAA-A673-0374451BC1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10760" indent="-41076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ítem entregable que constituye la salida formal de esta fase es el Documento de Diseño Arquitectónico (ADD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10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10760" indent="-41076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ADD debe ser producido para cada proyecto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10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10760" indent="-41076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ADD debe ser formalmente revisado por los ingenieros de hardware y de software, por los usuarios, y por el administrador del proyecto, durante el proceso de Revisión del Diseño Arquitectónico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AD/R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EA02-07C0-4D9D-AB9B-CE89C3794A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urante la fase AD, debe construirse un Plan de Administración de Proyecto de Software, que describa el resto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e plan debe contener una estimación del costo del proyecto, apuntando a un margen de error no mayor al 10%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También se debe producir planes detallados para la fase D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A9E1-EC83-40B6-8513-459A9C51BA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Detallado y P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opósito de esta fase es el de detallar el diseño del software, codificarlo, documentarlo y testear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n forma concurrente con la codificación y testeo, se produce el Documento de Diseño Detallado (DDD) y el Manual de Software de Usuario (SUM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Inicialmente, el DDD y SUM contienen las secciones correspondientes a los niveles superiores del sistema. A medida que el diseño progresa a niveles más bajos, se añaden subsecciones relacion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1F99-49F2-433A-844F-D6E87D95FB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Detallado y P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l final de la fase, los documentos están completos y, junto con el código, constituyen los ítems entregables de esta fa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urante esta fase, debe realizarse las actividades de testeo unitario, de integración y de sistema de acuerdo con los planes de verificación establecidos en las fases SR y AD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También debe verificarse la calidad del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2243-D2C0-4B9E-B3A2-381F35F7E5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ntroducción al Estánd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Fase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actividades, 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hitos establecidos por el Estánda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ED65-648A-4C21-AFA5-D21139FFA7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Detallado y P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os 3 entregables (código, DDD y SUM), deben ser revisados formalmente por los ingenieros de software y el administrador, durante el proceso de Revisión del Diseño Detallado (DD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/R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l final del proceso de revisión, el software puede considerarse como listo para el testeo de aceptación provis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6B87-9A8D-484B-A328-A597DAFE27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propósito de esta fase es el de establecer que el software cumple con los requisitos especificados en el UR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o es hecho instalando el software y realizando tests de acept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i el software demuestra que provee las capacidades requeridas, el software puede ser aceptado provisionalmente y con ello, puede empezar la oper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0224-467D-48B6-95FB-12A105BF9C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urante la fase TR, debe producirse el Documento de Transferencia de Software (STD), que documente el proceso de transferencia del software al equipo de operacio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09EA-7741-40B8-B8FB-C7F8325D9C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60066"/>
                </a:solidFill>
                <a:latin typeface="Tahoma"/>
              </a:rPr>
              <a:t>Fase de Operación y Mantenimient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7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Una vez que el software ha entrado en operación, debe ser monitoreado cuidadosamente para confirmar que cumple con los requisitos definidos en el UR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7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lgunos requisitos, tales como los referentes a disponibilidad, puede tomar algún tiempo validarlos. Cuando el software ha pasado todos los tests de aceptación, entonces recién puede ser finalmente acept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A35A-ED4A-4980-B4F1-9AAAB49B66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60066"/>
                </a:solidFill>
                <a:latin typeface="Tahoma"/>
              </a:rPr>
              <a:t>Fase de Operación y Mantenimient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Documento de Historia del Proyecto (PHD) resume la información administrativa de importancia, la cual se ha acumulado en el transcurso del proyect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e documento debe ser generado después de la aceptación fi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be ser re-hecho al final del ciclo de vida, con información acumulada durante la fase OM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B8D9-5C06-4F27-8457-94453B499E7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60066"/>
                </a:solidFill>
                <a:latin typeface="Tahoma"/>
              </a:rPr>
              <a:t>Fase de Operación y Mantenimient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Después de la aceptación final, el software puede ser modificado para corregir errores no detectados durante fases anteriores, o porque aparecen nuevos requisitos. A esto se le denomina mantenimient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Durante todo el período de operación, se debe hacer un esfuerzo especial para mantener la documentación al dí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Información sobre fallas y caídas debe ser registrada para establecer datos para el establecimiento de métricas de calidad de software para proyectos siguient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646E-AF85-445D-8DB6-9DE43257880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604800" y="1752480"/>
            <a:ext cx="791208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modelo de proceso a utilizar en el curso es una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daptación del modelo propuesto por la ES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adaptación apunta a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mplificar el modelo original, haciéndolo más aplicable a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oyectos chico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alizar un desarrollo incremental del producto final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umentar el paralelismo entre las tareas que realizan lo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iembros del equipo de trabaj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continuación se muestra la dinámica del modelo d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ceso adaptad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369E-C516-4C34-B8F1-436C81FB631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2057400" y="3098880"/>
            <a:ext cx="67057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057400" y="3403440"/>
            <a:ext cx="137160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nálisi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429000" y="3403440"/>
            <a:ext cx="182880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58c"/>
                </a:solidFill>
                <a:latin typeface="Arial"/>
              </a:rPr>
              <a:t>Diseño / Implement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57800" y="3403440"/>
            <a:ext cx="76212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ransf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1480" y="2754360"/>
            <a:ext cx="106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Seman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Fase 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Fase 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0200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9548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7672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8316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6404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4492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6396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4520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2608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3252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41340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9464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1368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9456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97544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8188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29000" y="3962520"/>
            <a:ext cx="175248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nálisi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181480" y="3962520"/>
            <a:ext cx="28069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seño / Implementació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988400" y="3962520"/>
            <a:ext cx="39348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58c"/>
                </a:solidFill>
                <a:latin typeface="Arial"/>
              </a:rPr>
              <a:t>Tr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33720" y="271764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1   2     3    4    5    6    7     8    9   10  11  12  13   14 15  16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89F5-E752-40BD-A447-E3EF27F1F4E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1905120" y="2592360"/>
            <a:ext cx="67053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05120" y="2795760"/>
            <a:ext cx="143496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1 (3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14880" y="2795760"/>
            <a:ext cx="177768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1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92560" y="2795760"/>
            <a:ext cx="7621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1 (2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19200" y="2247840"/>
            <a:ext cx="1425600" cy="32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Sema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Referenci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34936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3052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1176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9264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1168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9256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47380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88024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6112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4200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6104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44228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82316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22960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89320" y="3951360"/>
            <a:ext cx="180324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2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92560" y="3951360"/>
            <a:ext cx="274320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2 (7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835760" y="3951360"/>
            <a:ext cx="40644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981080" y="221148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1   2     3    4    5    6    7     8    9   10  11  12  13   14 15  16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75360" y="17524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Analist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17720" y="3201840"/>
            <a:ext cx="3936960" cy="7632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46320" y="320184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74920" y="3201840"/>
            <a:ext cx="2286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05120" y="3201840"/>
            <a:ext cx="228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57680" y="320184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86280" y="3201840"/>
            <a:ext cx="2286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16120" y="3201840"/>
            <a:ext cx="228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01920" y="4344840"/>
            <a:ext cx="4927680" cy="7632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17920" y="4344840"/>
            <a:ext cx="2808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59120" y="4344840"/>
            <a:ext cx="28116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89320" y="4344840"/>
            <a:ext cx="2160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92640" y="4344840"/>
            <a:ext cx="444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49840" y="4344840"/>
            <a:ext cx="2808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13280" y="4344840"/>
            <a:ext cx="26676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879560" y="580536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892160" y="6021360"/>
            <a:ext cx="2286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79560" y="5589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892160" y="6249960"/>
            <a:ext cx="228600" cy="7632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0760" y="5487840"/>
            <a:ext cx="6248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Recopilación de Informació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Especificación de Requisit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Validación de Requisitos (con el cliente y/o con los diseñadores / implementadore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Control de Cumplimiento de Requisit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B9BB-D060-4BE5-A9D2-7C419D77BFD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>
            <a:off x="2057400" y="2666880"/>
            <a:ext cx="67057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057400" y="2870280"/>
            <a:ext cx="143496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1 (3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67160" y="2870280"/>
            <a:ext cx="177804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1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45200" y="2870280"/>
            <a:ext cx="76176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1 (2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71480" y="2322360"/>
            <a:ext cx="142560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Sema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Referencias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5020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8954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767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6831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0640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449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8639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2452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6260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325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4134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946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2136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5945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9754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3818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492360" y="4025880"/>
            <a:ext cx="175284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2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245200" y="4025880"/>
            <a:ext cx="274320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2 (7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988400" y="4025880"/>
            <a:ext cx="40644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879560" y="22860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1   2     3    4    5    6    7     8    9   10  11  12  13   14 15  16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25120" y="1827360"/>
            <a:ext cx="37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Diseño / Implementa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070000" y="3276720"/>
            <a:ext cx="3936960" cy="7596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73400" y="3276720"/>
            <a:ext cx="2209680" cy="7596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57400" y="3276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59400" y="4419720"/>
            <a:ext cx="3822480" cy="7596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44800" y="6553080"/>
            <a:ext cx="22860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531200" y="4584600"/>
            <a:ext cx="838080" cy="84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57880" y="4419720"/>
            <a:ext cx="231120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232240" y="4584600"/>
            <a:ext cx="2298960" cy="8568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031840" y="548640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044800" y="5702400"/>
            <a:ext cx="2286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31840" y="5270400"/>
            <a:ext cx="228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044800" y="5931000"/>
            <a:ext cx="228600" cy="7596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19240" y="5168880"/>
            <a:ext cx="70866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Preparación de Herramientas y Definición de Reglas de Funcionamien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Diseño del Prototip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Implementación del Prototip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Control de Cumplimiento del Diseñ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Diseño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Implementación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Corrección y Ajuste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02000" y="3429000"/>
            <a:ext cx="27432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57400" y="3429000"/>
            <a:ext cx="444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36840" y="316224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80808"/>
                </a:solidFill>
                <a:latin typeface="Arial"/>
              </a:rPr>
              <a:t>Dis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80808"/>
                </a:solidFill>
                <a:latin typeface="Arial"/>
              </a:rPr>
              <a:t>Impl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75120" y="431784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80808"/>
                </a:solidFill>
                <a:latin typeface="Arial"/>
              </a:rPr>
              <a:t>Dis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80808"/>
                </a:solidFill>
                <a:latin typeface="Arial"/>
              </a:rPr>
              <a:t>Impl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044800" y="6350040"/>
            <a:ext cx="2286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044800" y="6146640"/>
            <a:ext cx="22860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3B8C-A785-42F2-B936-085B049C16F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stándar de la ESA presenta un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rco general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que puede ser utilizado para abordar un proyecto de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proyect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softwar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s parte del ciclo de vida 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l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stándar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stablece las macro-actividades 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que deben hacerse en el proyecto, los roles involucrados, y los productos intermedios que deberían obtener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unque en este curso nosotros utilizaremos una adaptación del estándar, éste nos servirá como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rco de referenci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 muchas actividad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101E-BCB3-415F-AB29-6AA3BDDC2F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3" name=""/>
          <p:cNvSpPr/>
          <p:nvPr/>
        </p:nvSpPr>
        <p:spPr>
          <a:xfrm>
            <a:off x="1895400" y="2666880"/>
            <a:ext cx="67057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895400" y="2870280"/>
            <a:ext cx="14353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1 (3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05160" y="2870280"/>
            <a:ext cx="177804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83200" y="2870280"/>
            <a:ext cx="7621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9480" y="2322360"/>
            <a:ext cx="142560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Sema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Referencias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3400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7338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1147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211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020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2829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7023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832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4640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8705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2514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6326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0516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4325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8138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2202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330720" y="4025880"/>
            <a:ext cx="175248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2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83200" y="4025880"/>
            <a:ext cx="274320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2 (7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826400" y="4025880"/>
            <a:ext cx="40644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71720" y="22860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1   2     3    4    5    6    7     8    9   10  11  12  13   14 15  16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60600" y="1827360"/>
            <a:ext cx="49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99"/>
                </a:solidFill>
                <a:latin typeface="Arial"/>
              </a:rPr>
              <a:t>Administración / Testing (~ SQA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908000" y="3276720"/>
            <a:ext cx="3937320" cy="75960"/>
          </a:xfrm>
          <a:prstGeom prst="rect">
            <a:avLst/>
          </a:prstGeom>
          <a:solidFill>
            <a:srgbClr val="99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95400" y="3276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559320" y="4419720"/>
            <a:ext cx="4660920" cy="75960"/>
          </a:xfrm>
          <a:prstGeom prst="rect">
            <a:avLst/>
          </a:prstGeom>
          <a:solidFill>
            <a:srgbClr val="99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882800" y="6324480"/>
            <a:ext cx="22860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369200" y="4584600"/>
            <a:ext cx="685800" cy="7488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30720" y="4584600"/>
            <a:ext cx="4038480" cy="7488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870200" y="548640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82800" y="6134040"/>
            <a:ext cx="2286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70200" y="5270400"/>
            <a:ext cx="228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111400" y="5168880"/>
            <a:ext cx="70866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Interacción con el Client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Monitoreo, Redefinición y Coordinación de Tareas (Guiar el Barco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Entrega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Planificación de Controles, y Definición del Tipo de Revisión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Control de Productos y Emisión de Alerta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Prueba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340000" y="3429000"/>
            <a:ext cx="27432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895400" y="3429000"/>
            <a:ext cx="4446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374840" y="316224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Adm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Test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97200" y="430524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Adm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Test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870200" y="5931000"/>
            <a:ext cx="22860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055000" y="4419720"/>
            <a:ext cx="152280" cy="7596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616720" y="3276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330720" y="4419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870200" y="5715000"/>
            <a:ext cx="228600" cy="7632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09C2-51A7-4ACE-8535-0B39953DA01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clusiones 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l estándar de la ESA propone un conjunto de actividades para atacar el “ciclo de vida” de un proyecto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uede ser adaptado a la realidad de una empresa específic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uede ser aplicado en forma parcial, según la naturaleza del problema a resolve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 simple, por lo tanto, con poca práctica se puede hacer un buen uso de é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Nos podría ayudar a certificar ISO 9000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118C-7B96-469B-86C4-5A36526BA85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Bibliografía y Cas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I. Sommerville, P. Sawyer. Requirements Engineering, A Good Practice Guide.Wiley, 1999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. Robertson, J. Robertson. Mastering the Requirements Process. Addison-Wesley, 1999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SA, SOFTWARE ENGINEERING STANDARDS, ISSUE 2. Preparado por: ESA Board for Software Standardisation and Control (BSSC). URL: http://www.estec.esa.nl/wmwww/WME/index.htm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DE4A-E1B1-484A-8D1F-44846F21AB6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52520" indent="-4525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ciclo de vida del softwar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se inicia cuando el producto de software se concibe, y termina cuando ya no está disponible para su uso (el producto es retirado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Un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modelo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 ciclo de vid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estructura las actividade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 un proyecto en fases, y define las actividades y los objetivos de cada fas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390C-139E-45A6-AA0F-9E21189DAA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Fases en el Ciclo de Vida según la ES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UR: Definición de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Requisitos de Usuari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R: Definición de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Requisitos de Software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D: Definición del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Diseño Arquitectónic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D: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Diseño Detallad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producción del códig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TR: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TRansferenci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l software a opera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OM: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Operación y Mantenimient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F13F-0EA8-4209-AB43-0539AEE03E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8229600" cy="513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1CC6-5BFD-4D20-92A8-95EE0F689E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90680" y="1190520"/>
            <a:ext cx="8076960" cy="559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6B37-0A91-4E93-ADC4-D7F67C36F6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Hitos principales de ES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robación del Documento de Requisitos de Usuario (URD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robación del Documento de Requisitos de Software (SRD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robación del Documento de Diseño Arquitectónico (ADD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robación del Documento de Diseño Detallado  (DDD), el Manual de Software de Usuario (SUM), el código, y la declaración de terminación para el testeo de aceptación provisional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eclaración de aceptación provisional y la confección del Documento de Transferencia de Software (STD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eclaración de aceptación final y entrega del Documento de Historia del Proyecto (PHD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5634-B4B9-4395-B97F-DC67725594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Usuari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6282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Fase de definición del problem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presenta l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visión de</a:t>
            </a:r>
            <a:r>
              <a:rPr b="1" lang="es-CL" sz="2800" spc="-1" strike="noStrike">
                <a:solidFill>
                  <a:srgbClr val="40458c"/>
                </a:solidFill>
                <a:latin typeface="Tahoma"/>
              </a:rPr>
              <a:t>l cliente/usuario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y no necesariamente la del desarrollad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os requisitos del usuario deben ser “capturados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usan entrevistas, encuestas, demos de prototipos y se recolectan formul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debe generar un “Documento de Requisitos de Usuario” (URD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debe hacer en forma rápida y precis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 fácil demorarse aquí innecesariam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A9A9-8849-4523-83F5-A79A436F0B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04:54:06Z</dcterms:created>
  <dc:creator>Sergio Ochoa</dc:creator>
  <dc:description/>
  <dc:language>en-US</dc:language>
  <cp:lastModifiedBy>Sergio F. Ochoa</cp:lastModifiedBy>
  <cp:lastPrinted>2000-08-22T14:09:48Z</cp:lastPrinted>
  <dcterms:modified xsi:type="dcterms:W3CDTF">2005-08-11T15:33:41Z</dcterms:modified>
  <cp:revision>499</cp:revision>
  <dc:subject/>
  <dc:title>CC51A</dc:title>
</cp:coreProperties>
</file>