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F50-8393-4F3D-9523-1C8F436E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C74-D241-4841-A46F-557C8EF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B18-1293-49FE-97ED-EC62B2FA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855-0144-4732-84E8-3D5E2F71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694-DE70-4FE3-89AD-8007CA81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01E6-E95B-40BC-ABF9-EC35C94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A9D-D7F0-485F-937E-1CCFCE46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FD1B-CD20-4FB5-98EE-76DFB5D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3E5D-9BDE-42DA-B981-E806DD91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75F3-5AC0-4075-8942-A440767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1160-C26B-48F8-88DB-59EB06F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04C-995D-40AF-A7C9-ACFD354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0C8-3404-4D47-BAEF-31DBCB8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895-8FA4-48BA-B04C-6439DAC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E2C8-CDA5-4FD2-8201-E233339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0D9-E7FD-414B-9114-31CEB4C8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64B0-8998-4CF7-8C38-F839A0A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7F6-5F52-4C75-87D9-401740EA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980-84EA-448B-AFA6-FCC62CD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CC7-2E9B-4CAF-B2B9-2EBE3020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7B5-0B9B-4AA7-8B13-5E6DD97C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14F-9396-42E7-8AC4-DA4A661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D93-5987-4846-A113-C438713C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AC9-2915-47D6-992C-D0B6B0D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F116-5F2F-4B2E-AA66-F10266579AE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CA78-2654-43EF-8574-AF34D61B2D1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5E9E-9806-46A7-AB30-4C66F0F47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n esta etapa varía según la familiaridad de los usuarios con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s hecha por los usuarios, los ingenieros de software y hardware, el téster y el administrador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137-7145-4F06-BB7B-8C2E52EAFE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arte vital de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scripción del 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especifica lo que debe hacer el software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presentar prototipos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994-4D01-4159-A6AC-A3739A1AC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do por los usuarios, los ingenieros de software y hard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7B8-CA0E-4C64-B24F-2643A9BC7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revisar el Plan de Administración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ejores esfuerzos para tener estimaciones con errores no mayores al 3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0EF-BAE9-459C-95E2-5D719B6F5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el de definir la estructura del software. El modelo construido en la fase SR es el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modelo es transformado en diseño arquitectónico asignando funciones a componentes de software y definiendo el control y flujo de datos 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186-F393-4938-B24E-EEB2BD7FD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varias iteraciones 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dificultades técnicas o partes crít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confirmar las suposiciones 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272-C37C-4C0A-8461-C1A28C559F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AD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producido para cada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formalmente revisado por los ingenieros de hardware y de software, por los usuarios, y por el administrador del proyecto, durante el proceso de Revisión del Diseño Arquitectónic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EB5-15B6-48D1-B7C3-9D7DD21EB8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Plan de Administración de Proyecto de Software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estimación del costo del proyecto, apuntando a un margen de error no mayor al 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planes detallados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E84-1C10-412E-822F-40340A29E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el de detallar el diseño del software, codificarlo, documentarlo y testea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DDD) y el Manual de Software de Usuario (SU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, se añaden sub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333-FB7B-4B25-962B-DD3245C24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documentos están completos y, junto con el código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 realizarse las actividades de testeo unitario, de integración y de sistema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verificarse la calidad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5E9-69A1-4BE5-B827-A556F72E49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191-4C2C-463B-9782-B7316DBA9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3 entregables (código, DDD y SUM), deben ser revisados formalmente por los ingenieros de software y el administrador, durante el proceso de Revisión del Diseño Detallado (D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testeo de aceptación provis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880-6CC2-4235-A695-767A5FD00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l de establecer que el software cumple con los requisitos 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instalando el software y realizando tests de acep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l software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E5B-CBFA-425E-8B5A-12B880BF69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STD), que documente el proceso de transferencia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4AA-C1F7-4289-9196-B2B14A8F36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monitoreado cuidadosamente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disponibilidad, puede tomar algún tiempo validarlos. Cuando el software ha pasado todos los tests 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371-6B51-437B-91BF-0CB37A4BD8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PHD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re-hecho al final del ciclo de vida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811-7053-409B-9E51-0A2C0C0BC8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, o porque aparecen nuevos requisitos. A esto se le denomina mantenimien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mantener la documentación al dí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Información sobre fallas y caídas debe ser registrada para establecer datos para el establecimiento de métricas de calidad de software para proyectos sigu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577-E65D-47E1-ABAD-79C038C9F5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6B1-08EB-4BDB-969F-F6A1B9FA3FA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CD4-2898-4718-B1D0-5E72A92443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9C9-608A-4E58-A1AE-D56DDF2D7A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655-4B93-456C-9EF8-0911DD6242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yec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softwa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 parte del ciclo de vida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 las 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roles involucrados, y los productos intermedios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FD2-D039-43F0-A67B-DE23A09C7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8B2-8DFC-4AA1-A7CD-BE92A3F678E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D44-C06F-493C-BD76-407C982D4B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1DD-A537-4C18-8B08-022279E50D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las actividad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un proyecto en fases, y define las actividades y los objetivos de cada fas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AA9-2339-4D48-9A0E-D1C2B33AA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C82-9281-4F7A-AD34-E8804E3BAE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51F-803C-4C3B-BBD4-4D074C69F2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A54-2C8C-42C0-A841-433187B6A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itos principales de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para el testeo de aceptación provisional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511-7414-467B-B57B-373F2D6AF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definición del probl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requisitos del usuario deben ser “capturad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usan entrevistas, encuestas, demos de prototipos y se recolectan formul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(UR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hacer en forma rápida y 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fácil demorarse aquí innecesari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952-CABC-4C76-938B-0683FE495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5-08-11T15:33:41Z</dcterms:modified>
  <cp:revision>499</cp:revision>
  <dc:subject/>
  <dc:title>CC51A</dc:title>
</cp:coreProperties>
</file>