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E70-E53F-4F1A-A270-E608AA38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CCC-A66A-40D5-BFAB-1E9B4EE4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4F0-FCD2-4BE1-8211-07ABF3D0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AA0-2392-4BD5-8B72-CA607F04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4BB-727B-426D-AD44-A5C5D6D6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C950-CEC9-4AD3-89B8-F8F18F44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ECF-5675-4242-835A-8E02778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FC22-A51F-41CF-9176-4A28112B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8732-48EA-4913-8FE0-11F89CF0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918C-E5C4-4431-A403-9998C1F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77B2-178A-4583-8AAB-E3C6259E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D70-853A-4DD1-BA61-C61464E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118-6717-4402-85EB-EEF257B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E5C5-5F4F-4449-9C63-0C2EB49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0101-58C1-410E-93AA-307CAA35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47F-39F4-430A-95AC-30695D88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818F-7408-4211-9808-D67DE5A8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86F-DD1A-443C-9B87-BB8DA5AD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275-8FFB-4588-9C9A-E3F315E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95C-2743-44D5-9A58-FCCDE79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0E4-1A7B-4E7B-816A-6A2D8D4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B56-351A-4716-A247-26612AE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805-7BE5-4CB7-A31E-D941B0D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FED-0416-4217-A98B-9B31834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5FF-DB76-4710-AD84-80534437037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E307-D49C-4F24-8C62-CF48D575C49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E7B6-1143-41CA-8019-03FE4B5330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n esta etapa varía según la familiaridad de los usuarios con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es hecha por los usuarios, los ingenieros de software y hardware, el téster y el administrador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619-8946-4E30-8D6E-23AF0211CA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9261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arte vital de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scripción del 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especifica lo que debe hacer el software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presentar prototipos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24A-83BB-4CA7-ACB0-1F1E4E5400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do por los usuarios, los ingenieros de software y hard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ésta y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48hs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9B8-B381-496A-981E-D423274181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revisar el Plan de Administración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ejores esfuerzos para tener estimaciones con errores no mayores al 3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F60-E87A-4AEC-97A1-2B42F251F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el de definir la estructura del software. El modelo construido en la fase SR es el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modelo es transformado en diseño arquitectónico asignando funciones a componentes de software y definiendo el control y flujo de datos 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998-EAFE-4571-8CC1-7003968E65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varias iteraciones 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dificultades técnicas o partes crít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confirmar las suposiciones 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639-BFA9-4CCB-82A8-9AF2A082BF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AD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producido para cada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DD debe ser formalmente revisado por los ingenieros de hardware y de software, por los usuarios, y por el administrador del proyecto, durante el proceso de Revisión del Diseño Arquitectónic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139-D92B-4C08-B997-EBDA958DAF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Plan de Administración de Proyecto de Software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estimación del costo del proyecto, apuntando a un margen de error no mayor al 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planes detallados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E94-1EE3-41CF-A43E-73AD6B8536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el de detallar el diseño del software, codificarlo, documentarlo y testea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DDD) y el Manual de Software de Usuario (SUM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, se añaden sub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1E2-6336-48DA-83E7-6D02E382E8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documentos están completos y, junto con el código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 realizarse las actividades de testeo unitario, de integración y de sistema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verificarse la calidad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581-79F6-4E69-B490-A39EE7DD6D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3C7-17FD-4C8B-A362-8ACF18821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3 entregables (código, DDD y SUM), deben ser revisados formalmente por los ingenieros de software y el administrador, durante el proceso de Revisión del Diseño Detallado (D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testeo de aceptación provis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95B-7E56-4242-8EBA-D7C8D95AE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l de establecer que el software cumple con los requisitos 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instalando el software y realizando tests de acep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l software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6BF-5376-4000-ADDB-29BF79E5F5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STD), que documente el proceso de transferencia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4E4-819D-4823-BA2C-D3DEE9E03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monitoreado cuidadosamente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disponibilidad, puede tomar algún tiempo validarlos. Cuando el software ha pasado todos los tests 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B2C-2FF0-48F9-B035-7F7DA719C9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PHD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re-hecho al final del ciclo de vida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D9F-03B6-47CE-8C53-EE5F026E80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, o porque aparecen nuevos requisitos. A esto se le denomina mantenimient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mantener la documentación al dí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Información sobre fallas y caídas debe ser registrada para establecer datos para el establecimiento de métricas de calidad de software para proyectos siguient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67A-95BA-49C7-B44D-62EC7CB46A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664-5491-4FFD-8C43-FF9629EB60E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7B0-2481-4264-B61D-5643ED6D5D5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425-E882-4873-B50C-4E1AC60A6E4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FED-5A1C-48A6-B252-45736D25A9D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yec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softwa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 parte del ciclo de vida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 las 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roles involucrados, y los productos intermedios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4EB-5E82-419E-9E77-1003FAF37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709-A721-4383-9415-00A09B2961C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892-B263-4A8A-92A9-F272CE6A96B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04E-5ACE-458C-911A-E104B41693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las actividad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un proyecto en fases, y define las actividades y los objetivos de cada fas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F74-1E76-4BF9-9ECC-04ED173A79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7B1-A403-480F-9F88-B030DEA32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DE2-E8D9-4BB5-B44D-110BC23925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4FE-39F1-4BE9-B8F3-063A4E82F8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itos principales de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para el testeo de aceptación provisional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3C2-D7FA-4610-BF65-00E8602DAB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definición del probl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requisitos del usuario deben ser “capturad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usan entrevistas, encuestas, demos de prototipos y se recolectan formul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(UR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be hacer en forma rápida y 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fácil demorarse aquí innecesari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3C3-4552-4807-889F-2052DB512A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5-08-11T15:33:41Z</dcterms:modified>
  <cp:revision>499</cp:revision>
  <dc:subject/>
  <dc:title>CC51A</dc:title>
</cp:coreProperties>
</file>