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7770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7770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7770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7770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7770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7770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7770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480" y="7560"/>
            <a:ext cx="7770960" cy="66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7770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7770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7770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7770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7770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7770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7770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7770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7770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7770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7560"/>
            <a:ext cx="7770960" cy="666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7770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7770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7770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1120" cy="6856560"/>
              <a:chOff x="0" y="0"/>
              <a:chExt cx="9141120" cy="685656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1120" cy="6398640"/>
                <a:chOff x="0" y="304920"/>
                <a:chExt cx="9141120" cy="63986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12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0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860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16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772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26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720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17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66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088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580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03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492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698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440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7896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352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884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264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3975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24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560" y="0"/>
                <a:ext cx="8530920" cy="6856560"/>
                <a:chOff x="304560" y="0"/>
                <a:chExt cx="8530920" cy="685656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5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876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36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82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28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73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22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648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14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59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052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50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00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42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6912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40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7824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31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8772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228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3968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17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0596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08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154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00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45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294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404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1960" y="0"/>
              <a:ext cx="5790240" cy="152280"/>
            </a:xfrm>
            <a:prstGeom prst="roundRect">
              <a:avLst>
                <a:gd name="adj" fmla="val 1042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7640" y="0"/>
              <a:ext cx="144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3640" y="1414440"/>
              <a:ext cx="1782360" cy="2323800"/>
              <a:chOff x="413640" y="1414440"/>
              <a:chExt cx="1782360" cy="232380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3640" y="1514160"/>
                <a:ext cx="1782360" cy="10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8760"/>
                <a:ext cx="1080" cy="23194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511920" y="1414440"/>
                <a:ext cx="191520" cy="191880"/>
                <a:chOff x="511920" y="1414440"/>
                <a:chExt cx="191520" cy="1918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511920" y="1414440"/>
                  <a:ext cx="191520" cy="191880"/>
                </a:xfrm>
                <a:custGeom>
                  <a:avLst/>
                  <a:gdLst>
                    <a:gd name="textAreaLeft" fmla="*/ 360 w 191520"/>
                    <a:gd name="textAreaRight" fmla="*/ 191160 w 191520"/>
                    <a:gd name="textAreaTop" fmla="*/ 360 h 191880"/>
                    <a:gd name="textAreaBottom" fmla="*/ 191520 h 191880"/>
                  </a:gdLst>
                  <a:ahLst/>
                  <a:rect l="textAreaLeft" t="textAreaTop" r="textAreaRight" b="textAreaBottom"/>
                  <a:pathLst>
                    <a:path w="21600" h="21641">
                      <a:moveTo>
                        <a:pt x="177" y="0"/>
                      </a:moveTo>
                      <a:arcTo wR="177" hR="177" stAng="16200000" swAng="-5400000"/>
                      <a:lnTo>
                        <a:pt x="0" y="21464"/>
                      </a:lnTo>
                      <a:arcTo wR="177" hR="177" stAng="10800000" swAng="-5400000"/>
                      <a:lnTo>
                        <a:pt x="21423" y="21641"/>
                      </a:lnTo>
                      <a:arcTo wR="177" hR="177" stAng="5400000" swAng="-5400000"/>
                      <a:lnTo>
                        <a:pt x="21600" y="177"/>
                      </a:lnTo>
                      <a:arcTo wR="177" hR="177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511920" y="1414440"/>
                  <a:ext cx="191520" cy="191880"/>
                </a:xfrm>
                <a:custGeom>
                  <a:avLst/>
                  <a:gdLst/>
                  <a:ahLst/>
                  <a:rect l="l" t="t" r="r" b="b"/>
                  <a:pathLst>
                    <a:path w="537" h="537">
                      <a:moveTo>
                        <a:pt x="276" y="0"/>
                      </a:moveTo>
                      <a:lnTo>
                        <a:pt x="263" y="0"/>
                      </a:lnTo>
                      <a:lnTo>
                        <a:pt x="250" y="1"/>
                      </a:lnTo>
                      <a:lnTo>
                        <a:pt x="236" y="2"/>
                      </a:lnTo>
                      <a:lnTo>
                        <a:pt x="223" y="4"/>
                      </a:lnTo>
                      <a:lnTo>
                        <a:pt x="210" y="6"/>
                      </a:lnTo>
                      <a:lnTo>
                        <a:pt x="197" y="10"/>
                      </a:lnTo>
                      <a:lnTo>
                        <a:pt x="185" y="13"/>
                      </a:lnTo>
                      <a:lnTo>
                        <a:pt x="172" y="18"/>
                      </a:lnTo>
                      <a:lnTo>
                        <a:pt x="160" y="23"/>
                      </a:lnTo>
                      <a:lnTo>
                        <a:pt x="148" y="29"/>
                      </a:lnTo>
                      <a:lnTo>
                        <a:pt x="136" y="35"/>
                      </a:lnTo>
                      <a:lnTo>
                        <a:pt x="125" y="42"/>
                      </a:lnTo>
                      <a:lnTo>
                        <a:pt x="114" y="49"/>
                      </a:lnTo>
                      <a:lnTo>
                        <a:pt x="103" y="57"/>
                      </a:lnTo>
                      <a:lnTo>
                        <a:pt x="93" y="65"/>
                      </a:lnTo>
                      <a:lnTo>
                        <a:pt x="83" y="74"/>
                      </a:lnTo>
                      <a:lnTo>
                        <a:pt x="73" y="84"/>
                      </a:lnTo>
                      <a:lnTo>
                        <a:pt x="64" y="94"/>
                      </a:lnTo>
                      <a:lnTo>
                        <a:pt x="56" y="104"/>
                      </a:lnTo>
                      <a:lnTo>
                        <a:pt x="48" y="115"/>
                      </a:lnTo>
                      <a:lnTo>
                        <a:pt x="41" y="126"/>
                      </a:lnTo>
                      <a:lnTo>
                        <a:pt x="34" y="137"/>
                      </a:lnTo>
                      <a:lnTo>
                        <a:pt x="28" y="149"/>
                      </a:lnTo>
                      <a:lnTo>
                        <a:pt x="22" y="161"/>
                      </a:lnTo>
                      <a:lnTo>
                        <a:pt x="17" y="173"/>
                      </a:lnTo>
                      <a:lnTo>
                        <a:pt x="13" y="186"/>
                      </a:lnTo>
                      <a:lnTo>
                        <a:pt x="9" y="199"/>
                      </a:lnTo>
                      <a:lnTo>
                        <a:pt x="6" y="212"/>
                      </a:lnTo>
                      <a:lnTo>
                        <a:pt x="4" y="225"/>
                      </a:lnTo>
                      <a:lnTo>
                        <a:pt x="2" y="238"/>
                      </a:lnTo>
                      <a:lnTo>
                        <a:pt x="1" y="251"/>
                      </a:lnTo>
                      <a:lnTo>
                        <a:pt x="0" y="264"/>
                      </a:lnTo>
                      <a:lnTo>
                        <a:pt x="0" y="278"/>
                      </a:lnTo>
                      <a:lnTo>
                        <a:pt x="1" y="291"/>
                      </a:lnTo>
                      <a:lnTo>
                        <a:pt x="2" y="304"/>
                      </a:lnTo>
                      <a:lnTo>
                        <a:pt x="5" y="317"/>
                      </a:lnTo>
                      <a:lnTo>
                        <a:pt x="7" y="330"/>
                      </a:lnTo>
                      <a:lnTo>
                        <a:pt x="11" y="343"/>
                      </a:lnTo>
                      <a:lnTo>
                        <a:pt x="15" y="356"/>
                      </a:lnTo>
                      <a:lnTo>
                        <a:pt x="19" y="368"/>
                      </a:lnTo>
                      <a:lnTo>
                        <a:pt x="25" y="380"/>
                      </a:lnTo>
                      <a:lnTo>
                        <a:pt x="31" y="392"/>
                      </a:lnTo>
                      <a:lnTo>
                        <a:pt x="37" y="404"/>
                      </a:lnTo>
                      <a:lnTo>
                        <a:pt x="44" y="415"/>
                      </a:lnTo>
                      <a:lnTo>
                        <a:pt x="52" y="426"/>
                      </a:lnTo>
                      <a:lnTo>
                        <a:pt x="60" y="437"/>
                      </a:lnTo>
                      <a:lnTo>
                        <a:pt x="68" y="447"/>
                      </a:lnTo>
                      <a:lnTo>
                        <a:pt x="77" y="456"/>
                      </a:lnTo>
                      <a:lnTo>
                        <a:pt x="87" y="466"/>
                      </a:lnTo>
                      <a:lnTo>
                        <a:pt x="97" y="474"/>
                      </a:lnTo>
                      <a:lnTo>
                        <a:pt x="108" y="483"/>
                      </a:lnTo>
                      <a:lnTo>
                        <a:pt x="118" y="490"/>
                      </a:lnTo>
                      <a:lnTo>
                        <a:pt x="130" y="497"/>
                      </a:lnTo>
                      <a:lnTo>
                        <a:pt x="141" y="504"/>
                      </a:lnTo>
                      <a:lnTo>
                        <a:pt x="153" y="510"/>
                      </a:lnTo>
                      <a:lnTo>
                        <a:pt x="165" y="515"/>
                      </a:lnTo>
                      <a:lnTo>
                        <a:pt x="178" y="520"/>
                      </a:lnTo>
                      <a:lnTo>
                        <a:pt x="190" y="524"/>
                      </a:lnTo>
                      <a:lnTo>
                        <a:pt x="203" y="528"/>
                      </a:lnTo>
                      <a:lnTo>
                        <a:pt x="216" y="531"/>
                      </a:lnTo>
                      <a:lnTo>
                        <a:pt x="229" y="533"/>
                      </a:lnTo>
                      <a:lnTo>
                        <a:pt x="242" y="535"/>
                      </a:lnTo>
                      <a:lnTo>
                        <a:pt x="255" y="536"/>
                      </a:lnTo>
                      <a:lnTo>
                        <a:pt x="269" y="536"/>
                      </a:lnTo>
                      <a:lnTo>
                        <a:pt x="282" y="536"/>
                      </a:lnTo>
                      <a:lnTo>
                        <a:pt x="295" y="535"/>
                      </a:lnTo>
                      <a:lnTo>
                        <a:pt x="309" y="533"/>
                      </a:lnTo>
                      <a:lnTo>
                        <a:pt x="322" y="531"/>
                      </a:lnTo>
                      <a:lnTo>
                        <a:pt x="335" y="528"/>
                      </a:lnTo>
                      <a:lnTo>
                        <a:pt x="347" y="524"/>
                      </a:lnTo>
                      <a:lnTo>
                        <a:pt x="360" y="520"/>
                      </a:lnTo>
                      <a:lnTo>
                        <a:pt x="372" y="515"/>
                      </a:lnTo>
                      <a:lnTo>
                        <a:pt x="384" y="509"/>
                      </a:lnTo>
                      <a:lnTo>
                        <a:pt x="396" y="503"/>
                      </a:lnTo>
                      <a:lnTo>
                        <a:pt x="408" y="497"/>
                      </a:lnTo>
                      <a:lnTo>
                        <a:pt x="419" y="489"/>
                      </a:lnTo>
                      <a:lnTo>
                        <a:pt x="430" y="482"/>
                      </a:lnTo>
                      <a:lnTo>
                        <a:pt x="440" y="473"/>
                      </a:lnTo>
                      <a:lnTo>
                        <a:pt x="450" y="465"/>
                      </a:lnTo>
                      <a:lnTo>
                        <a:pt x="460" y="455"/>
                      </a:lnTo>
                      <a:lnTo>
                        <a:pt x="469" y="446"/>
                      </a:lnTo>
                      <a:lnTo>
                        <a:pt x="477" y="435"/>
                      </a:lnTo>
                      <a:lnTo>
                        <a:pt x="485" y="425"/>
                      </a:lnTo>
                      <a:lnTo>
                        <a:pt x="493" y="414"/>
                      </a:lnTo>
                      <a:lnTo>
                        <a:pt x="500" y="403"/>
                      </a:lnTo>
                      <a:lnTo>
                        <a:pt x="506" y="391"/>
                      </a:lnTo>
                      <a:lnTo>
                        <a:pt x="512" y="379"/>
                      </a:lnTo>
                      <a:lnTo>
                        <a:pt x="517" y="367"/>
                      </a:lnTo>
                      <a:lnTo>
                        <a:pt x="522" y="354"/>
                      </a:lnTo>
                      <a:lnTo>
                        <a:pt x="526" y="342"/>
                      </a:lnTo>
                      <a:lnTo>
                        <a:pt x="529" y="329"/>
                      </a:lnTo>
                      <a:lnTo>
                        <a:pt x="532" y="316"/>
                      </a:lnTo>
                      <a:lnTo>
                        <a:pt x="534" y="303"/>
                      </a:lnTo>
                      <a:lnTo>
                        <a:pt x="535" y="289"/>
                      </a:lnTo>
                      <a:lnTo>
                        <a:pt x="536" y="276"/>
                      </a:lnTo>
                    </a:path>
                  </a:pathLst>
                </a:custGeom>
                <a:noFill/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7560"/>
            <a:ext cx="777096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"/>
          <p:cNvGrpSpPr/>
          <p:nvPr/>
        </p:nvGrpSpPr>
        <p:grpSpPr>
          <a:xfrm>
            <a:off x="0" y="0"/>
            <a:ext cx="9142200" cy="6856560"/>
            <a:chOff x="0" y="0"/>
            <a:chExt cx="9142200" cy="6856560"/>
          </a:xfrm>
        </p:grpSpPr>
        <p:grpSp>
          <p:nvGrpSpPr>
            <p:cNvPr id="104" name=""/>
            <p:cNvGrpSpPr/>
            <p:nvPr/>
          </p:nvGrpSpPr>
          <p:grpSpPr>
            <a:xfrm>
              <a:off x="0" y="0"/>
              <a:ext cx="9142200" cy="6856560"/>
              <a:chOff x="0" y="0"/>
              <a:chExt cx="9142200" cy="6856560"/>
            </a:xfrm>
          </p:grpSpPr>
          <p:sp>
            <p:nvSpPr>
              <p:cNvPr id="105" name=""/>
              <p:cNvSpPr/>
              <p:nvPr/>
            </p:nvSpPr>
            <p:spPr>
              <a:xfrm>
                <a:off x="3351960" y="0"/>
                <a:ext cx="5790240" cy="152280"/>
              </a:xfrm>
              <a:prstGeom prst="roundRect">
                <a:avLst>
                  <a:gd name="adj" fmla="val 1042"/>
                </a:avLst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06" name=""/>
              <p:cNvGrpSpPr/>
              <p:nvPr/>
            </p:nvGrpSpPr>
            <p:grpSpPr>
              <a:xfrm>
                <a:off x="0" y="0"/>
                <a:ext cx="9141120" cy="6856560"/>
                <a:chOff x="0" y="0"/>
                <a:chExt cx="9141120" cy="6856560"/>
              </a:xfrm>
            </p:grpSpPr>
            <p:sp>
              <p:nvSpPr>
                <p:cNvPr id="107" name=""/>
                <p:cNvSpPr/>
                <p:nvPr/>
              </p:nvSpPr>
              <p:spPr>
                <a:xfrm>
                  <a:off x="0" y="3045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0912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9140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2189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52352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8280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13300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43756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7424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04740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35196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65652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9614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26600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57092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87584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18004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4849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7898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094440"/>
                  <a:ext cx="914112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39936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704280"/>
                  <a:ext cx="9141120" cy="108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5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60912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9140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2186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16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8280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0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4372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74212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0470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3516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6561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9610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26564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5705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87512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17968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4846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7891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09372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3986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70356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00776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31268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61760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92216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22672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531640" y="0"/>
                  <a:ext cx="108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836200" y="0"/>
                  <a:ext cx="1440" cy="685656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8837640" y="0"/>
                <a:ext cx="144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9" name=""/>
            <p:cNvGrpSpPr/>
            <p:nvPr/>
          </p:nvGrpSpPr>
          <p:grpSpPr>
            <a:xfrm>
              <a:off x="4680" y="887400"/>
              <a:ext cx="6652800" cy="2849400"/>
              <a:chOff x="4680" y="887400"/>
              <a:chExt cx="6652800" cy="2849400"/>
            </a:xfrm>
          </p:grpSpPr>
          <p:sp>
            <p:nvSpPr>
              <p:cNvPr id="160" name=""/>
              <p:cNvSpPr/>
              <p:nvPr/>
            </p:nvSpPr>
            <p:spPr>
              <a:xfrm>
                <a:off x="803880" y="887400"/>
                <a:ext cx="1440" cy="2849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4680" y="3051360"/>
                <a:ext cx="5096880" cy="4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608760" y="1486800"/>
                <a:ext cx="6048720" cy="4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" name=""/>
              <p:cNvGrpSpPr/>
              <p:nvPr/>
            </p:nvGrpSpPr>
            <p:grpSpPr>
              <a:xfrm>
                <a:off x="675360" y="1366560"/>
                <a:ext cx="247320" cy="245520"/>
                <a:chOff x="675360" y="1366560"/>
                <a:chExt cx="247320" cy="245520"/>
              </a:xfrm>
            </p:grpSpPr>
            <p:sp>
              <p:nvSpPr>
                <p:cNvPr id="164" name=""/>
                <p:cNvSpPr/>
                <p:nvPr/>
              </p:nvSpPr>
              <p:spPr>
                <a:xfrm rot="16200000">
                  <a:off x="676080" y="1365480"/>
                  <a:ext cx="245520" cy="247320"/>
                </a:xfrm>
                <a:custGeom>
                  <a:avLst/>
                  <a:gdLst>
                    <a:gd name="textAreaLeft" fmla="*/ 360 w 245520"/>
                    <a:gd name="textAreaRight" fmla="*/ 245160 w 245520"/>
                    <a:gd name="textAreaTop" fmla="*/ 360 h 247320"/>
                    <a:gd name="textAreaBottom" fmla="*/ 246960 h 247320"/>
                  </a:gdLst>
                  <a:ahLst/>
                  <a:rect l="textAreaLeft" t="textAreaTop" r="textAreaRight" b="textAreaBottom"/>
                  <a:pathLst>
                    <a:path w="21600" h="21758">
                      <a:moveTo>
                        <a:pt x="138" y="0"/>
                      </a:moveTo>
                      <a:arcTo wR="138" hR="138" stAng="16200000" swAng="-5400000"/>
                      <a:lnTo>
                        <a:pt x="0" y="21620"/>
                      </a:lnTo>
                      <a:arcTo wR="138" hR="138" stAng="10800000" swAng="-5400000"/>
                      <a:lnTo>
                        <a:pt x="21462" y="21758"/>
                      </a:lnTo>
                      <a:arcTo wR="138" hR="138" stAng="5400000" swAng="-5400000"/>
                      <a:lnTo>
                        <a:pt x="21600" y="138"/>
                      </a:lnTo>
                      <a:arcTo wR="138" hR="138" stAng="0" swAng="-5400000"/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675360" y="1366560"/>
                  <a:ext cx="247320" cy="245520"/>
                </a:xfrm>
                <a:custGeom>
                  <a:avLst/>
                  <a:gdLst/>
                  <a:ahLst/>
                  <a:rect l="l" t="t" r="r" b="b"/>
                  <a:pathLst>
                    <a:path w="693" h="689">
                      <a:moveTo>
                        <a:pt x="0" y="337"/>
                      </a:moveTo>
                      <a:lnTo>
                        <a:pt x="0" y="354"/>
                      </a:lnTo>
                      <a:lnTo>
                        <a:pt x="1" y="372"/>
                      </a:lnTo>
                      <a:lnTo>
                        <a:pt x="3" y="389"/>
                      </a:lnTo>
                      <a:lnTo>
                        <a:pt x="6" y="406"/>
                      </a:lnTo>
                      <a:lnTo>
                        <a:pt x="9" y="423"/>
                      </a:lnTo>
                      <a:lnTo>
                        <a:pt x="14" y="439"/>
                      </a:lnTo>
                      <a:lnTo>
                        <a:pt x="19" y="456"/>
                      </a:lnTo>
                      <a:lnTo>
                        <a:pt x="25" y="472"/>
                      </a:lnTo>
                      <a:lnTo>
                        <a:pt x="32" y="488"/>
                      </a:lnTo>
                      <a:lnTo>
                        <a:pt x="39" y="503"/>
                      </a:lnTo>
                      <a:lnTo>
                        <a:pt x="48" y="518"/>
                      </a:lnTo>
                      <a:lnTo>
                        <a:pt x="57" y="533"/>
                      </a:lnTo>
                      <a:lnTo>
                        <a:pt x="67" y="547"/>
                      </a:lnTo>
                      <a:lnTo>
                        <a:pt x="77" y="561"/>
                      </a:lnTo>
                      <a:lnTo>
                        <a:pt x="89" y="574"/>
                      </a:lnTo>
                      <a:lnTo>
                        <a:pt x="100" y="586"/>
                      </a:lnTo>
                      <a:lnTo>
                        <a:pt x="113" y="598"/>
                      </a:lnTo>
                      <a:lnTo>
                        <a:pt x="126" y="610"/>
                      </a:lnTo>
                      <a:lnTo>
                        <a:pt x="140" y="620"/>
                      </a:lnTo>
                      <a:lnTo>
                        <a:pt x="154" y="630"/>
                      </a:lnTo>
                      <a:lnTo>
                        <a:pt x="169" y="639"/>
                      </a:lnTo>
                      <a:lnTo>
                        <a:pt x="184" y="648"/>
                      </a:lnTo>
                      <a:lnTo>
                        <a:pt x="199" y="656"/>
                      </a:lnTo>
                      <a:lnTo>
                        <a:pt x="215" y="662"/>
                      </a:lnTo>
                      <a:lnTo>
                        <a:pt x="231" y="669"/>
                      </a:lnTo>
                      <a:lnTo>
                        <a:pt x="248" y="674"/>
                      </a:lnTo>
                      <a:lnTo>
                        <a:pt x="265" y="678"/>
                      </a:lnTo>
                      <a:lnTo>
                        <a:pt x="282" y="682"/>
                      </a:lnTo>
                      <a:lnTo>
                        <a:pt x="299" y="685"/>
                      </a:lnTo>
                      <a:lnTo>
                        <a:pt x="316" y="687"/>
                      </a:lnTo>
                      <a:lnTo>
                        <a:pt x="333" y="688"/>
                      </a:lnTo>
                      <a:lnTo>
                        <a:pt x="351" y="688"/>
                      </a:lnTo>
                      <a:lnTo>
                        <a:pt x="368" y="687"/>
                      </a:lnTo>
                      <a:lnTo>
                        <a:pt x="385" y="686"/>
                      </a:lnTo>
                      <a:lnTo>
                        <a:pt x="402" y="683"/>
                      </a:lnTo>
                      <a:lnTo>
                        <a:pt x="419" y="680"/>
                      </a:lnTo>
                      <a:lnTo>
                        <a:pt x="436" y="676"/>
                      </a:lnTo>
                      <a:lnTo>
                        <a:pt x="453" y="671"/>
                      </a:lnTo>
                      <a:lnTo>
                        <a:pt x="469" y="665"/>
                      </a:lnTo>
                      <a:lnTo>
                        <a:pt x="485" y="659"/>
                      </a:lnTo>
                      <a:lnTo>
                        <a:pt x="501" y="652"/>
                      </a:lnTo>
                      <a:lnTo>
                        <a:pt x="516" y="643"/>
                      </a:lnTo>
                      <a:lnTo>
                        <a:pt x="531" y="635"/>
                      </a:lnTo>
                      <a:lnTo>
                        <a:pt x="546" y="625"/>
                      </a:lnTo>
                      <a:lnTo>
                        <a:pt x="559" y="615"/>
                      </a:lnTo>
                      <a:lnTo>
                        <a:pt x="573" y="604"/>
                      </a:lnTo>
                      <a:lnTo>
                        <a:pt x="586" y="592"/>
                      </a:lnTo>
                      <a:lnTo>
                        <a:pt x="598" y="580"/>
                      </a:lnTo>
                      <a:lnTo>
                        <a:pt x="609" y="567"/>
                      </a:lnTo>
                      <a:lnTo>
                        <a:pt x="620" y="554"/>
                      </a:lnTo>
                      <a:lnTo>
                        <a:pt x="631" y="540"/>
                      </a:lnTo>
                      <a:lnTo>
                        <a:pt x="640" y="525"/>
                      </a:lnTo>
                      <a:lnTo>
                        <a:pt x="649" y="510"/>
                      </a:lnTo>
                      <a:lnTo>
                        <a:pt x="657" y="495"/>
                      </a:lnTo>
                      <a:lnTo>
                        <a:pt x="664" y="479"/>
                      </a:lnTo>
                      <a:lnTo>
                        <a:pt x="670" y="463"/>
                      </a:lnTo>
                      <a:lnTo>
                        <a:pt x="676" y="447"/>
                      </a:lnTo>
                      <a:lnTo>
                        <a:pt x="681" y="430"/>
                      </a:lnTo>
                      <a:lnTo>
                        <a:pt x="685" y="414"/>
                      </a:lnTo>
                      <a:lnTo>
                        <a:pt x="688" y="397"/>
                      </a:lnTo>
                      <a:lnTo>
                        <a:pt x="690" y="380"/>
                      </a:lnTo>
                      <a:lnTo>
                        <a:pt x="692" y="362"/>
                      </a:lnTo>
                      <a:lnTo>
                        <a:pt x="692" y="345"/>
                      </a:lnTo>
                      <a:lnTo>
                        <a:pt x="692" y="328"/>
                      </a:lnTo>
                      <a:lnTo>
                        <a:pt x="690" y="311"/>
                      </a:lnTo>
                      <a:lnTo>
                        <a:pt x="688" y="294"/>
                      </a:lnTo>
                      <a:lnTo>
                        <a:pt x="685" y="277"/>
                      </a:lnTo>
                      <a:lnTo>
                        <a:pt x="681" y="260"/>
                      </a:lnTo>
                      <a:lnTo>
                        <a:pt x="677" y="243"/>
                      </a:lnTo>
                      <a:lnTo>
                        <a:pt x="671" y="227"/>
                      </a:lnTo>
                      <a:lnTo>
                        <a:pt x="665" y="211"/>
                      </a:lnTo>
                      <a:lnTo>
                        <a:pt x="658" y="195"/>
                      </a:lnTo>
                      <a:lnTo>
                        <a:pt x="650" y="180"/>
                      </a:lnTo>
                      <a:lnTo>
                        <a:pt x="641" y="165"/>
                      </a:lnTo>
                      <a:lnTo>
                        <a:pt x="632" y="150"/>
                      </a:lnTo>
                      <a:lnTo>
                        <a:pt x="622" y="136"/>
                      </a:lnTo>
                      <a:lnTo>
                        <a:pt x="611" y="123"/>
                      </a:lnTo>
                      <a:lnTo>
                        <a:pt x="600" y="110"/>
                      </a:lnTo>
                      <a:lnTo>
                        <a:pt x="587" y="98"/>
                      </a:lnTo>
                      <a:lnTo>
                        <a:pt x="575" y="86"/>
                      </a:lnTo>
                      <a:lnTo>
                        <a:pt x="561" y="75"/>
                      </a:lnTo>
                      <a:lnTo>
                        <a:pt x="548" y="64"/>
                      </a:lnTo>
                      <a:lnTo>
                        <a:pt x="533" y="55"/>
                      </a:lnTo>
                      <a:lnTo>
                        <a:pt x="518" y="46"/>
                      </a:lnTo>
                      <a:lnTo>
                        <a:pt x="503" y="38"/>
                      </a:lnTo>
                      <a:lnTo>
                        <a:pt x="487" y="30"/>
                      </a:lnTo>
                      <a:lnTo>
                        <a:pt x="471" y="23"/>
                      </a:lnTo>
                      <a:lnTo>
                        <a:pt x="455" y="18"/>
                      </a:lnTo>
                      <a:lnTo>
                        <a:pt x="439" y="13"/>
                      </a:lnTo>
                      <a:lnTo>
                        <a:pt x="422" y="8"/>
                      </a:lnTo>
                      <a:lnTo>
                        <a:pt x="405" y="5"/>
                      </a:lnTo>
                      <a:lnTo>
                        <a:pt x="388" y="2"/>
                      </a:lnTo>
                      <a:lnTo>
                        <a:pt x="370" y="1"/>
                      </a:lnTo>
                      <a:lnTo>
                        <a:pt x="353" y="0"/>
                      </a:lnTo>
                    </a:path>
                  </a:pathLst>
                </a:custGeom>
                <a:noFill/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2349360" y="3098880"/>
              <a:ext cx="6043680" cy="2874960"/>
              <a:chOff x="2349360" y="3098880"/>
              <a:chExt cx="6043680" cy="2874960"/>
            </a:xfrm>
          </p:grpSpPr>
          <p:sp>
            <p:nvSpPr>
              <p:cNvPr id="167" name=""/>
              <p:cNvSpPr/>
              <p:nvPr/>
            </p:nvSpPr>
            <p:spPr>
              <a:xfrm>
                <a:off x="2349360" y="5462640"/>
                <a:ext cx="6043680" cy="144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208720" y="3098880"/>
                <a:ext cx="1080" cy="287496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9" name=""/>
              <p:cNvGrpSpPr/>
              <p:nvPr/>
            </p:nvGrpSpPr>
            <p:grpSpPr>
              <a:xfrm>
                <a:off x="8088120" y="5311800"/>
                <a:ext cx="246960" cy="245880"/>
                <a:chOff x="8088120" y="5311800"/>
                <a:chExt cx="246960" cy="245880"/>
              </a:xfrm>
            </p:grpSpPr>
            <p:sp>
              <p:nvSpPr>
                <p:cNvPr id="170" name=""/>
                <p:cNvSpPr/>
                <p:nvPr/>
              </p:nvSpPr>
              <p:spPr>
                <a:xfrm rot="5400000">
                  <a:off x="8089920" y="5312520"/>
                  <a:ext cx="245880" cy="244080"/>
                </a:xfrm>
                <a:prstGeom prst="roundRect">
                  <a:avLst>
                    <a:gd name="adj" fmla="val 639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8088120" y="5311800"/>
                  <a:ext cx="244080" cy="245880"/>
                </a:xfrm>
                <a:custGeom>
                  <a:avLst/>
                  <a:gdLst/>
                  <a:ahLst/>
                  <a:rect l="l" t="t" r="r" b="b"/>
                  <a:pathLst>
                    <a:path w="693" h="689">
                      <a:moveTo>
                        <a:pt x="339" y="0"/>
                      </a:moveTo>
                      <a:lnTo>
                        <a:pt x="322" y="1"/>
                      </a:lnTo>
                      <a:lnTo>
                        <a:pt x="304" y="2"/>
                      </a:lnTo>
                      <a:lnTo>
                        <a:pt x="287" y="5"/>
                      </a:lnTo>
                      <a:lnTo>
                        <a:pt x="270" y="8"/>
                      </a:lnTo>
                      <a:lnTo>
                        <a:pt x="253" y="13"/>
                      </a:lnTo>
                      <a:lnTo>
                        <a:pt x="237" y="18"/>
                      </a:lnTo>
                      <a:lnTo>
                        <a:pt x="221" y="23"/>
                      </a:lnTo>
                      <a:lnTo>
                        <a:pt x="205" y="30"/>
                      </a:lnTo>
                      <a:lnTo>
                        <a:pt x="189" y="38"/>
                      </a:lnTo>
                      <a:lnTo>
                        <a:pt x="174" y="46"/>
                      </a:lnTo>
                      <a:lnTo>
                        <a:pt x="159" y="55"/>
                      </a:lnTo>
                      <a:lnTo>
                        <a:pt x="144" y="64"/>
                      </a:lnTo>
                      <a:lnTo>
                        <a:pt x="131" y="75"/>
                      </a:lnTo>
                      <a:lnTo>
                        <a:pt x="117" y="86"/>
                      </a:lnTo>
                      <a:lnTo>
                        <a:pt x="105" y="98"/>
                      </a:lnTo>
                      <a:lnTo>
                        <a:pt x="92" y="110"/>
                      </a:lnTo>
                      <a:lnTo>
                        <a:pt x="81" y="123"/>
                      </a:lnTo>
                      <a:lnTo>
                        <a:pt x="70" y="136"/>
                      </a:lnTo>
                      <a:lnTo>
                        <a:pt x="60" y="150"/>
                      </a:lnTo>
                      <a:lnTo>
                        <a:pt x="51" y="165"/>
                      </a:lnTo>
                      <a:lnTo>
                        <a:pt x="42" y="180"/>
                      </a:lnTo>
                      <a:lnTo>
                        <a:pt x="34" y="195"/>
                      </a:lnTo>
                      <a:lnTo>
                        <a:pt x="27" y="211"/>
                      </a:lnTo>
                      <a:lnTo>
                        <a:pt x="21" y="227"/>
                      </a:lnTo>
                      <a:lnTo>
                        <a:pt x="15" y="243"/>
                      </a:lnTo>
                      <a:lnTo>
                        <a:pt x="11" y="260"/>
                      </a:lnTo>
                      <a:lnTo>
                        <a:pt x="7" y="277"/>
                      </a:lnTo>
                      <a:lnTo>
                        <a:pt x="4" y="294"/>
                      </a:lnTo>
                      <a:lnTo>
                        <a:pt x="2" y="311"/>
                      </a:lnTo>
                      <a:lnTo>
                        <a:pt x="0" y="328"/>
                      </a:lnTo>
                      <a:lnTo>
                        <a:pt x="0" y="345"/>
                      </a:lnTo>
                      <a:lnTo>
                        <a:pt x="0" y="362"/>
                      </a:lnTo>
                      <a:lnTo>
                        <a:pt x="2" y="380"/>
                      </a:lnTo>
                      <a:lnTo>
                        <a:pt x="4" y="397"/>
                      </a:lnTo>
                      <a:lnTo>
                        <a:pt x="7" y="414"/>
                      </a:lnTo>
                      <a:lnTo>
                        <a:pt x="11" y="430"/>
                      </a:lnTo>
                      <a:lnTo>
                        <a:pt x="16" y="447"/>
                      </a:lnTo>
                      <a:lnTo>
                        <a:pt x="22" y="463"/>
                      </a:lnTo>
                      <a:lnTo>
                        <a:pt x="28" y="479"/>
                      </a:lnTo>
                      <a:lnTo>
                        <a:pt x="35" y="495"/>
                      </a:lnTo>
                      <a:lnTo>
                        <a:pt x="43" y="510"/>
                      </a:lnTo>
                      <a:lnTo>
                        <a:pt x="52" y="525"/>
                      </a:lnTo>
                      <a:lnTo>
                        <a:pt x="61" y="540"/>
                      </a:lnTo>
                      <a:lnTo>
                        <a:pt x="72" y="554"/>
                      </a:lnTo>
                      <a:lnTo>
                        <a:pt x="83" y="567"/>
                      </a:lnTo>
                      <a:lnTo>
                        <a:pt x="94" y="580"/>
                      </a:lnTo>
                      <a:lnTo>
                        <a:pt x="106" y="592"/>
                      </a:lnTo>
                      <a:lnTo>
                        <a:pt x="119" y="604"/>
                      </a:lnTo>
                      <a:lnTo>
                        <a:pt x="133" y="615"/>
                      </a:lnTo>
                      <a:lnTo>
                        <a:pt x="146" y="625"/>
                      </a:lnTo>
                      <a:lnTo>
                        <a:pt x="161" y="635"/>
                      </a:lnTo>
                      <a:lnTo>
                        <a:pt x="176" y="643"/>
                      </a:lnTo>
                      <a:lnTo>
                        <a:pt x="191" y="652"/>
                      </a:lnTo>
                      <a:lnTo>
                        <a:pt x="207" y="659"/>
                      </a:lnTo>
                      <a:lnTo>
                        <a:pt x="223" y="665"/>
                      </a:lnTo>
                      <a:lnTo>
                        <a:pt x="239" y="671"/>
                      </a:lnTo>
                      <a:lnTo>
                        <a:pt x="256" y="676"/>
                      </a:lnTo>
                      <a:lnTo>
                        <a:pt x="273" y="680"/>
                      </a:lnTo>
                      <a:lnTo>
                        <a:pt x="290" y="683"/>
                      </a:lnTo>
                      <a:lnTo>
                        <a:pt x="307" y="686"/>
                      </a:lnTo>
                      <a:lnTo>
                        <a:pt x="324" y="687"/>
                      </a:lnTo>
                      <a:lnTo>
                        <a:pt x="341" y="688"/>
                      </a:lnTo>
                      <a:lnTo>
                        <a:pt x="359" y="688"/>
                      </a:lnTo>
                      <a:lnTo>
                        <a:pt x="376" y="687"/>
                      </a:lnTo>
                      <a:lnTo>
                        <a:pt x="393" y="685"/>
                      </a:lnTo>
                      <a:lnTo>
                        <a:pt x="410" y="682"/>
                      </a:lnTo>
                      <a:lnTo>
                        <a:pt x="427" y="678"/>
                      </a:lnTo>
                      <a:lnTo>
                        <a:pt x="444" y="674"/>
                      </a:lnTo>
                      <a:lnTo>
                        <a:pt x="461" y="669"/>
                      </a:lnTo>
                      <a:lnTo>
                        <a:pt x="477" y="662"/>
                      </a:lnTo>
                      <a:lnTo>
                        <a:pt x="493" y="656"/>
                      </a:lnTo>
                      <a:lnTo>
                        <a:pt x="508" y="648"/>
                      </a:lnTo>
                      <a:lnTo>
                        <a:pt x="523" y="639"/>
                      </a:lnTo>
                      <a:lnTo>
                        <a:pt x="538" y="630"/>
                      </a:lnTo>
                      <a:lnTo>
                        <a:pt x="552" y="620"/>
                      </a:lnTo>
                      <a:lnTo>
                        <a:pt x="566" y="610"/>
                      </a:lnTo>
                      <a:lnTo>
                        <a:pt x="579" y="598"/>
                      </a:lnTo>
                      <a:lnTo>
                        <a:pt x="592" y="586"/>
                      </a:lnTo>
                      <a:lnTo>
                        <a:pt x="603" y="574"/>
                      </a:lnTo>
                      <a:lnTo>
                        <a:pt x="615" y="561"/>
                      </a:lnTo>
                      <a:lnTo>
                        <a:pt x="625" y="547"/>
                      </a:lnTo>
                      <a:lnTo>
                        <a:pt x="635" y="533"/>
                      </a:lnTo>
                      <a:lnTo>
                        <a:pt x="644" y="518"/>
                      </a:lnTo>
                      <a:lnTo>
                        <a:pt x="653" y="503"/>
                      </a:lnTo>
                      <a:lnTo>
                        <a:pt x="660" y="488"/>
                      </a:lnTo>
                      <a:lnTo>
                        <a:pt x="667" y="472"/>
                      </a:lnTo>
                      <a:lnTo>
                        <a:pt x="673" y="456"/>
                      </a:lnTo>
                      <a:lnTo>
                        <a:pt x="678" y="439"/>
                      </a:lnTo>
                      <a:lnTo>
                        <a:pt x="683" y="423"/>
                      </a:lnTo>
                      <a:lnTo>
                        <a:pt x="686" y="406"/>
                      </a:lnTo>
                      <a:lnTo>
                        <a:pt x="689" y="389"/>
                      </a:lnTo>
                      <a:lnTo>
                        <a:pt x="691" y="372"/>
                      </a:lnTo>
                      <a:lnTo>
                        <a:pt x="692" y="354"/>
                      </a:lnTo>
                      <a:lnTo>
                        <a:pt x="692" y="337"/>
                      </a:lnTo>
                    </a:path>
                  </a:pathLst>
                </a:custGeom>
                <a:noFill/>
                <a:ln w="9360">
                  <a:solidFill>
                    <a:srgbClr val="6f89f7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360" y="1455480"/>
            <a:ext cx="7770600" cy="143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455480"/>
            <a:ext cx="77724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Arial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4000" spc="-1" strike="noStrike">
                <a:solidFill>
                  <a:srgbClr val="40458c"/>
                </a:solidFill>
                <a:latin typeface="Tahoma"/>
              </a:rPr>
              <a:t>Entrevistas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95460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4229280"/>
            <a:ext cx="9144000" cy="14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rimera Entrevista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71040" y="1557000"/>
            <a:ext cx="8077320" cy="504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440" indent="-4604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ntre la información que debe traerse de la 1º entrevista (dentro de lo posible) está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i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Recursos de comunicacion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que forman parte del ambiente operaciona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i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Restricciones del desarrollo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(plazos, lenguajes de desarrollo o BD a utilizar, browsers usados para Front-End, etc.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dea general de los </a:t>
            </a:r>
            <a:r>
              <a:rPr b="0" i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macro-component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del sistema (2 – 4 componentes), y sus prioridades de desarroll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i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Relación entr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estos </a:t>
            </a:r>
            <a:r>
              <a:rPr b="0" i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component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i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Nivel de innovación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que involucra el proyecto, para la organización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Segunda Entrevis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675720" indent="-675720">
              <a:lnSpc>
                <a:spcPct val="80000"/>
              </a:lnSpc>
              <a:spcBef>
                <a:spcPts val="700"/>
              </a:spcBef>
              <a:spcAft>
                <a:spcPts val="711"/>
              </a:spcAft>
              <a:buSzPct val="113220"/>
              <a:buBlip>
                <a:blip r:embed="rId1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Entre 45’  y 1 hora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675720" indent="-675720">
              <a:lnSpc>
                <a:spcPct val="80000"/>
              </a:lnSpc>
              <a:spcBef>
                <a:spcPts val="700"/>
              </a:spcBef>
              <a:spcAft>
                <a:spcPts val="711"/>
              </a:spcAft>
              <a:buSzPct val="113220"/>
              <a:buBlip>
                <a:blip r:embed="rId2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en-GB" sz="1900" spc="-1" strike="noStrike" u="sng">
                <a:solidFill>
                  <a:srgbClr val="40458c"/>
                </a:solidFill>
                <a:uFillTx/>
                <a:latin typeface="Tahoma"/>
              </a:rPr>
              <a:t>Entrevista</a:t>
            </a: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 semi-</a:t>
            </a:r>
            <a:r>
              <a:rPr b="1" lang="en-GB" sz="1900" spc="-1" strike="noStrike" u="sng">
                <a:solidFill>
                  <a:srgbClr val="40458c"/>
                </a:solidFill>
                <a:uFillTx/>
                <a:latin typeface="Tahoma"/>
              </a:rPr>
              <a:t>abierta</a:t>
            </a: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 (guiada por el cliente y el entrevistador)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675720" indent="-675720">
              <a:lnSpc>
                <a:spcPct val="80000"/>
              </a:lnSpc>
              <a:spcBef>
                <a:spcPts val="700"/>
              </a:spcBef>
              <a:spcAft>
                <a:spcPts val="711"/>
              </a:spcAft>
              <a:buSzPct val="113220"/>
              <a:buBlip>
                <a:blip r:embed="rId3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La idea es </a:t>
            </a:r>
            <a:r>
              <a:rPr b="1" lang="en-GB" sz="1900" spc="-1" strike="noStrike" u="sng">
                <a:solidFill>
                  <a:srgbClr val="40458c"/>
                </a:solidFill>
                <a:uFillTx/>
                <a:latin typeface="Tahoma"/>
              </a:rPr>
              <a:t>conoce</a:t>
            </a:r>
            <a:r>
              <a:rPr b="1" lang="en-GB" sz="1900" spc="-1" strike="noStrike">
                <a:solidFill>
                  <a:srgbClr val="40458c"/>
                </a:solidFill>
                <a:latin typeface="Tahoma"/>
              </a:rPr>
              <a:t>r más</a:t>
            </a: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 en detalle los </a:t>
            </a:r>
            <a:r>
              <a:rPr b="1" lang="en-GB" sz="1900" spc="-1" strike="noStrike" u="sng">
                <a:solidFill>
                  <a:srgbClr val="40458c"/>
                </a:solidFill>
                <a:uFillTx/>
                <a:latin typeface="Tahoma"/>
              </a:rPr>
              <a:t>sub-problemas</a:t>
            </a: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 a resolver, el </a:t>
            </a:r>
            <a:r>
              <a:rPr b="1" lang="en-GB" sz="1900" spc="-1" strike="noStrike" u="sng">
                <a:solidFill>
                  <a:srgbClr val="40458c"/>
                </a:solidFill>
                <a:uFillTx/>
                <a:latin typeface="Tahoma"/>
              </a:rPr>
              <a:t>ambiente operacional</a:t>
            </a: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 (en caso de dudas) y las </a:t>
            </a:r>
            <a:r>
              <a:rPr b="1" lang="en-GB" sz="1900" spc="-1" strike="noStrike" u="sng">
                <a:solidFill>
                  <a:srgbClr val="40458c"/>
                </a:solidFill>
                <a:uFillTx/>
                <a:latin typeface="Tahoma"/>
              </a:rPr>
              <a:t>características de los usuarios</a:t>
            </a: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 del sistema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675720" indent="-675720">
              <a:lnSpc>
                <a:spcPct val="80000"/>
              </a:lnSpc>
              <a:spcBef>
                <a:spcPts val="700"/>
              </a:spcBef>
              <a:spcAft>
                <a:spcPts val="711"/>
              </a:spcAft>
              <a:buSzPct val="113220"/>
              <a:buBlip>
                <a:blip r:embed="rId4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Que guíe el entrevistador, pero que le permita al </a:t>
            </a:r>
            <a:r>
              <a:rPr b="1" lang="en-GB" sz="1900" spc="-1" strike="noStrike" u="sng">
                <a:solidFill>
                  <a:srgbClr val="40458c"/>
                </a:solidFill>
                <a:uFillTx/>
                <a:latin typeface="Tahoma"/>
              </a:rPr>
              <a:t>cliente expresar todo</a:t>
            </a: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 lo que tenga que decir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675720" indent="-675720">
              <a:lnSpc>
                <a:spcPct val="80000"/>
              </a:lnSpc>
              <a:spcBef>
                <a:spcPts val="700"/>
              </a:spcBef>
              <a:spcAft>
                <a:spcPts val="711"/>
              </a:spcAft>
              <a:buSzPct val="113220"/>
              <a:buBlip>
                <a:blip r:embed="rId5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en-GB" sz="1900" spc="-1" strike="noStrike" u="sng">
                <a:solidFill>
                  <a:srgbClr val="40458c"/>
                </a:solidFill>
                <a:uFillTx/>
                <a:latin typeface="Tahoma"/>
              </a:rPr>
              <a:t>Continúen siendo “positivos”</a:t>
            </a: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, hasta conocer más el problema. Sin embargo si hay alarmas tempranas, pónganle el aviso al cliente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675720" indent="-675720">
              <a:lnSpc>
                <a:spcPct val="80000"/>
              </a:lnSpc>
              <a:spcBef>
                <a:spcPts val="700"/>
              </a:spcBef>
              <a:spcAft>
                <a:spcPts val="711"/>
              </a:spcAft>
              <a:buSzPct val="113220"/>
              <a:buBlip>
                <a:blip r:embed="rId6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en-GB" sz="1900" spc="-1" strike="noStrike" u="sng">
                <a:solidFill>
                  <a:srgbClr val="40458c"/>
                </a:solidFill>
                <a:uFillTx/>
                <a:latin typeface="Tahoma"/>
              </a:rPr>
              <a:t>No prometan</a:t>
            </a: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 nada hasta analizar el problema en detalle. CONTÉNGASE !!!!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675720" indent="-675720">
              <a:lnSpc>
                <a:spcPct val="80000"/>
              </a:lnSpc>
              <a:spcBef>
                <a:spcPts val="700"/>
              </a:spcBef>
              <a:spcAft>
                <a:spcPts val="711"/>
              </a:spcAft>
              <a:buSzPct val="113220"/>
              <a:buBlip>
                <a:blip r:embed="rId7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Usen esta entrevista para completar la información relevada y clarificar aspectos oscuros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675720" indent="-675720">
              <a:lnSpc>
                <a:spcPct val="80000"/>
              </a:lnSpc>
              <a:spcBef>
                <a:spcPts val="799"/>
              </a:spcBef>
              <a:buSzPct val="129638"/>
              <a:buBlip>
                <a:blip r:embed="rId8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Traten de mantener al cliente en la línea de lo que es relevante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  <a:p>
            <a:pPr marL="675720" indent="-675720">
              <a:lnSpc>
                <a:spcPct val="80000"/>
              </a:lnSpc>
              <a:spcBef>
                <a:spcPts val="799"/>
              </a:spcBef>
              <a:buSzPct val="129638"/>
              <a:buBlip>
                <a:blip r:embed="rId9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1900" spc="-1" strike="noStrike">
                <a:solidFill>
                  <a:srgbClr val="40458c"/>
                </a:solidFill>
                <a:latin typeface="Tahoma"/>
              </a:rPr>
              <a:t>Lleven la lista de preguntas preparadas...</a:t>
            </a:r>
            <a:endParaRPr b="0" lang="en-US" sz="19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De la Tercera en Adelante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8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682920" indent="-682920">
              <a:lnSpc>
                <a:spcPct val="90000"/>
              </a:lnSpc>
              <a:spcBef>
                <a:spcPts val="799"/>
              </a:spcBef>
              <a:buSzPct val="129533"/>
              <a:buBlip>
                <a:blip r:embed="rId1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ntre 20’  y 35’.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82920" indent="-682920">
              <a:lnSpc>
                <a:spcPct val="90000"/>
              </a:lnSpc>
              <a:spcBef>
                <a:spcPts val="799"/>
              </a:spcBef>
              <a:buSzPct val="129533"/>
              <a:buBlip>
                <a:blip r:embed="rId2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Casi todo lo anterior..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82920" indent="-682920">
              <a:lnSpc>
                <a:spcPct val="90000"/>
              </a:lnSpc>
              <a:spcBef>
                <a:spcPts val="799"/>
              </a:spcBef>
              <a:buSzPct val="129533"/>
              <a:buBlip>
                <a:blip r:embed="rId3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Entrevista focalizada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(guiada por el entrevistador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82920" indent="-682920">
              <a:lnSpc>
                <a:spcPct val="90000"/>
              </a:lnSpc>
              <a:spcBef>
                <a:spcPts val="799"/>
              </a:spcBef>
              <a:buSzPct val="129533"/>
              <a:buBlip>
                <a:blip r:embed="rId4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 utiliza para </a:t>
            </a:r>
            <a:r>
              <a:rPr b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completar/profundizar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la información relevada y </a:t>
            </a:r>
            <a:r>
              <a:rPr b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clarificar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spectos oscur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82920" indent="-682920">
              <a:lnSpc>
                <a:spcPct val="90000"/>
              </a:lnSpc>
              <a:spcBef>
                <a:spcPts val="799"/>
              </a:spcBef>
              <a:buSzPct val="129533"/>
              <a:buBlip>
                <a:blip r:embed="rId5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l cliente debe mantenerse en la línea de lo que es releva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82920" indent="-682920">
              <a:lnSpc>
                <a:spcPct val="90000"/>
              </a:lnSpc>
              <a:spcBef>
                <a:spcPts val="799"/>
              </a:spcBef>
              <a:buSzPct val="129533"/>
              <a:buBlip>
                <a:blip r:embed="rId6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 obtienen los </a:t>
            </a:r>
            <a:r>
              <a:rPr b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requisitos de usuari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82920" indent="-682920">
              <a:lnSpc>
                <a:spcPct val="90000"/>
              </a:lnSpc>
              <a:spcBef>
                <a:spcPts val="799"/>
              </a:spcBef>
              <a:buSzPct val="129533"/>
              <a:buBlip>
                <a:blip r:embed="rId7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ea r</a:t>
            </a:r>
            <a:r>
              <a:rPr b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ealista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, cueste lo que cues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82920" indent="-682920">
              <a:lnSpc>
                <a:spcPct val="90000"/>
              </a:lnSpc>
              <a:spcBef>
                <a:spcPts val="799"/>
              </a:spcBef>
              <a:buSzPct val="129533"/>
              <a:buBlip>
                <a:blip r:embed="rId8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No prometer nada que no tengamos la certeza, de que va a poder realizars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682920" indent="-682920">
              <a:lnSpc>
                <a:spcPct val="90000"/>
              </a:lnSpc>
              <a:spcBef>
                <a:spcPts val="799"/>
              </a:spcBef>
              <a:buSzPct val="129533"/>
              <a:buBlip>
                <a:blip r:embed="rId9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Lleve la lista de preguntas preparadas..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trevistas de Valid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96960" indent="-696960">
              <a:lnSpc>
                <a:spcPct val="90000"/>
              </a:lnSpc>
              <a:spcBef>
                <a:spcPts val="799"/>
              </a:spcBef>
              <a:spcAft>
                <a:spcPts val="1049"/>
              </a:spcAft>
              <a:buSzPct val="113071"/>
              <a:buBlip>
                <a:blip r:embed="rId1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Valida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los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requisitos conflictivos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(al menos una vez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96960" indent="-696960">
              <a:lnSpc>
                <a:spcPct val="90000"/>
              </a:lnSpc>
              <a:spcBef>
                <a:spcPts val="799"/>
              </a:spcBef>
              <a:spcAft>
                <a:spcPts val="1049"/>
              </a:spcAft>
              <a:buSzPct val="113071"/>
              <a:buBlip>
                <a:blip r:embed="rId2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Valida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todo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lo que usted considere necesari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... pero con cuidado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96960" indent="-696960">
              <a:lnSpc>
                <a:spcPct val="90000"/>
              </a:lnSpc>
              <a:spcBef>
                <a:spcPts val="799"/>
              </a:spcBef>
              <a:spcAft>
                <a:spcPts val="1049"/>
              </a:spcAft>
              <a:buSzPct val="113071"/>
              <a:buBlip>
                <a:blip r:embed="rId3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Validar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l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avance del proyect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, a través de prototipos (buenos prototipos !!!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96960" indent="-696960">
              <a:lnSpc>
                <a:spcPct val="90000"/>
              </a:lnSpc>
              <a:spcBef>
                <a:spcPts val="799"/>
              </a:spcBef>
              <a:spcAft>
                <a:spcPts val="1049"/>
              </a:spcAft>
              <a:buSzPct val="113071"/>
              <a:buBlip>
                <a:blip r:embed="rId4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Valid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sólo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lo que está escrito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en los requisitos.... Cualquier otra cosa está fuera de lo que usted debe realizar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696960" indent="-696960">
              <a:lnSpc>
                <a:spcPct val="90000"/>
              </a:lnSpc>
              <a:spcBef>
                <a:spcPts val="799"/>
              </a:spcBef>
              <a:spcAft>
                <a:spcPts val="1049"/>
              </a:spcAft>
              <a:buSzPct val="113071"/>
              <a:buBlip>
                <a:blip r:embed="rId5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El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tiempo del client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también </a:t>
            </a:r>
            <a:r>
              <a:rPr b="1" lang="en-US" sz="2800" spc="-1" strike="noStrike" u="sng">
                <a:solidFill>
                  <a:srgbClr val="40458c"/>
                </a:solidFill>
                <a:uFillTx/>
                <a:latin typeface="Tahoma"/>
              </a:rPr>
              <a:t>vale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.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trevistas de Valid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42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682920" indent="-682920">
              <a:spcBef>
                <a:spcPts val="799"/>
              </a:spcBef>
              <a:spcAft>
                <a:spcPts val="1400"/>
              </a:spcAft>
              <a:buSzPct val="113122"/>
              <a:buBlip>
                <a:blip r:embed="rId1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nstálele el software (prototipo) al cliente, si es necesario, y </a:t>
            </a:r>
            <a:r>
              <a:rPr b="1" lang="en-GB" sz="3200" spc="-1" strike="noStrike" u="sng">
                <a:solidFill>
                  <a:srgbClr val="40458c"/>
                </a:solidFill>
                <a:uFillTx/>
                <a:latin typeface="Tahoma"/>
              </a:rPr>
              <a:t>asegúrese de que los prototipos sean validados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682920" indent="-682920">
              <a:spcBef>
                <a:spcPts val="799"/>
              </a:spcBef>
              <a:spcAft>
                <a:spcPts val="1400"/>
              </a:spcAft>
              <a:buSzPct val="113122"/>
              <a:buBlip>
                <a:blip r:embed="rId2"/>
              </a:buBlip>
              <a:tabLst>
                <a:tab algn="l" pos="1266840"/>
                <a:tab algn="l" pos="2181240"/>
                <a:tab algn="l" pos="3095640"/>
                <a:tab algn="l" pos="4010040"/>
                <a:tab algn="l" pos="4924440"/>
                <a:tab algn="l" pos="5838840"/>
                <a:tab algn="l" pos="6753240"/>
                <a:tab algn="l" pos="7667640"/>
                <a:tab algn="l" pos="8582040"/>
                <a:tab algn="l" pos="9496440"/>
                <a:tab algn="l" pos="1041084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l uso de prototipos involucra una etapa de </a:t>
            </a:r>
            <a:r>
              <a:rPr b="1" lang="en-GB" sz="3200" spc="-1" strike="noStrike" u="sng">
                <a:solidFill>
                  <a:srgbClr val="40458c"/>
                </a:solidFill>
                <a:uFillTx/>
                <a:latin typeface="Tahoma"/>
              </a:rPr>
              <a:t>entrenamiento que usted debe ofrecer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, e incluir en el presupuest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¿Qué Cosas Preguntar (por ej.)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69960" y="1599840"/>
            <a:ext cx="822312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0440" indent="-4604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¿Quiénes y cuántos son los usuarios?, ¿Qué debería hacer cada con el sistema? Determinación de los Usuarios del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0440" indent="-4604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¿Qué debe hacer el sistema?, Determinación de los servicios del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0440" indent="-4604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¿Qué calidad se espera que tenga el software?. Determinación de los req. de calidad del software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0440" indent="-460440">
              <a:lnSpc>
                <a:spcPct val="80000"/>
              </a:lnSpc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¿Cuáles son los formularios que actualmente continen la información a procesar por el sistema? Determinación de datos y servicios básicos a manejar por el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660066"/>
                </a:solidFill>
                <a:latin typeface="Tahoma"/>
              </a:rPr>
              <a:t>¿Qué Cosas Preguntar (por ej.)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9250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7400" indent="-43740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1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¿Cuál es el escenario en el que funcionará el sistema?. Determinación del Ambiente Operacional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7400" indent="-43740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2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¿Qué datos están involucrados en el sistema?. Determinación del ámbito del sistem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7400" indent="-43740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3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¿Existen restricciones a cerca del funcionamiento o del proceso de desarrollo del sistema? Determinación de Restriccione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37400" indent="-437400">
              <a:spcBef>
                <a:spcPts val="700"/>
              </a:spcBef>
              <a:spcAft>
                <a:spcPts val="700"/>
              </a:spcAft>
              <a:buSzPct val="113071"/>
              <a:buBlip>
                <a:blip r:embed="rId4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... Cada una de estas preguntas pueden ser desglosadas en varias 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nclusiones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87720" indent="-387720">
              <a:lnSpc>
                <a:spcPct val="80000"/>
              </a:lnSpc>
              <a:spcBef>
                <a:spcPts val="649"/>
              </a:spcBef>
              <a:buSzPct val="113218"/>
              <a:buBlip>
                <a:blip r:embed="rId1"/>
              </a:buBlip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Las entrevistas sirven para </a:t>
            </a:r>
            <a:r>
              <a:rPr b="1" lang="en-GB" sz="2200" spc="-1" strike="noStrike" u="sng">
                <a:solidFill>
                  <a:srgbClr val="40458c"/>
                </a:solidFill>
                <a:uFillTx/>
                <a:latin typeface="Tahoma"/>
              </a:rPr>
              <a:t>construir la confianza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entre el proveedor y el cliente.... aprovéchelas!!!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87720" indent="-387720">
              <a:lnSpc>
                <a:spcPct val="80000"/>
              </a:lnSpc>
              <a:spcBef>
                <a:spcPts val="649"/>
              </a:spcBef>
              <a:buSzPct val="113218"/>
              <a:buBlip>
                <a:blip r:embed="rId2"/>
              </a:buBlip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Las entrevistas sirven para </a:t>
            </a:r>
            <a:r>
              <a:rPr b="1" lang="en-GB" sz="2200" spc="-1" strike="noStrike" u="sng">
                <a:solidFill>
                  <a:srgbClr val="40458c"/>
                </a:solidFill>
                <a:uFillTx/>
                <a:latin typeface="Tahoma"/>
              </a:rPr>
              <a:t>entender y delimitar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el problema, y para </a:t>
            </a:r>
            <a:r>
              <a:rPr b="1" lang="en-GB" sz="2200" spc="-1" strike="noStrike" u="sng">
                <a:solidFill>
                  <a:srgbClr val="40458c"/>
                </a:solidFill>
                <a:uFillTx/>
                <a:latin typeface="Tahoma"/>
              </a:rPr>
              <a:t>validar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ideas/propuest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87720" indent="-387720">
              <a:lnSpc>
                <a:spcPct val="80000"/>
              </a:lnSpc>
              <a:spcBef>
                <a:spcPts val="649"/>
              </a:spcBef>
              <a:buSzPct val="113218"/>
              <a:buBlip>
                <a:blip r:embed="rId3"/>
              </a:buBlip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40458c"/>
                </a:solidFill>
                <a:uFillTx/>
                <a:latin typeface="Tahoma"/>
              </a:rPr>
              <a:t>No pierda de vista el contexto y los requisitos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… ambos serán muy relevantes para la solución que se proponga. 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87720" indent="-387720">
              <a:lnSpc>
                <a:spcPct val="80000"/>
              </a:lnSpc>
              <a:spcBef>
                <a:spcPts val="649"/>
              </a:spcBef>
              <a:buSzPct val="113218"/>
              <a:buBlip>
                <a:blip r:embed="rId4"/>
              </a:buBlip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40458c"/>
                </a:solidFill>
                <a:uFillTx/>
                <a:latin typeface="Tahoma"/>
              </a:rPr>
              <a:t>Demuestre que usted es serio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, y que sabe hacer su trabaj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87720" indent="-387720">
              <a:lnSpc>
                <a:spcPct val="80000"/>
              </a:lnSpc>
              <a:spcBef>
                <a:spcPts val="649"/>
              </a:spcBef>
              <a:buSzPct val="113218"/>
              <a:buBlip>
                <a:blip r:embed="rId5"/>
              </a:buBlip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40458c"/>
                </a:solidFill>
                <a:uFillTx/>
                <a:latin typeface="Tahoma"/>
              </a:rPr>
              <a:t>Demuestre compromiso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con el proyect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87720" indent="-387720">
              <a:lnSpc>
                <a:spcPct val="80000"/>
              </a:lnSpc>
              <a:spcBef>
                <a:spcPts val="649"/>
              </a:spcBef>
              <a:buSzPct val="113218"/>
              <a:buBlip>
                <a:blip r:embed="rId6"/>
              </a:buBlip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Aclare y limite el problema... Y luego </a:t>
            </a:r>
            <a:r>
              <a:rPr b="1" lang="en-GB" sz="2200" spc="-1" strike="noStrike" u="sng">
                <a:solidFill>
                  <a:srgbClr val="40458c"/>
                </a:solidFill>
                <a:uFillTx/>
                <a:latin typeface="Tahoma"/>
              </a:rPr>
              <a:t>póngalo por escrito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(docum. de requisitos), y que el cliente lo firme!!!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87720" indent="-387720">
              <a:lnSpc>
                <a:spcPct val="80000"/>
              </a:lnSpc>
              <a:spcBef>
                <a:spcPts val="649"/>
              </a:spcBef>
              <a:buSzPct val="113218"/>
              <a:buBlip>
                <a:blip r:embed="rId7"/>
              </a:buBlip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40458c"/>
                </a:solidFill>
                <a:uFillTx/>
                <a:latin typeface="Tahoma"/>
              </a:rPr>
              <a:t>Sea cuidadoso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al consultar, ... pero no se quede con ninguna dud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387720" indent="-387720">
              <a:lnSpc>
                <a:spcPct val="80000"/>
              </a:lnSpc>
              <a:spcBef>
                <a:spcPts val="649"/>
              </a:spcBef>
              <a:buSzPct val="113218"/>
              <a:buBlip>
                <a:blip r:embed="rId8"/>
              </a:buBlip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40458c"/>
                </a:solidFill>
                <a:uFillTx/>
                <a:latin typeface="Tahoma"/>
              </a:rPr>
              <a:t>Prepárese muy bien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para cada entrevista... Su imagen y la de su empresa depende en gran medida de ello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structura de la Presenta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26920" y="1631520"/>
            <a:ext cx="7772400" cy="51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spcAft>
                <a:spcPts val="2200"/>
              </a:spcAft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Introduc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spcAft>
                <a:spcPts val="2200"/>
              </a:spcAft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Detalles sobre Entrevista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lnSpc>
                <a:spcPct val="90000"/>
              </a:lnSpc>
              <a:spcBef>
                <a:spcPts val="700"/>
              </a:spcBef>
              <a:spcAft>
                <a:spcPts val="1925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Primera Entrevis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lnSpc>
                <a:spcPct val="90000"/>
              </a:lnSpc>
              <a:spcBef>
                <a:spcPts val="700"/>
              </a:spcBef>
              <a:spcAft>
                <a:spcPts val="1925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Segunda Entrevis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lnSpc>
                <a:spcPct val="90000"/>
              </a:lnSpc>
              <a:spcBef>
                <a:spcPts val="700"/>
              </a:spcBef>
              <a:spcAft>
                <a:spcPts val="1925"/>
              </a:spcAft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ercera Entrevist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spcAft>
                <a:spcPts val="2200"/>
              </a:spcAft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Entrevistas de Validació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spcAft>
                <a:spcPts val="2200"/>
              </a:spcAft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3200" spc="-1" strike="noStrike">
                <a:solidFill>
                  <a:srgbClr val="40458c"/>
                </a:solidFill>
                <a:latin typeface="Tahoma"/>
              </a:rPr>
              <a:t>Conclusion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42640" y="436320"/>
            <a:ext cx="7340760" cy="765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trevistas: 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12520" y="1676160"/>
            <a:ext cx="8102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51"/>
              </a:spcBef>
              <a:buSzPct val="120443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40458c"/>
                </a:solidFill>
                <a:latin typeface="Tahoma"/>
              </a:rPr>
              <a:t>Las entrevistas sirven para: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Conocer, clarificar, o determinar el alcance del problema a resolver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Identificar a los actores involucrados (clientes y usuarios)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Construir la confianza del cli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Establecer los requisitos del sistema sin ambigüedades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64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Validar el trabajo ya hech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51"/>
              </a:spcBef>
              <a:buSzPct val="120443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40458c"/>
                </a:solidFill>
                <a:latin typeface="Tahoma"/>
              </a:rPr>
              <a:t>Las entrevistas son el primer paso, en el desarrollo de un proyecto de software.</a:t>
            </a:r>
            <a:endParaRPr b="0" lang="en-US" sz="3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4000" y="1557000"/>
            <a:ext cx="81025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22000" indent="-522000">
              <a:lnSpc>
                <a:spcPct val="80000"/>
              </a:lnSpc>
              <a:spcBef>
                <a:spcPts val="649"/>
              </a:spcBef>
              <a:buSzPct val="13896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Hacer una </a:t>
            </a:r>
            <a:r>
              <a:rPr b="1" lang="en-GB" sz="2600" spc="-1" strike="noStrike" u="sng">
                <a:solidFill>
                  <a:srgbClr val="40458c"/>
                </a:solidFill>
                <a:uFillTx/>
                <a:latin typeface="Tahoma"/>
              </a:rPr>
              <a:t>primera entrevista abierta 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(como para abordar el tema) y revisarla (si es posible en grupo)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20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40458c"/>
              </a:solidFill>
              <a:latin typeface="Tahoma"/>
            </a:endParaRPr>
          </a:p>
          <a:p>
            <a:pPr marL="522000" indent="-522000">
              <a:lnSpc>
                <a:spcPct val="80000"/>
              </a:lnSpc>
              <a:spcBef>
                <a:spcPts val="649"/>
              </a:spcBef>
              <a:buSzPct val="13896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Hacer una </a:t>
            </a:r>
            <a:r>
              <a:rPr b="1" lang="en-GB" sz="2600" spc="-1" strike="noStrike" u="sng">
                <a:solidFill>
                  <a:srgbClr val="40458c"/>
                </a:solidFill>
                <a:uFillTx/>
                <a:latin typeface="Tahoma"/>
              </a:rPr>
              <a:t>segunda entrevista focalizada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, diseñada para sacarle el resto de la información al cliente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2000" indent="-522000">
              <a:lnSpc>
                <a:spcPct val="80000"/>
              </a:lnSpc>
              <a:spcBef>
                <a:spcPts val="649"/>
              </a:spcBef>
              <a:buSzPct val="13896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Se pueden hacer más entrevistas si es necesario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2000" indent="-522000">
              <a:lnSpc>
                <a:spcPct val="80000"/>
              </a:lnSpc>
              <a:spcBef>
                <a:spcPts val="649"/>
              </a:spcBef>
              <a:buSzPct val="13896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600" spc="-1" strike="noStrike" u="sng">
                <a:solidFill>
                  <a:srgbClr val="40458c"/>
                </a:solidFill>
                <a:uFillTx/>
                <a:latin typeface="Tahoma"/>
              </a:rPr>
              <a:t>Revisar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 los </a:t>
            </a:r>
            <a:r>
              <a:rPr b="1" lang="en-GB" sz="2600" spc="-1" strike="noStrike" u="sng">
                <a:solidFill>
                  <a:srgbClr val="40458c"/>
                </a:solidFill>
                <a:uFillTx/>
                <a:latin typeface="Tahoma"/>
              </a:rPr>
              <a:t>ítems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 más </a:t>
            </a:r>
            <a:r>
              <a:rPr b="1" lang="en-GB" sz="2600" spc="-1" strike="noStrike" u="sng">
                <a:solidFill>
                  <a:srgbClr val="40458c"/>
                </a:solidFill>
                <a:uFillTx/>
                <a:latin typeface="Tahoma"/>
              </a:rPr>
              <a:t>importantes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 (respecto a los requisitos) con el cliente (se debe obtener un OK)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2000" indent="-522000">
              <a:lnSpc>
                <a:spcPct val="80000"/>
              </a:lnSpc>
              <a:spcBef>
                <a:spcPts val="649"/>
              </a:spcBef>
              <a:buSzPct val="13896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Haga la </a:t>
            </a:r>
            <a:r>
              <a:rPr b="1" lang="en-GB" sz="2600" spc="-1" strike="noStrike" u="sng">
                <a:solidFill>
                  <a:srgbClr val="40458c"/>
                </a:solidFill>
                <a:uFillTx/>
                <a:latin typeface="Tahoma"/>
              </a:rPr>
              <a:t>menor cantidad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 posible </a:t>
            </a:r>
            <a:r>
              <a:rPr b="1" lang="en-GB" sz="2600" spc="-1" strike="noStrike" u="sng">
                <a:solidFill>
                  <a:srgbClr val="40458c"/>
                </a:solidFill>
                <a:uFillTx/>
                <a:latin typeface="Tahoma"/>
              </a:rPr>
              <a:t>de entrevistas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  <a:p>
            <a:pPr marL="522000" indent="-522000">
              <a:lnSpc>
                <a:spcPct val="80000"/>
              </a:lnSpc>
              <a:spcBef>
                <a:spcPts val="649"/>
              </a:spcBef>
              <a:buSzPct val="138962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600" spc="-1" strike="noStrike" u="sng">
                <a:solidFill>
                  <a:srgbClr val="40458c"/>
                </a:solidFill>
                <a:uFillTx/>
                <a:latin typeface="Tahoma"/>
              </a:rPr>
              <a:t>Validen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 con los usuarios, </a:t>
            </a:r>
            <a:r>
              <a:rPr b="1" lang="en-GB" sz="2600" spc="-1" strike="noStrike" u="sng">
                <a:solidFill>
                  <a:srgbClr val="40458c"/>
                </a:solidFill>
                <a:uFillTx/>
                <a:latin typeface="Tahoma"/>
              </a:rPr>
              <a:t>los requisitos</a:t>
            </a:r>
            <a:r>
              <a:rPr b="0" lang="en-GB" sz="2600" spc="-1" strike="noStrike">
                <a:solidFill>
                  <a:srgbClr val="40458c"/>
                </a:solidFill>
                <a:latin typeface="Tahoma"/>
              </a:rPr>
              <a:t> entregados por el cliente y viceversa.</a:t>
            </a:r>
            <a:endParaRPr b="0" lang="en-US" sz="2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trevistas: 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1355400" y="4581000"/>
            <a:ext cx="115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820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40458c"/>
                </a:solidFill>
                <a:latin typeface="Tahoma"/>
              </a:rPr>
              <a:t>1º y 2º 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marL="538200" indent="0">
              <a:spcBef>
                <a:spcPts val="64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40458c"/>
                </a:solidFill>
                <a:latin typeface="Tahoma"/>
              </a:rPr>
              <a:t>Entrevista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ntrevistas: Introducció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973680" y="2276640"/>
            <a:ext cx="1414440" cy="863280"/>
            <a:chOff x="3973680" y="2276640"/>
            <a:chExt cx="1414440" cy="863280"/>
          </a:xfrm>
        </p:grpSpPr>
        <p:sp>
          <p:nvSpPr>
            <p:cNvPr id="226" name=""/>
            <p:cNvSpPr/>
            <p:nvPr/>
          </p:nvSpPr>
          <p:spPr>
            <a:xfrm>
              <a:off x="3973680" y="2276640"/>
              <a:ext cx="1414440" cy="863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73760" y="238104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. de Usuari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6253200" y="4508640"/>
            <a:ext cx="1414440" cy="863640"/>
            <a:chOff x="6253200" y="4508640"/>
            <a:chExt cx="1414440" cy="863640"/>
          </a:xfrm>
        </p:grpSpPr>
        <p:sp>
          <p:nvSpPr>
            <p:cNvPr id="229" name=""/>
            <p:cNvSpPr/>
            <p:nvPr/>
          </p:nvSpPr>
          <p:spPr>
            <a:xfrm>
              <a:off x="6253200" y="450864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53280" y="4613400"/>
              <a:ext cx="1212840" cy="642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olución de Softw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2246400" y="4005360"/>
            <a:ext cx="1414440" cy="863640"/>
            <a:chOff x="2246400" y="4005360"/>
            <a:chExt cx="1414440" cy="863640"/>
          </a:xfrm>
        </p:grpSpPr>
        <p:sp>
          <p:nvSpPr>
            <p:cNvPr id="232" name=""/>
            <p:cNvSpPr/>
            <p:nvPr/>
          </p:nvSpPr>
          <p:spPr>
            <a:xfrm>
              <a:off x="2246400" y="4005360"/>
              <a:ext cx="1414440" cy="8636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2346480" y="4110120"/>
              <a:ext cx="1212840" cy="48996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ntext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5460840" y="2276640"/>
            <a:ext cx="2016360" cy="86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40458c"/>
                </a:solidFill>
                <a:latin typeface="Tahoma"/>
                <a:ea typeface="MS Gothic"/>
              </a:rPr>
              <a:t>3º Entrevis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538200" indent="-53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40458c"/>
                </a:solidFill>
                <a:latin typeface="Tahoma"/>
                <a:ea typeface="MS Gothic"/>
              </a:rPr>
              <a:t>     </a:t>
            </a:r>
            <a:r>
              <a:rPr b="1" lang="en-GB" sz="1400" spc="-1" strike="noStrike">
                <a:solidFill>
                  <a:srgbClr val="40458c"/>
                </a:solidFill>
                <a:latin typeface="Tahoma"/>
                <a:ea typeface="MS Gothic"/>
              </a:rPr>
              <a:t>en adelante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2868480" y="2781360"/>
            <a:ext cx="1079640" cy="1224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26" idx="3"/>
            <a:endCxn id="229" idx="0"/>
          </p:cNvCxnSpPr>
          <p:nvPr/>
        </p:nvCxnSpPr>
        <p:spPr>
          <a:xfrm>
            <a:off x="5388120" y="2707920"/>
            <a:ext cx="1573920" cy="180108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2" idx="3"/>
            <a:endCxn id="229" idx="1"/>
          </p:cNvCxnSpPr>
          <p:nvPr/>
        </p:nvCxnSpPr>
        <p:spPr>
          <a:xfrm>
            <a:off x="3660480" y="4437000"/>
            <a:ext cx="2592720" cy="504000"/>
          </a:xfrm>
          <a:prstGeom prst="straightConnector1">
            <a:avLst/>
          </a:prstGeom>
          <a:ln w="4140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716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alles sobre Entrevist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12520" y="1599840"/>
            <a:ext cx="782316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lnSpc>
                <a:spcPct val="80000"/>
              </a:lnSpc>
              <a:spcBef>
                <a:spcPts val="700"/>
              </a:spcBef>
              <a:buSzPct val="113173"/>
              <a:buBlip>
                <a:blip r:embed="rId1"/>
              </a:buBlip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ntre 45’  y 1 hor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9960" indent="-399960">
              <a:lnSpc>
                <a:spcPct val="80000"/>
              </a:lnSpc>
              <a:spcBef>
                <a:spcPts val="700"/>
              </a:spcBef>
              <a:buSzPct val="113173"/>
              <a:buBlip>
                <a:blip r:embed="rId2"/>
              </a:buBlip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Vestirse igual (o similar) al cliente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9960" indent="-399960">
              <a:lnSpc>
                <a:spcPct val="80000"/>
              </a:lnSpc>
              <a:spcBef>
                <a:spcPts val="700"/>
              </a:spcBef>
              <a:buSzPct val="113173"/>
              <a:buBlip>
                <a:blip r:embed="rId3"/>
              </a:buBlip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Dos entrevistadores (máxim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9960" indent="-399960">
              <a:lnSpc>
                <a:spcPct val="80000"/>
              </a:lnSpc>
              <a:spcBef>
                <a:spcPts val="700"/>
              </a:spcBef>
              <a:buSzPct val="113173"/>
              <a:buBlip>
                <a:blip r:embed="rId4"/>
              </a:buBlip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Sólo </a:t>
            </a:r>
            <a:r>
              <a:rPr b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uno pregunta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, el otro toma not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9960" indent="-399960">
              <a:lnSpc>
                <a:spcPct val="80000"/>
              </a:lnSpc>
              <a:spcBef>
                <a:spcPts val="700"/>
              </a:spcBef>
              <a:buSzPct val="113173"/>
              <a:buBlip>
                <a:blip r:embed="rId5"/>
              </a:buBlip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Llevar una pauta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, con las pregunta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9960" indent="-399960">
              <a:lnSpc>
                <a:spcPct val="80000"/>
              </a:lnSpc>
              <a:spcBef>
                <a:spcPts val="700"/>
              </a:spcBef>
              <a:buSzPct val="113173"/>
              <a:buBlip>
                <a:blip r:embed="rId6"/>
              </a:buBlip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Grabar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cada entrevista (audi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9960" indent="-399960">
              <a:lnSpc>
                <a:spcPct val="80000"/>
              </a:lnSpc>
              <a:spcBef>
                <a:spcPts val="700"/>
              </a:spcBef>
              <a:buSzPct val="113173"/>
              <a:buBlip>
                <a:blip r:embed="rId7"/>
              </a:buBlip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Obtener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copia de todos los </a:t>
            </a:r>
            <a:r>
              <a:rPr b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formularios 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involucrados en el proceso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9960" indent="-399960">
              <a:lnSpc>
                <a:spcPct val="80000"/>
              </a:lnSpc>
              <a:spcBef>
                <a:spcPts val="700"/>
              </a:spcBef>
              <a:buSzPct val="113173"/>
              <a:buBlip>
                <a:blip r:embed="rId8"/>
              </a:buBlip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Tráigase el modelo de datos actual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(detallado), en caso de existir sistemas legad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9960" indent="-399960">
              <a:lnSpc>
                <a:spcPct val="80000"/>
              </a:lnSpc>
              <a:spcBef>
                <a:spcPts val="700"/>
              </a:spcBef>
              <a:buSzPct val="113173"/>
              <a:buBlip>
                <a:blip r:embed="rId9"/>
              </a:buBlip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Llevar lápiz y papel, aunque no lo use (podría necesitarlo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9960" indent="-399960">
              <a:lnSpc>
                <a:spcPct val="80000"/>
              </a:lnSpc>
              <a:spcBef>
                <a:spcPts val="700"/>
              </a:spcBef>
              <a:buSzPct val="113173"/>
              <a:buBlip>
                <a:blip r:embed="rId10"/>
              </a:buBlip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No use jerga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computacional, ni regionalismo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99960" indent="-399960">
              <a:lnSpc>
                <a:spcPct val="80000"/>
              </a:lnSpc>
              <a:spcBef>
                <a:spcPts val="700"/>
              </a:spcBef>
              <a:buSzPct val="113173"/>
              <a:buBlip>
                <a:blip r:embed="rId11"/>
              </a:buBlip>
              <a:tabLst>
                <a:tab algn="l" pos="969840"/>
                <a:tab algn="l" pos="1884240"/>
                <a:tab algn="l" pos="2798640"/>
                <a:tab algn="l" pos="3713040"/>
                <a:tab algn="l" pos="4627440"/>
                <a:tab algn="l" pos="5541840"/>
                <a:tab algn="l" pos="6456240"/>
                <a:tab algn="l" pos="7370640"/>
                <a:tab algn="l" pos="8285040"/>
                <a:tab algn="l" pos="9199440"/>
                <a:tab algn="l" pos="1011384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La </a:t>
            </a:r>
            <a:r>
              <a:rPr b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puntualidad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es fundament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etalles sobre Entrevista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55640" y="1626840"/>
            <a:ext cx="7950240" cy="525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440" indent="-460440">
              <a:lnSpc>
                <a:spcPct val="80000"/>
              </a:lnSpc>
              <a:spcBef>
                <a:spcPts val="700"/>
              </a:spcBef>
              <a:spcAft>
                <a:spcPts val="550"/>
              </a:spcAft>
              <a:buSzPct val="113218"/>
              <a:buBlip>
                <a:blip r:embed="rId1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40458c"/>
                </a:solidFill>
                <a:uFillTx/>
                <a:latin typeface="Tahoma"/>
              </a:rPr>
              <a:t>Trate al cliente con respeto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SIEMPRE !!!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0440" indent="-460440">
              <a:lnSpc>
                <a:spcPct val="80000"/>
              </a:lnSpc>
              <a:spcBef>
                <a:spcPts val="700"/>
              </a:spcBef>
              <a:spcAft>
                <a:spcPts val="550"/>
              </a:spcAft>
              <a:buSzPct val="113218"/>
              <a:buBlip>
                <a:blip r:embed="rId2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40458c"/>
                </a:solidFill>
                <a:uFillTx/>
                <a:latin typeface="Tahoma"/>
              </a:rPr>
              <a:t>No trate de demostrar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cuánto sabe usted de ésto: La estrella es el Cliente !!!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0440" indent="-460440">
              <a:lnSpc>
                <a:spcPct val="80000"/>
              </a:lnSpc>
              <a:spcBef>
                <a:spcPts val="700"/>
              </a:spcBef>
              <a:spcAft>
                <a:spcPts val="550"/>
              </a:spcAft>
              <a:buSzPct val="113218"/>
              <a:buBlip>
                <a:blip r:embed="rId3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40458c"/>
                </a:solidFill>
                <a:uFillTx/>
                <a:latin typeface="Tahoma"/>
              </a:rPr>
              <a:t>Escuche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las opiniones del cliente, aunque sean descabellada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0440" indent="-460440">
              <a:lnSpc>
                <a:spcPct val="80000"/>
              </a:lnSpc>
              <a:spcBef>
                <a:spcPts val="700"/>
              </a:spcBef>
              <a:spcAft>
                <a:spcPts val="550"/>
              </a:spcAft>
              <a:buSzPct val="113218"/>
              <a:buBlip>
                <a:blip r:embed="rId4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40458c"/>
                </a:solidFill>
                <a:uFillTx/>
                <a:latin typeface="Tahoma"/>
              </a:rPr>
              <a:t>No repita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las preguntas, siempre primero revise la cinta de sesiones anteriores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0440" indent="-460440">
              <a:lnSpc>
                <a:spcPct val="80000"/>
              </a:lnSpc>
              <a:spcBef>
                <a:spcPts val="700"/>
              </a:spcBef>
              <a:spcAft>
                <a:spcPts val="550"/>
              </a:spcAft>
              <a:buSzPct val="113218"/>
              <a:buBlip>
                <a:blip r:embed="rId5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40458c"/>
                </a:solidFill>
                <a:uFillTx/>
                <a:latin typeface="Tahoma"/>
              </a:rPr>
              <a:t>Muéstrele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al cliente </a:t>
            </a:r>
            <a:r>
              <a:rPr b="1" lang="en-GB" sz="2200" spc="-1" strike="noStrike" u="sng">
                <a:solidFill>
                  <a:srgbClr val="40458c"/>
                </a:solidFill>
                <a:uFillTx/>
                <a:latin typeface="Tahoma"/>
              </a:rPr>
              <a:t>que ha comprendido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su problem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0440" indent="-460440">
              <a:lnSpc>
                <a:spcPct val="80000"/>
              </a:lnSpc>
              <a:spcBef>
                <a:spcPts val="700"/>
              </a:spcBef>
              <a:spcAft>
                <a:spcPts val="550"/>
              </a:spcAft>
              <a:buSzPct val="113218"/>
              <a:buBlip>
                <a:blip r:embed="rId6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40458c"/>
                </a:solidFill>
                <a:uFillTx/>
                <a:latin typeface="Tahoma"/>
              </a:rPr>
              <a:t>No critique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las falencias de los actuales sistemas, ni las del personal que lo construyó o que lo opera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0440" indent="-460440">
              <a:lnSpc>
                <a:spcPct val="80000"/>
              </a:lnSpc>
              <a:spcBef>
                <a:spcPts val="700"/>
              </a:spcBef>
              <a:spcAft>
                <a:spcPts val="550"/>
              </a:spcAft>
              <a:buSzPct val="113218"/>
              <a:buBlip>
                <a:blip r:embed="rId7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40458c"/>
                </a:solidFill>
                <a:uFillTx/>
                <a:latin typeface="Tahoma"/>
              </a:rPr>
              <a:t>Si va a pedir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algo que requiere un esfuerzo importante del cliente y/o usuario, </a:t>
            </a:r>
            <a:r>
              <a:rPr b="1" lang="en-GB" sz="2200" spc="-1" strike="noStrike" u="sng">
                <a:solidFill>
                  <a:srgbClr val="40458c"/>
                </a:solidFill>
                <a:uFillTx/>
                <a:latin typeface="Tahoma"/>
              </a:rPr>
              <a:t>entrégueles algo a cambio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  <a:p>
            <a:pPr marL="460440" indent="-460440">
              <a:lnSpc>
                <a:spcPct val="80000"/>
              </a:lnSpc>
              <a:spcBef>
                <a:spcPts val="700"/>
              </a:spcBef>
              <a:spcAft>
                <a:spcPts val="550"/>
              </a:spcAft>
              <a:buSzPct val="113218"/>
              <a:buBlip>
                <a:blip r:embed="rId8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200" spc="-1" strike="noStrike" u="sng">
                <a:solidFill>
                  <a:srgbClr val="40458c"/>
                </a:solidFill>
                <a:uFillTx/>
                <a:latin typeface="Tahoma"/>
              </a:rPr>
              <a:t>Ganarse a la secretaria</a:t>
            </a:r>
            <a:r>
              <a:rPr b="0" lang="en-GB" sz="2200" spc="-1" strike="noStrike">
                <a:solidFill>
                  <a:srgbClr val="40458c"/>
                </a:solidFill>
                <a:latin typeface="Tahoma"/>
              </a:rPr>
              <a:t> del cliente, es casi tan importante como ganarse al cliente.</a:t>
            </a:r>
            <a:endParaRPr b="0" lang="en-US" sz="2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imera Entrevis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4000" y="1557000"/>
            <a:ext cx="8135640" cy="51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441720" indent="-441720">
              <a:lnSpc>
                <a:spcPct val="80000"/>
              </a:lnSpc>
              <a:spcBef>
                <a:spcPts val="700"/>
              </a:spcBef>
              <a:spcAft>
                <a:spcPts val="901"/>
              </a:spcAft>
              <a:buSzPct val="113173"/>
              <a:buBlip>
                <a:blip r:embed="rId1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enga en cuenta todo lo anterio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1720" indent="-441720">
              <a:lnSpc>
                <a:spcPct val="80000"/>
              </a:lnSpc>
              <a:spcBef>
                <a:spcPts val="700"/>
              </a:spcBef>
              <a:spcAft>
                <a:spcPts val="901"/>
              </a:spcAft>
              <a:buSzPct val="113173"/>
              <a:buBlip>
                <a:blip r:embed="rId2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Entrevista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abierta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(guiada por el cliente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1720" indent="-441720">
              <a:lnSpc>
                <a:spcPct val="80000"/>
              </a:lnSpc>
              <a:spcBef>
                <a:spcPts val="700"/>
              </a:spcBef>
              <a:spcAft>
                <a:spcPts val="901"/>
              </a:spcAft>
              <a:buSzPct val="113173"/>
              <a:buBlip>
                <a:blip r:embed="rId3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Que el </a:t>
            </a:r>
            <a:r>
              <a:rPr b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cliente diga todo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lo que tenga que deci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1720" indent="-441720">
              <a:lnSpc>
                <a:spcPct val="80000"/>
              </a:lnSpc>
              <a:spcBef>
                <a:spcPts val="700"/>
              </a:spcBef>
              <a:spcAft>
                <a:spcPts val="901"/>
              </a:spcAft>
              <a:buSzPct val="113173"/>
              <a:buBlip>
                <a:blip r:embed="rId4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Ser “Positivo”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, hasta conocer más el problema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1720" indent="-441720">
              <a:lnSpc>
                <a:spcPct val="80000"/>
              </a:lnSpc>
              <a:spcBef>
                <a:spcPts val="700"/>
              </a:spcBef>
              <a:spcAft>
                <a:spcPts val="901"/>
              </a:spcAft>
              <a:buSzPct val="113173"/>
              <a:buBlip>
                <a:blip r:embed="rId5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No prometer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nada hasta analizar el problema en detalle. CONTÉNGASE !!!!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1720" indent="-441720">
              <a:lnSpc>
                <a:spcPct val="80000"/>
              </a:lnSpc>
              <a:spcBef>
                <a:spcPts val="700"/>
              </a:spcBef>
              <a:spcAft>
                <a:spcPts val="901"/>
              </a:spcAft>
              <a:buSzPct val="113173"/>
              <a:buBlip>
                <a:blip r:embed="rId6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La primera entrevista se usa para </a:t>
            </a:r>
            <a:r>
              <a:rPr b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obtener una idea aproximada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del problema a resolver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1720" indent="-441720">
              <a:lnSpc>
                <a:spcPct val="80000"/>
              </a:lnSpc>
              <a:spcBef>
                <a:spcPts val="700"/>
              </a:spcBef>
              <a:spcAft>
                <a:spcPts val="901"/>
              </a:spcAft>
              <a:buSzPct val="113173"/>
              <a:buBlip>
                <a:blip r:embed="rId7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Normalmente se obtiene mucha basura, por lo que hay que </a:t>
            </a:r>
            <a:r>
              <a:rPr b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separar la paja, del trigo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441720" indent="-441720">
              <a:lnSpc>
                <a:spcPct val="80000"/>
              </a:lnSpc>
              <a:spcBef>
                <a:spcPts val="700"/>
              </a:spcBef>
              <a:spcAft>
                <a:spcPts val="901"/>
              </a:spcAft>
              <a:buSzPct val="113173"/>
              <a:buBlip>
                <a:blip r:embed="rId8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Establezca claramente quién será la </a:t>
            </a:r>
            <a:r>
              <a:rPr b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contrapart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en el proyecto, y quiénes serán los </a:t>
            </a:r>
            <a:r>
              <a:rPr b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interlocutores válido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660066"/>
                </a:solidFill>
                <a:latin typeface="Tahoma"/>
              </a:rPr>
              <a:t>Primera Entrevista (cont.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755280" y="1557360"/>
            <a:ext cx="8064360" cy="5300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0440" indent="-4604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Trate de </a:t>
            </a:r>
            <a:r>
              <a:rPr b="1" lang="en-GB" sz="2800" spc="-1" strike="noStrike" u="sng">
                <a:solidFill>
                  <a:srgbClr val="40458c"/>
                </a:solidFill>
                <a:uFillTx/>
                <a:latin typeface="Tahoma"/>
              </a:rPr>
              <a:t>traerse toda la documentación</a:t>
            </a: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 que pueda, para poder analizar mejor el problema a resolver, determinar su alcance e implicancias sobre otros sistemas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460440" indent="-460440">
              <a:lnSpc>
                <a:spcPct val="9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40458c"/>
                </a:solidFill>
                <a:latin typeface="Tahoma"/>
              </a:rPr>
              <a:t>Entre la información que debe traerse de la 1º entrevista (dentro de lo posible) está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i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Formularios actuale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que se usan en el sistema (o solicitar un screenshot de las pantallas)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i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Modelo de datos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actu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Tipo y cantidad de </a:t>
            </a:r>
            <a:r>
              <a:rPr b="0" i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usuarios del sistema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i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Recursos de hardwar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disponibles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1240" indent="-2840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1030320"/>
                <a:tab algn="l" pos="1944720"/>
                <a:tab algn="l" pos="2859120"/>
                <a:tab algn="l" pos="3773520"/>
                <a:tab algn="l" pos="4687920"/>
                <a:tab algn="l" pos="5602320"/>
                <a:tab algn="l" pos="6516720"/>
                <a:tab algn="l" pos="7431120"/>
                <a:tab algn="l" pos="8345520"/>
                <a:tab algn="l" pos="9259920"/>
                <a:tab algn="l" pos="10174320"/>
                <a:tab algn="l" pos="10333080"/>
                <a:tab algn="l" pos="10782360"/>
              </a:tabLst>
            </a:pPr>
            <a:r>
              <a:rPr b="0" i="1" lang="en-GB" sz="2400" spc="-1" strike="noStrike" u="sng">
                <a:solidFill>
                  <a:srgbClr val="40458c"/>
                </a:solidFill>
                <a:uFillTx/>
                <a:latin typeface="Tahoma"/>
              </a:rPr>
              <a:t>Recursos de software</a:t>
            </a:r>
            <a:r>
              <a:rPr b="0" lang="en-GB" sz="2400" spc="-1" strike="noStrike">
                <a:solidFill>
                  <a:srgbClr val="40458c"/>
                </a:solidFill>
                <a:latin typeface="Tahoma"/>
              </a:rPr>
              <a:t> que forman parte del ambiente operacional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io F. Ochoa</cp:lastModifiedBy>
  <dcterms:modified xsi:type="dcterms:W3CDTF">2005-08-09T18:30:26Z</dcterms:modified>
  <cp:revision>33</cp:revision>
  <dc:subject/>
  <dc:title>CC51A – Ingeniería de Software</dc:title>
</cp:coreProperties>
</file>