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C2C-584B-44B2-A1C8-09632F95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AF0-81AD-4B71-8DDE-05A5DEBE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385-88BD-4D00-BD76-36495AEC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AF2-A187-4CA5-AC01-AE88473C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A496-05D8-4F7E-8920-E5027B1D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2C8A-84C8-4F98-BF52-048FF098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C566-D525-4FE5-87AD-80BCE043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5085-CAEE-4314-9A67-19DB7DBD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06FD-CF6D-4CF0-8D86-87121601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0213-076B-4A06-A195-06CAF983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84E0-1BB0-4556-BB76-7DA81EAE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F40-A9CD-4EBF-A3A2-7B51BDFC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2306-7F73-42AE-A39C-B090DC57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8623-C625-403F-BA33-0C3EFF42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BD23-916A-4861-811A-35B93F64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BECC-6808-439C-A210-8E07EBAF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EFE4-3283-48C5-ABED-081DABA7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9ED-A93B-4040-81F1-5B6F6C66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9F8-605F-4EF8-BB49-825DBDFE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571-B446-4C05-841F-455C3D7A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45C0-2D98-42E1-9B1F-258F58F6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142-6938-4D23-BCA4-020C732A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81D-E6AB-474B-B7C4-6AA962DB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768-C92E-4ACB-AB56-2EF690B1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5C7E-E449-4794-A7A8-A321F70E9E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5693-AD2D-4D34-9552-918BBC50621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Modelos de Desarrollo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3 - Versió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14400" y="1676520"/>
          <a:ext cx="525780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52578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685800" y="5191200"/>
            <a:ext cx="813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El modelo de cascada aunque algo desprestigiado continúa siendo usado para visualizar las etapas de desarrollo (¿cómo debería avanzarse?) y funciona bien si no hay grandes sorpres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523880"/>
            <a:ext cx="81532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l modelo de cascada puro no hay realimentación entre las distintas etap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bién se usa el modelo con feedback hacia atrá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pendiendo de la versión, posee entre 5 y 10 actividades fundament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tilidad mayor es la identificación de las actividades fundamentales (que aparecen en cualquier proceso) y la definición de los documentos de entrega (deliverabl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Los problemas más importantes de este modelo son: (a) que no maneja los riesgos y (b) que obtiene un producto demasiado tard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52480" y="1571760"/>
            <a:ext cx="5164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tionary o Increment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838080" y="1828800"/>
          <a:ext cx="7696440" cy="25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69644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838080" y="495288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La idea es combinar los elementos del tradicional modelo 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cascada con la filosofía de prototipos (usada principalme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en la etapa de definición de requisi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tionary o 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175248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uencias lineales en forma escalona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da secuencia genera un incremento del softwa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: Word Process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imer incremento: edición y formateo bás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gundo incremento: párrafos y docum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rcer incremento: spelling y gramá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uarto incremento: layout avanzado, etc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tionary o 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752480"/>
            <a:ext cx="792504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da incremento representa una versión reducida del producto fi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uede ser validada de inmediato por el usuar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una buena preparación para la vida evolutiva del produc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obtener una buena segmentación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incorporar cambios (respecto a lo que se pretende obtener), una vez que el proyecto está en march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6400800" cy="3179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09480" y="534816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Objetiv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Proveer una estructura para el diseño de procesos de producción de software, guiado por los </a:t>
            </a: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iveles de riesgo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del proyecto a desarroll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puede ser visto como un “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etamodelo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pues cualquier modelo de proceso puede ser enmarcado en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Circunstancias potencialmente adversas que pueden perjudicar el proceso de desarrollo o la calidad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anejo del 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“Disciplina cuyos objetivos son identificar, manejar y eliminar los elementos de riesgo del software, antes que se conviertan en problemas”  B.W. 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se basa en la identificación y eliminación de problemas de alto riesgo a través de un proceso de diseño cuidado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tiene como característica principal que es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íclico y no line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radio del espiral marca el costo acumulado en el proceso, mientas que la dimensión angular representa el progreso dentro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ndo no existe riesgo, el modelo en espiral puede reducirse a un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-  Carencias del personal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Staff calificado, equip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trenamient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2- Cronogramas y presupuestos    -  Estimación de cronogra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realistas.                               y costos detallados, reuso d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experiencia previ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3- Desarrollo de func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organizado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prototip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- Desarrollo de interfas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Prototipos, escenari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caracterización de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5- “Gold plating”..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costo-benefic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6- Continuos cambios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Ocultamiento de información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quisito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desarroll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36560"/>
            <a:ext cx="7721640" cy="506916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247176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1676520"/>
            <a:ext cx="0" cy="51814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Objetivo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ostrar diferentes formas de organizar el desarrollo de software según el avance de la informá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alizar los “ciclos de vida” más representat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structura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ón y Objetivos de los Modelo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olución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7- Carencias en componentes       -  Análisis de compatibilidad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xternos (soft, hard, etc).          benchmarks, inspec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- Carencias en tarea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-  Control de referencia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esarrolladas en forma              contratos cuidadosos,   externa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selección de subcontrat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9- Carencias de performanc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Simulación, prototip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 tiempo real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benchmark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0- Forzar la computación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técnico, prototipos y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honestid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1636560"/>
            <a:ext cx="7721640" cy="476424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252900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1676520"/>
            <a:ext cx="0" cy="474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5257800" cy="2536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96960" y="4286160"/>
            <a:ext cx="776124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1676520"/>
            <a:ext cx="7848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basado en componentes contempla la construcción de sistemas, a través del ensamble de módulos predefinidos (componentes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os módulos son genéricos (sirven para más de un sistema), configurables, y pueden ser desarrollados por cualquier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ra que esto sea factible, los módulos deben adherir a una especificación de componentes de software como: JavaBeans, ActiveX, EJB, COM, DCOM, etc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basado en componente tiene un sin número de ventajas, en lo relacionado con el tiempo y costo de desarrollo, y también en lo que respecta a la calidad del producto fin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 modelo moderno, que incorpora las recomendaciones (buenas prácticas) de la ingeniería de softwar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mucho respaldo, pero es un tanto complejo (se requiere entrenamiento par usarlo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á muy atado a UML (Unified Modeling Language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asta el momento, sólo ha demostrado ser uno má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 diferencia del resto, RUP considera la arquitectura como una pieza clave del desarroll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No es demasiado fuerte para apoyar el desarrollo de proyectos We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3" name="pressman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 modelo moderno, aplicable a proyectos We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do por R. Pressman en 1998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el primer modelo diseñado específicamente para desarrollar proyectos Web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ay otros como RMM, y OOHDM que proponen alternativas a WebE, pero que vienen del lado de los sistemas hipermedi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ebE aún no ha sido probado lo suficiente, y por ahora es sólo una buena propuest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de software debe ser guiado por un modelo, como forma de disciplinar, organizar y gerenciar l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definido por la organización y adaptado a cada proyecto en particul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s actividades que deben cumplirse en el proceso de desarrollo son básicamente las que establece el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lo suficientemente flexible como para incorporar el principio de ANTICIPACION AL CAMB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lo posible debe utilizarse un desarrollo incremental, con entregas parciales al usuario (modelo evolutivo, incremental o espiral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ra los productos que así lo ameriten, realizar análisis de riesgo (modelo espira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Proceso de producción de softwa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que se realizan para la construcción, liberación y evolución de un producto de software, comenzando con el estudio de una idea y finalizando con el retiro final de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Ciclo de Vid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modelos estructurad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software muestran más claramente los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iclos de vida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l software…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ciclo de vida </a:t>
            </a:r>
            <a:r>
              <a:rPr b="0" i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describe los estad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por los que pasa un producto de software, desde su concepción hasta su muer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Objetivos de un modelo de proceso estructurado (o modelo de desarrollo de software estructurado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meta de un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odelo estructurado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proceso es determinar el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orden de las etapa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que componen el desarrollo y la evolución de un software, estableciendo los “criterios de transición” para progresar de una etapa a la siguien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modelos están hechos para contestar las siguientes preguntas en un proyecto de softwa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Qué debemos hacer a continuación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Cuánto tiempo debemos continuar haciéndolo?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”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(B.Bohem 1988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Beneficios de los model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Proveen de guía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 los ingenieros de software, a cerca del orden en el cual deben ser llevadas a cabo las variadas actividades técnic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Dan un marc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o estructura para gerenciar, desarrollar y mantener un desarrollo, lo cual nos permite: estimar recursos, definir hitos intermedios y monitorear los progres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Anticipan y controlan el proces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para alcanzar las cualidades deseadas d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Sistematizan el proces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con el uso de estándares, metodologías y herramient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Permiten la producción de software </a:t>
            </a: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confiable, predecible y efic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ción de Model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odelos de Desarroll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de &amp; Fix Model (~196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aterfall Model (~197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olutionary Model (~198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ransformation Model (~197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piral Model (~1988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mponent Model (~199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UP (~1997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ebe (~1998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8055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Arial"/>
              </a:rPr>
              <a:t>No basta con seleccionar un modelo genérico de desarrollo de software y tratar de adaptarse a él. Se requiere una definición más precisa de cómo se llevan a cabo las distin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Modelos de Desarrollo Genér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quí caen todos los modelos de desarrollo de software tradicionales: cascada, espiral, prototipo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resentan una estrategia muy general para efectuar el proces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n la realidad casi nunca es posible efectuar el desarrollo adhiriendo completamente a uno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odelos de Desarrollo Genér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ermiten un entendimiento de tipo general del proceso pero no es fácil llevarlos a un nivel de detalle más fino, lo cual es necesario para guiar el trabajo de los profesio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representan en forma precisa lo que realmente se h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odelos de Desarrollo Específ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parecen las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actividades mayore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nvolucradas en el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rindan una especificación precisa del orden entre ell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tablecen relaciones entre las diversas tareas, los artefactos producidos en ellas, las personas que las realizan y las herramientas utilizad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an formalismos gráficos (por ejemplo Redes de Petr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de &amp; Fix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sado  en los comienzos de la computación, cuando ésta era una actividad personal y artesa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sta de 2 etapas: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odificar, eliminar errores en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ente de dificultades y deficienci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uego de una secuencia de cambios, el código era tan enredado, que eliminar errores era una tarea pesada y muy difícil de realiz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uando el desarrollo de sistemas dejó de ser una actividad personal y artesanal,  el  modelo no podía manejar la complejidad de los  sistemas 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acepta la rotación de personal en un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práctica habitual en el desarrollo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7:31:38Z</dcterms:created>
  <dc:creator>Sergio Ochoa</dc:creator>
  <dc:description/>
  <dc:language>en-US</dc:language>
  <cp:lastModifiedBy>Sergio F. Ochoa</cp:lastModifiedBy>
  <cp:lastPrinted>2001-08-08T05:55:09Z</cp:lastPrinted>
  <dcterms:modified xsi:type="dcterms:W3CDTF">2005-08-04T15:33:28Z</dcterms:modified>
  <cp:revision>33</cp:revision>
  <dc:subject/>
  <dc:title>Ingeniería de Software   </dc:title>
</cp:coreProperties>
</file>