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A52-B685-4344-AC6F-9691C959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051-F628-4C90-917B-C78EF7C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FAE-8451-4EE2-BDD8-1107FF40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B5C-4371-443B-B63D-723ABD6A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B973-945A-48A0-8EB6-5CBFA361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474F-5AEE-44BE-8773-0FB85694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64C-52C3-4964-B807-4EA9BC6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C3D-A4CF-49C2-B8B3-D4D2C186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F1E-F08D-4690-A57C-EEA2C2B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C707-BEF4-40D0-8EFC-CE75838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641-0F87-4893-979B-4CCD8BC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73C-9C8F-4F81-A9F1-448966B7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A7C-3BB6-4326-B670-2EBC7BE6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EEF1-1D74-4049-A236-81AB5AC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60F6-FDA1-4AB8-B08D-085BE833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B9E-EB2F-4F50-B971-48C1DA56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A40-E35F-4BC9-86C2-7A12D1A8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5DA-A418-4524-8190-CBCD2888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BD0-663C-4464-8200-CF56430C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B44-EF05-4038-B80F-C40B199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B78-036B-454B-A7D9-6CD37D45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ECC-8A1A-4A94-92AC-4FEA325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177-AB69-4D24-BDA3-2B3A267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4E8-ED3C-4483-8F13-3A20E6B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31D9-5A80-4641-B3CD-1D97A8EF95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249-C23D-40F3-BD67-B6021E1B6C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52388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tilidad mayor es la identificación de las actividades fundamentales (que aparecen en cualquier proceso) y la definición de los documentos de entrega (deliverab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1828800"/>
          <a:ext cx="76964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964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38080" y="4952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a idea es combinar los elementos del tradicional model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ascada con la filosofía de prototipos (usada principal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75248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encias lineales en forma escalon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secuencia genera un incremento del softw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mer incremento: edición y formateo bás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gundo incremento: párrafos y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cer incremento: spelling y gramá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92504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uede ser validada de inmediato por el usua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 tiene un sin número de ventajas, en lo relacionado con el tiempo y costo de desarrollo, y también en lo que respecta a la calidad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Objetivos de un modelo de proceso estructurado (o modelo de desarrollo de software estructurado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ermiten la producción de software 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nfiable, predecible y e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odelos de Desarrol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tionary Model (~198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volucradas en el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5-08-04T15:33:28Z</dcterms:modified>
  <cp:revision>33</cp:revision>
  <dc:subject/>
  <dc:title>Ingeniería de Software   </dc:title>
</cp:coreProperties>
</file>