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AB22-FB12-418B-A8BF-EB67A256C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3C00-028E-42A2-B467-7DE3110F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88FD-FE29-4905-AE08-95518D908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63E5-04CF-4D5B-9E27-0E7E2D875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744EB-F13F-407E-A625-541793AC2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F7EA-5ADD-4A65-86C9-F5740E63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532C-854A-45FA-ABEB-8850FD06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A022-7E62-466E-8701-5653AF07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A843-9A5E-4350-AD7C-0D9A3596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FDEF-E07A-4E07-BE99-CBB3BB6C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1C29-D9DD-4682-9A41-CCEF27AA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9501-86EF-428C-8475-22FC673B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B419E-0082-4ADE-8ADD-DEBAB007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4998F-652A-43FA-A3D4-D9023FAB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1F159-6824-474E-923C-B1389B0B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B3EA-355D-48E6-86A1-0F0F2E8EB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7161-DC65-4904-8E26-F8F2C4646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B6AD-F1DF-479F-94F7-14F0D0AF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ECB6-C3AF-4118-8970-11DFC8C0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B374-32C9-477D-B78D-0EE17007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E78C-8F78-4CF8-AF63-1A5DA27E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E7E8-D00D-471D-998C-E064B0BA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8EAB-B38B-4534-8EFE-27461CC7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5ECF-DEB3-4A89-95C9-F43F845F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5DA7-D6A7-46AD-8A4B-E49F265A159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959B-FE0B-44D8-B267-A4E7DD1D7C8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Modelos de Desarrollo de Softwa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3 - Versión 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Waterfall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914400" y="1676520"/>
          <a:ext cx="5257800" cy="32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76520"/>
                    <a:ext cx="5257800" cy="32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685800" y="5191200"/>
            <a:ext cx="8134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Arial"/>
              </a:rPr>
              <a:t>El modelo de cascada aunque algo desprestigiado continúa siendo usado para visualizar las etapas de desarrollo (¿cómo debería avanzarse?) y funciona bien si no hay grandes sorpresa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Waterfal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1523880"/>
            <a:ext cx="81532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n el modelo de cascada puro no hay realimentación entre las distintas etapa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También se usa el modelo con feedback hacia atrá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ependiendo de la versión, posee entre 5 y 10 actividades fundamental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Utilidad mayor es la identificación de las actividades fundamentales (que aparecen en cualquier proceso) y la definición de los documentos de entrega (deliverable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Los problemas más importantes de este modelo son: (a) que no maneja los riesgos y (b) que obtiene un producto demasiado tard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Waterfal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752480" y="1571760"/>
            <a:ext cx="51642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volutionary o Incremental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838080" y="1828800"/>
          <a:ext cx="7696440" cy="256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696440" cy="25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838080" y="4952880"/>
            <a:ext cx="8077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La idea es combinar los elementos del tradicional modelo d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cascada con la filosofía de prototipos (usada principalment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en la etapa de definición de requisito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volutionary o Increment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1752480"/>
            <a:ext cx="792504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uencias lineales en forma escalonad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ada secuencia genera un incremento del softwar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jemplo: Word Process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imer incremento: edición y formateo básic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gundo incremento: párrafos y document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rcer incremento: spelling y gramáti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uarto incremento: layout avanzado, etc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volutionary o Increment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1752480"/>
            <a:ext cx="7925040" cy="51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ada incremento representa una versión reducida del producto fina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Puede ser validada de inmediato por el usuari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 una buena preparación para la vida evolutiva del product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difícil obtener una buena segmentación del product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difícil incorporar cambios (respecto a lo que se pretende obtener), una vez que el proyecto está en march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piral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6400800" cy="31795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609480" y="5348160"/>
            <a:ext cx="800100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Objetivo: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Proveer una estructura para el diseño de procesos de producción de software, guiado por los </a:t>
            </a:r>
            <a:r>
              <a:rPr b="1" i="1" lang="es-ES_tradnl" sz="2400" spc="-1" strike="noStrike">
                <a:solidFill>
                  <a:srgbClr val="40458c"/>
                </a:solidFill>
                <a:latin typeface="Tahoma"/>
              </a:rPr>
              <a:t>niveles de riesgo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del proyecto a desarrolla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pir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modelo en espiral puede ser visto como un “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metamodelo”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pues cualquier modelo de proceso puede ser enmarcado en é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finicione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Riesgo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Circunstancias potencialmente adversas que pueden perjudicar el proceso de desarrollo o la calidad del produ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Manejo del Riesgo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“Disciplina cuyos objetivos son identificar, manejar y eliminar los elementos de riesgo del software, antes que se conviertan en problemas”  B.W. Boeh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pir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modelo en espiral se basa en la identificación y eliminación de problemas de alto riesgo a través de un proceso de diseño cuidado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modelo en espiral tiene como característica principal que es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cíclico y no lineal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radio del espiral marca el costo acumulado en el proceso, mientas que la dimensión angular representa el progreso dentro del proce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uando no existe riesgo, el modelo en espiral puede reducirse a un modelo en casca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pir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Elementos de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Técnicas de manej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Riesgo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Riesg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1-  Carencias del personal.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Staff calificado, equipos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           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ntrenamiento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2- Cronogramas y presupuestos    -  Estimación de cronogram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no realistas.                               y costos detallados, reuso de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experiencia previ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3- Desarrollo de funcione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Análisis organizado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quivocadas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prototipación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4- Desarrollo de interfase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Prototipos, escenarios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quivocadas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           caracterización de usuari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5- “Gold plating”...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Análisis costo-benefici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6- Continuos cambios d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Ocultamiento de información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Requisitos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desarrollo increment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1636560"/>
            <a:ext cx="7721640" cy="5069160"/>
          </a:xfrm>
          <a:prstGeom prst="rect">
            <a:avLst/>
          </a:prstGeom>
          <a:noFill/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" y="2471760"/>
            <a:ext cx="775656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0" y="1676520"/>
            <a:ext cx="0" cy="518148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40458c"/>
                </a:solidFill>
                <a:latin typeface="Tahoma"/>
              </a:rPr>
              <a:t>Objetivo de la Presentació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Mostrar diferentes formas de organizar el desarrollo de software según el avance de la informátic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nalizar los “ciclos de vida” más representativ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40458c"/>
                </a:solidFill>
                <a:latin typeface="Tahoma"/>
              </a:rPr>
              <a:t>Estructura de la Presentació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finición y Objetivos de los Modelos de Desarrol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volución de estos model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nclus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pir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Elementos de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Técnicas de manej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Riesgo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Riesg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7- Carencias en componentes       -  Análisis de compatibilidad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xternos (soft, hard, etc).          benchmarks, inspeccion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8- Carencias en tarea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        -  Control de referencias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esarrolladas en forma              contratos cuidadosos,   externa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selección de subcontratad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9- Carencias de performanc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Simulación, prototipos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n tiempo real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            benchmark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10- Forzar la computación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Análisis técnico, prototipos y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 honestida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" y="1636560"/>
            <a:ext cx="7721640" cy="4764240"/>
          </a:xfrm>
          <a:prstGeom prst="rect">
            <a:avLst/>
          </a:prstGeom>
          <a:noFill/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" y="2529000"/>
            <a:ext cx="775656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0" y="1676520"/>
            <a:ext cx="0" cy="474804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mponent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5257800" cy="25369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696960" y="4286160"/>
            <a:ext cx="7761240" cy="242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mponent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1676520"/>
            <a:ext cx="78483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desarrollo basado en componentes contempla la construcción de sistemas, a través del ensamble de módulos predefinidos (componentes)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tos módulos son genéricos (sirven para más de un sistema), configurables, y pueden ser desarrollados por cualquier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ara que esto sea factible, los módulos deben adherir a una especificación de componentes de software como: JavaBeans, ActiveX, EJB, COM, DCOM, etc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desarrollo basado en componente tiene un sin número de ventajas, en lo relacionado con el tiempo y costo de desarrollo, y también en lo que respecta a la calidad del producto final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RUP (Rational Unified Proces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476760" cy="48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RUP (Rational Unified Proces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762120" y="1676520"/>
            <a:ext cx="784836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un modelo moderno, que incorpora las recomendaciones (buenas prácticas) de la ingeniería de softwar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Tiene mucho respaldo, pero es un tanto complejo (se requiere entrenamiento par usarlo)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tá muy atado a UML (Unified Modeling Language)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Hasta el momento, sólo ha demostrado ser uno má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 diferencia del resto, RUP considera la arquitectura como una pieza clave del desarroll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No es demasiado fuerte para apoyar el desarrollo de proyectos Web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WebE (Web Engineering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2" name=""/>
          <p:cNvSpPr/>
          <p:nvPr/>
        </p:nvSpPr>
        <p:spPr>
          <a:xfrm>
            <a:off x="200016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3" name="pressman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WebE (Web Engineering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762120" y="1676520"/>
            <a:ext cx="784836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un modelo moderno, aplicable a proyectos Web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finido por R. Pressman en 1998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el primer modelo diseñado específicamente para desarrollar proyectos Web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unque hay otros como RMM, y OOHDM que proponen alternativas a WebE, pero que vienen del lado de los sistemas hipermedial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WebE aún no ha sido probado lo suficiente, y por ahora es sólo una buena propuest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desarrollo de software debe ser guiado por un modelo, como forma de disciplinar, organizar y gerenciar las actividad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modelo debe ser definido por la organización y adaptado a cada proyecto en particula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as actividades que deben cumplirse en el proceso de desarrollo son básicamente las que establece el modelo en casca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modelo debe ser lo suficientemente flexible como para incorporar el principio de ANTICIPACION AL CAMB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n lo posible debe utilizarse un desarrollo incremental, con entregas parciales al usuario (modelo evolutivo, incremental o espiral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ara los productos que así lo ameriten, realizar análisis de riesgo (modelo espiral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ón y Objetiv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772400" cy="476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40458c"/>
                </a:solidFill>
                <a:latin typeface="Tahoma"/>
              </a:rPr>
              <a:t>Proceso de producción de softwar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40458c"/>
                </a:solidFill>
                <a:uFillTx/>
                <a:latin typeface="Tahoma"/>
              </a:rPr>
              <a:t>Actividade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que se realizan para la construcción, liberación y evolución de un producto de software, comenzando con el estudio de una idea y finalizando con el retiro final del sistem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40458c"/>
                </a:solidFill>
                <a:latin typeface="Tahoma"/>
              </a:rPr>
              <a:t>Ciclo de Vid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os </a:t>
            </a:r>
            <a:r>
              <a:rPr b="0" i="1" lang="es-ES_tradnl" sz="2400" spc="-1" strike="noStrike" u="sng">
                <a:solidFill>
                  <a:srgbClr val="40458c"/>
                </a:solidFill>
                <a:uFillTx/>
                <a:latin typeface="Tahoma"/>
              </a:rPr>
              <a:t>modelos estructurado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de software muestran más claramente los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ciclos de vida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del software…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ciclo de vida </a:t>
            </a:r>
            <a:r>
              <a:rPr b="0" i="1" lang="es-ES_tradnl" sz="2400" spc="-1" strike="noStrike" u="sng">
                <a:solidFill>
                  <a:srgbClr val="40458c"/>
                </a:solidFill>
                <a:uFillTx/>
                <a:latin typeface="Tahoma"/>
              </a:rPr>
              <a:t>describe los estado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por los que pasa un producto de software, desde su concepción hasta su muer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ón y Objetiv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Objetivos de un modelo de proceso estructurado (o modelo de desarrollo de software estructurado)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824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a meta de un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modelo estructurado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 proceso es determinar el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orden de las etapa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que componen el desarrollo y la evolución de un software, estableciendo los “criterios de transición” para progresar de una etapa a la siguiente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24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os modelos están hechos para contestar las siguientes preguntas en un proyecto de softwar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240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2" marL="1231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40458c"/>
                </a:solidFill>
                <a:latin typeface="Tahoma"/>
              </a:rPr>
              <a:t>-¿Qué debemos hacer a continuación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2319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40458c"/>
                </a:solidFill>
                <a:latin typeface="Tahoma"/>
              </a:rPr>
              <a:t>-¿Cuánto tiempo debemos continuar haciéndolo?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”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(B.Bohem 1988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ón y Objetiv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280" y="155700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Beneficios de los modelo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40458c"/>
                </a:solidFill>
                <a:uFillTx/>
                <a:latin typeface="Tahoma"/>
              </a:rPr>
              <a:t>Proveen de guías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 los ingenieros de software, a cerca del orden en el cual deben ser llevadas a cabo las variadas actividades técnic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40458c"/>
                </a:solidFill>
                <a:uFillTx/>
                <a:latin typeface="Tahoma"/>
              </a:rPr>
              <a:t>Dan un marco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o estructura para gerenciar, desarrollar y mantener un desarrollo, lo cual nos permite: estimar recursos, definir hitos intermedios y monitorear los progres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40458c"/>
                </a:solidFill>
                <a:uFillTx/>
                <a:latin typeface="Tahoma"/>
              </a:rPr>
              <a:t>Anticipan y controlan el proceso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para alcanzar las cualidades deseadas del softwar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40458c"/>
                </a:solidFill>
                <a:uFillTx/>
                <a:latin typeface="Tahoma"/>
              </a:rPr>
              <a:t>Sistematizan el proceso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con el uso de estándares, metodologías y herramient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Permiten la producción de software </a:t>
            </a:r>
            <a:r>
              <a:rPr b="1" lang="es-ES_tradnl" sz="2000" spc="-1" strike="noStrike">
                <a:solidFill>
                  <a:srgbClr val="40458c"/>
                </a:solidFill>
                <a:latin typeface="Tahoma"/>
              </a:rPr>
              <a:t>confiable, predecible y eficient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volución de Model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Modelos de Desarrollo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de &amp; Fix Model (~1960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Waterfall Model (~1970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volutionary Model (~1985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Transformation Model (~1975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piral Model (~1988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mponent Model (~1992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RUP (~1997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Webe (~1998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delos de Desarrollo de Soft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8055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Arial"/>
              </a:rPr>
              <a:t>No basta con seleccionar un modelo genérico de desarrollo de software y tratar de adaptarse a él. Se requiere una definición más precisa de cómo se llevan a cabo las distintas tare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Modelos de Desarrollo Genéric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aquí caen todos los modelos de desarrollo de software tradicionales: cascada, espiral, prototipos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presentan una estrategia muy general para efectuar el proceso de desarrol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n la realidad casi nunca es posible efectuar el desarrollo adhiriendo completamente a uno de estos model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delos de Desarrollo de Soft.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odelos de Desarrollo Genéric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ermiten un entendimiento de tipo general del proceso pero no es fácil llevarlos a un nivel de detalle más fino, lo cual es necesario para guiar el trabajo de los profesional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o representan en forma precisa lo que realmente se h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odelos de Desarrollo Específic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parecen las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actividades mayores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involucradas en el proces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Brindan una especificación precisa del orden entre ell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stablecen relaciones entre las diversas tareas, los artefactos producidos en ellas, las personas que las realizan y las herramientas utilizad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Usan formalismos gráficos (por ejemplo Redes de Petri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de &amp; Fix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30556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Usado  en los comienzos de la computación, cuando ésta era una actividad personal y artesan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nsta de 2 etapas: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codificar, eliminar errores en el códig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uente de dificultades y deficienci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2" marL="1040040" indent="-207720" algn="just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Luego de una secuencia de cambios, el código era tan enredado, que eliminar errores era una tarea pesada y muy difícil de realizar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40040" indent="-207720" algn="just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Cuando el desarrollo de sistemas dejó de ser una actividad personal y artesanal,  el  modelo no podía manejar la complejidad de los  sistemas 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40040" indent="-207720" algn="just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No acepta la rotación de personal en un proyec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una práctica habitual en el desarrollo We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2T17:31:38Z</dcterms:created>
  <dc:creator>Sergio Ochoa</dc:creator>
  <dc:description/>
  <dc:language>en-US</dc:language>
  <cp:lastModifiedBy>Sergio F. Ochoa</cp:lastModifiedBy>
  <cp:lastPrinted>2001-08-08T05:55:09Z</cp:lastPrinted>
  <dcterms:modified xsi:type="dcterms:W3CDTF">2005-08-04T15:33:28Z</dcterms:modified>
  <cp:revision>33</cp:revision>
  <dc:subject/>
  <dc:title>Ingeniería de Software   </dc:title>
</cp:coreProperties>
</file>