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65454-1C17-4CD7-9885-3DFB03275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B637F-AE71-4785-852A-C8A1D6A6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E4366-6BED-4E2D-AA8E-C903D97F1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C503-60F9-4ADC-8DDA-D17C7A11D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B4C16-2D62-4350-A56C-E36A60030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6D0E6-AF7C-4CBF-AA8C-5CC820183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1D86D-241F-4CD8-B6AF-6566488A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4E75C-07D2-4EBB-96C2-BA3D83946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12678-7BFA-4452-8D06-91F6042AA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02831-742F-4243-844C-06CAC5918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3FAE8-0916-4EED-B972-487D05176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F628-E0C5-4FC9-B292-7644E1C38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58BCC-26CF-4193-97FE-99655A40F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FFE1F-94A3-4CD6-A769-F07979E63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96E46-0FCE-4913-9C64-1BB57B68A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A38F7-0257-4397-9BD4-0DC6ED41A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5860F-CA54-4ACC-A07B-FCDE3A164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885E-7A7B-41C4-98F1-906E7A84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5624-CA1B-44F5-866C-43D3757BA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09CF-A6AC-4CB3-9BFA-6C450BEE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DC563-B8CA-48D5-8561-AEDC241E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62AE-554A-48F0-98AA-0805B57D3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DF1A-8CB1-4DA2-AF08-4F553A38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9166-95AC-49AF-B898-851198CE9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573F-C83C-4F9B-A4EE-B27D86EB80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5C4E-4D06-4853-A084-55594CF5F3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ime Navón,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www.ing.puc.cl/~jnavon)</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4</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desarrollo del hardware siempre aventaja al software asociado a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demanda por nuevos productos y soluciones no puede ser satisfecha</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software no es confiable (y somos cada vez más dependientes de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en las fechas prevista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costando lo previsto </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jamás se usan</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usuarios altamente insatisfecho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costo exorbitante de mantenimient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3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3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39"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cala: </a:t>
            </a:r>
            <a:r>
              <a:rPr b="0" lang="en-US" sz="2400" spc="-1" strike="noStrike">
                <a:solidFill>
                  <a:srgbClr val="40458c"/>
                </a:solidFill>
                <a:latin typeface="Arial"/>
              </a:rPr>
              <a:t>una sola persona no puede entenderlo todo</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mplejidad: </a:t>
            </a:r>
            <a:r>
              <a:rPr b="0" lang="en-US" sz="2400" spc="-1" strike="noStrike">
                <a:solidFill>
                  <a:srgbClr val="40458c"/>
                </a:solidFill>
                <a:latin typeface="Arial"/>
              </a:rPr>
              <a:t>Requiere trabajo de equipo:</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problemas de manejo de gente</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coordinación, egos, motivación, recambios, </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tc.</a:t>
            </a:r>
            <a:endParaRPr b="0" lang="en-US" sz="24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mbio: </a:t>
            </a:r>
            <a:r>
              <a:rPr b="0" lang="en-US" sz="2400" spc="-1" strike="noStrike">
                <a:solidFill>
                  <a:srgbClr val="40458c"/>
                </a:solidFill>
                <a:latin typeface="Arial"/>
              </a:rPr>
              <a:t>durante y después del desarrollo inicial</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ida: </a:t>
            </a:r>
            <a:r>
              <a:rPr b="0" lang="en-US" sz="2400" spc="-1" strike="noStrike">
                <a:solidFill>
                  <a:srgbClr val="40458c"/>
                </a:solidFill>
                <a:latin typeface="Arial"/>
              </a:rPr>
              <a:t>años y décadas</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pecificaciones imprecisas: </a:t>
            </a:r>
            <a:r>
              <a:rPr b="0" lang="en-US" sz="2400" spc="-1" strike="noStrike">
                <a:solidFill>
                  <a:srgbClr val="40458c"/>
                </a:solidFill>
                <a:latin typeface="Arial"/>
              </a:rPr>
              <a:t>ambigüedad, contradicciones, requisitos cambiant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formal del proceso de desarroll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documentación formal detallada tanto interna como externa</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4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requerimien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320840" y="2400480"/>
            <a:ext cx="6299280" cy="2342880"/>
          </a:xfrm>
          <a:prstGeom prst="rect">
            <a:avLst/>
          </a:prstGeom>
          <a:ln w="0">
            <a:noFill/>
          </a:ln>
        </p:spPr>
      </p:pic>
      <p:sp>
        <p:nvSpPr>
          <p:cNvPr id="247"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48"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fontScale="99000"/>
          </a:bodyPr>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39480" indent="-339480" algn="r">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39480" indent="-3394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39480" indent="-339480" algn="r">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39480" indent="-3394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39480" indent="-339480" algn="r">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39480" indent="-3394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39480" indent="-339480" algn="r">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aracterísticas de la Ingeniería</a:t>
            </a:r>
            <a:endParaRPr b="0" lang="en-US" sz="4000" spc="-1" strike="noStrike">
              <a:solidFill>
                <a:srgbClr val="660066"/>
              </a:solidFill>
              <a:latin typeface="Tahoma"/>
            </a:endParaRPr>
          </a:p>
        </p:txBody>
      </p:sp>
      <p:sp>
        <p:nvSpPr>
          <p:cNvPr id="250"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costos, uso de recursos, etc.</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repetible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ción del conocimiento</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Responsabilidad profesional</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15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5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660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56"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fontScale="93000"/>
          </a:bodyPr>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66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a:t>
            </a:r>
            <a:endParaRPr b="0" lang="en-US" sz="28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62"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65"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66"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67"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68"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0" name="PlaceHolder 2"/>
          <p:cNvSpPr>
            <a:spLocks noGrp="1"/>
          </p:cNvSpPr>
          <p:nvPr>
            <p:ph/>
          </p:nvPr>
        </p:nvSpPr>
        <p:spPr>
          <a:xfrm>
            <a:off x="1422000" y="2185920"/>
            <a:ext cx="7467480" cy="41148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ienzos</a:t>
            </a:r>
            <a:r>
              <a:rPr b="1" lang="es-ES_tradnl" sz="2000" spc="-1" strike="noStrike">
                <a:solidFill>
                  <a:srgbClr val="40458c"/>
                </a:solidFill>
                <a:latin typeface="Tahoma"/>
              </a:rPr>
              <a:t> : Poner un conjunto de instrucciones para que las computadoras hicieran algo útil</a:t>
            </a:r>
            <a:endParaRPr b="0" lang="en-US" sz="2000" spc="-1" strike="noStrike">
              <a:solidFill>
                <a:srgbClr val="40458c"/>
              </a:solidFill>
              <a:latin typeface="Tahoma"/>
            </a:endParaRPr>
          </a:p>
        </p:txBody>
      </p:sp>
      <p:sp>
        <p:nvSpPr>
          <p:cNvPr id="271" name=""/>
          <p:cNvSpPr/>
          <p:nvPr/>
        </p:nvSpPr>
        <p:spPr>
          <a:xfrm>
            <a:off x="888840" y="3728880"/>
            <a:ext cx="726444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965160" y="3529080"/>
            <a:ext cx="0" cy="171360"/>
          </a:xfrm>
          <a:prstGeom prst="line">
            <a:avLst/>
          </a:prstGeom>
          <a:ln w="7632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69244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flipV="1">
            <a:off x="3809880" y="3481560"/>
            <a:ext cx="0" cy="26640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462276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flipH="1">
            <a:off x="939960" y="2143080"/>
            <a:ext cx="457200" cy="12286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2413080" y="288612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flipV="1">
            <a:off x="1295280" y="411480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flipV="1">
            <a:off x="2819520" y="4114800"/>
            <a:ext cx="1676160" cy="11145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037120" y="350028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37360" y="63244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50-60</a:t>
            </a:r>
            <a:r>
              <a:rPr b="0" lang="es-ES_tradnl" sz="2000" spc="-1" strike="noStrike">
                <a:solidFill>
                  <a:srgbClr val="40458c"/>
                </a:solidFill>
                <a:latin typeface="Arial"/>
              </a:rPr>
              <a:t> : Creación de los lenguajes de alto nivel</a:t>
            </a:r>
            <a:endParaRPr b="0" lang="en-US" sz="2000" spc="-1" strike="noStrike">
              <a:solidFill>
                <a:srgbClr val="40458c"/>
              </a:solidFill>
              <a:latin typeface="Times New Roman"/>
            </a:endParaRPr>
          </a:p>
        </p:txBody>
      </p:sp>
      <p:sp>
        <p:nvSpPr>
          <p:cNvPr id="282" name=""/>
          <p:cNvSpPr/>
          <p:nvPr/>
        </p:nvSpPr>
        <p:spPr>
          <a:xfrm>
            <a:off x="1210320" y="1523880"/>
            <a:ext cx="4791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OS 360 IBM</a:t>
            </a:r>
            <a:r>
              <a:rPr b="0" lang="es-ES_tradnl" sz="2000" spc="-1" strike="noStrike">
                <a:solidFill>
                  <a:srgbClr val="40458c"/>
                </a:solidFill>
                <a:latin typeface="Arial"/>
              </a:rPr>
              <a:t> : Sistema “grande” , se crea</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término INGENIERIA DE SOFTWARE</a:t>
            </a:r>
            <a:endParaRPr b="0" lang="en-US" sz="2000" spc="-1" strike="noStrike">
              <a:solidFill>
                <a:srgbClr val="40458c"/>
              </a:solidFill>
              <a:latin typeface="Times New Roman"/>
            </a:endParaRPr>
          </a:p>
        </p:txBody>
      </p:sp>
      <p:sp>
        <p:nvSpPr>
          <p:cNvPr id="283" name=""/>
          <p:cNvSpPr/>
          <p:nvPr/>
        </p:nvSpPr>
        <p:spPr>
          <a:xfrm>
            <a:off x="2565720" y="529596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70</a:t>
            </a:r>
            <a:r>
              <a:rPr b="0" lang="es-ES_tradnl" sz="2000" spc="-1" strike="noStrike">
                <a:solidFill>
                  <a:srgbClr val="40458c"/>
                </a:solidFill>
                <a:latin typeface="Arial"/>
              </a:rPr>
              <a:t> :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84" name=""/>
          <p:cNvSpPr/>
          <p:nvPr/>
        </p:nvSpPr>
        <p:spPr>
          <a:xfrm>
            <a:off x="5107680" y="386712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85" name=""/>
          <p:cNvSpPr/>
          <p:nvPr/>
        </p:nvSpPr>
        <p:spPr>
          <a:xfrm>
            <a:off x="5107320" y="3124080"/>
            <a:ext cx="26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8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89"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Qué es la Ingeniería de Software?</a:t>
            </a:r>
            <a:endParaRPr b="0" lang="en-US" sz="28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Construcción multi-persona de software multi-versiones [Parnas 87].”</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19" name="PlaceHolder 2"/>
          <p:cNvSpPr>
            <a:spLocks noGrp="1"/>
          </p:cNvSpPr>
          <p:nvPr>
            <p:ph/>
          </p:nvPr>
        </p:nvSpPr>
        <p:spPr>
          <a:xfrm>
            <a:off x="837720" y="1699920"/>
            <a:ext cx="7766280" cy="4763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800" spc="-1" strike="noStrike">
              <a:solidFill>
                <a:srgbClr val="40458c"/>
              </a:solidFill>
              <a:latin typeface="Tahoma"/>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ntes de empezar se tengan:</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1"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nalice un problema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solución en busca de un problema….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pare los problemas complejos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vite el cambio,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calidad del producto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visión compartida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3" name="PlaceHolder 2"/>
          <p:cNvSpPr>
            <a:spLocks noGrp="1"/>
          </p:cNvSpPr>
          <p:nvPr>
            <p:ph/>
          </p:nvPr>
        </p:nvSpPr>
        <p:spPr>
          <a:xfrm>
            <a:off x="684000" y="1628280"/>
            <a:ext cx="806436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a veces se requieren a “todos junt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5"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a algo implementabl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contraparte válida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odelo de proceso/negocio 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Factibilidad (técnica/social/económica/operativa)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a:t>
            </a:r>
            <a:r>
              <a:rPr b="0" i="1" lang="es-ES_tradnl" sz="2400" spc="-1" strike="noStrike">
                <a:solidFill>
                  <a:srgbClr val="40458c"/>
                </a:solidFill>
                <a:latin typeface="Arial"/>
              </a:rPr>
              <a:t> basados en computador.</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de al menos 20.000 líneas.</a:t>
            </a:r>
            <a:endParaRPr b="0" lang="en-US" sz="24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5-08-02T14:03:11Z</dcterms:modified>
  <cp:revision>45</cp:revision>
  <dc:subject/>
  <dc:title>Ingeniería de Software   </dc:title>
</cp:coreProperties>
</file>