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0CF-449A-460B-8322-BD505EE8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2CD-EF14-4034-A6BB-53B113FB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DB8-2D11-49F0-A46A-BB56990B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22C-09AC-4163-AF4D-809965D4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77C6-276F-49D1-88B4-E331B415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A264-B5D1-4D2C-8137-39CA1016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1E52-F1E6-4E74-942C-17CB8C66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D025-736E-40E9-A7A0-9FCE818C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F7F6-2DB3-4D5E-960F-ED4C1863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C444-F4E0-4847-9D20-2BF1A610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EC64-AED4-409B-98E4-F46B98D6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E156-AD8A-4E35-887E-F57FA803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8204-AB75-4923-99A5-BA3CCA32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AD17-872D-4FAE-962C-E54CB6D8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4A63-5623-42E7-B965-98AA22F1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C614-EF82-48A1-BDBC-16D8F1B4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F1E9-11BF-46D6-A3CA-E88D2A08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7E45-DC75-4254-AF46-B3C032BE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E99-7F71-43A8-8F3B-7BF1262F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069E-7DD2-4228-AA21-541E5DDD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07E-2A72-4318-92CD-CF899FBB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2A2-731B-442B-BA67-6597BDF6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E7C-A77A-4CB8-B775-E31D6484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325-4E4F-4FF1-9AFF-B7000B1D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CE6F-5C54-4BD3-8D8E-F3A8A723E40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229D-28C6-4D84-B8E0-5227D55EC9C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choa@dcc.uchile.cl" TargetMode="External"/><Relationship Id="rId2" Type="http://schemas.openxmlformats.org/officeDocument/2006/relationships/hyperlink" Target="mailto:aneyem@dcc.uchile.cl" TargetMode="External"/><Relationship Id="rId3" Type="http://schemas.openxmlformats.org/officeDocument/2006/relationships/hyperlink" Target="mailto:avergara@dcc.uchile.cl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dcc.uchile.cl/~cc51a" TargetMode="External"/><Relationship Id="rId2" Type="http://schemas.openxmlformats.org/officeDocument/2006/relationships/hyperlink" Target="http://www.dcc.uchile.cl/~cc51a" TargetMode="External"/><Relationship Id="rId3" Type="http://schemas.openxmlformats.org/officeDocument/2006/relationships/hyperlink" Target="http://www.dcc.uchile.cl/~cc51a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C51A -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1 - Versión 4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oles (2): Analis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08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Es el encargado de relevar y especificar los requisitos del sistema a desarrollar. Entre sus tareas está: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Identificar y entrevistar a clientes y usuari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Delimitar el alcance del sistema (con el AdP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Desambigüar los requisit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Generar los documentos de requisitos de  software (SRD) y de usuario (URD), dentro de los plazos comprometidos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Apoyar al Téster en la especificación de las pruebas de sistema y de Usuari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que el diseño cumpla con los requisitos (junto con el téster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50360" indent="-447840" algn="just">
              <a:lnSpc>
                <a:spcPct val="90000"/>
              </a:lnSpc>
              <a:spcBef>
                <a:spcPts val="110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que el producto final cumpla con los requisitos (junto con el téster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36360" y="4822920"/>
            <a:ext cx="1362240" cy="1101600"/>
          </a:xfrm>
          <a:prstGeom prst="parallelogram">
            <a:avLst>
              <a:gd name="adj" fmla="val 30915"/>
            </a:avLst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4560" y="4005360"/>
            <a:ext cx="708120" cy="70776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108000" y="60166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"/>
              </a:rPr>
              <a:t>Analis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oles (3): Diseñad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Es el encargado de generar el diseño del front-end y back-end del sistema. Entre sus funciones está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513800" indent="-506160" algn="just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Generar el diseño arquitectónico y diseño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detallado del sistema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(DD-Documento de Diseño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, basándose en los requisitos. El diseño DEBE ser implement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513800" indent="-506160" algn="just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Generar prototipos rápidos del sistema (con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nalistas e implementadores) para chequear los requisitos entregados por el cl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513800" indent="-506160" algn="just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alidar los prototipos con clientes y usuarios pertin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513800" indent="-506160" algn="just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que el producto final se ajuste al diseño realizado (funciones de tést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179280" y="4606920"/>
            <a:ext cx="1362240" cy="1101600"/>
          </a:xfrm>
          <a:prstGeom prst="parallelogram">
            <a:avLst>
              <a:gd name="adj" fmla="val 30915"/>
            </a:avLst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108000" y="58006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"/>
              </a:rPr>
              <a:t>Diseñad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7480" y="3789360"/>
            <a:ext cx="708120" cy="7081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oles (4):Implementad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1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Es el encargado de implementar el sistema. Entre sus funciones está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487520" indent="-53352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Implementar los prototipos rápidos para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hequear los requisito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487520" indent="-53352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plementar los diseños del sistema, especificados por los diseñadores (en el D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487520" indent="-53352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Realizar la primera batería de pruebas y ajustar el sistema en base a los result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487520" indent="-53352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Diseñar (junto al AdP) y llevar a cabo el plan de impla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4606920"/>
            <a:ext cx="1362240" cy="1101600"/>
          </a:xfrm>
          <a:prstGeom prst="parallelogram">
            <a:avLst>
              <a:gd name="adj" fmla="val 30915"/>
            </a:avLst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360" y="58006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"/>
              </a:rPr>
              <a:t>Imple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7480" y="3789360"/>
            <a:ext cx="708120" cy="7081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oles (5): Tés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Es el encargado de asegurar la calidad de cada uno de los productos (documentos, prototipos, etc). Entre sus tarea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Coordinar las revisiones de los productos del proyec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Generar los informes post revis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Realizar un seguimiento de las falencias identificad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Informar al AdP acepta de riesgos identificad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 la adhesión al estándar adoptad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 la completitud, y exactitud (no </a:t>
            </a:r>
            <a:r>
              <a:rPr b="0" lang="es-MX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ambigüedades) de los document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 la calidad del producto final (cumplimiento de los requisitos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1302840" indent="-426600" algn="just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Especificar las pruebas a realizar (con analistas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41400" y="4606920"/>
            <a:ext cx="1361880" cy="1101600"/>
          </a:xfrm>
          <a:prstGeom prst="parallelogram">
            <a:avLst>
              <a:gd name="adj" fmla="val 30907"/>
            </a:avLst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36360" y="5800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"/>
              </a:rPr>
              <a:t>Tést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" y="3789360"/>
            <a:ext cx="707760" cy="7081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equisitos de Aprob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584360"/>
            <a:ext cx="8353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Promedio de notas de los controles debe ser mayor o igual a 4.0 (incluyendo el examen, y el reemplazo de not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Promedio de notas del proyecto debe ser mayor o igual a 4.0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La nota del examen también debe ser mayor o igual a 4.0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1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51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NF = 0.6 * PNP + 0.4 * PN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5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       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NF = Nota Fin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5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PNP = Promedio de Notas del Proyec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5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PNC = Promedio de Notas de Contro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11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  <a:ea typeface="Arial"/>
              </a:rPr>
              <a:t>Podrán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eximirse del examen aquellos que tengan 5.5 o más en los controles. La nota del examen será el promedio de los controles, y podrá ser usada como reemplazo de la peor nota de contro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098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40458c"/>
                </a:solidFill>
                <a:uFillTx/>
                <a:latin typeface="Tahoma"/>
              </a:rPr>
              <a:t>60 % - Proyecto: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76440" y="2421000"/>
          <a:ext cx="8143560" cy="4303800"/>
        </p:xfrm>
        <a:graphic>
          <a:graphicData uri="http://schemas.openxmlformats.org/drawingml/2006/table">
            <a:tbl>
              <a:tblPr/>
              <a:tblGrid>
                <a:gridCol w="1950840"/>
                <a:gridCol w="1081080"/>
                <a:gridCol w="1150920"/>
                <a:gridCol w="1368360"/>
                <a:gridCol w="1440000"/>
                <a:gridCol w="1152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oles / Phase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P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nalist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iseñado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mplemen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éste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teración 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mplantación 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teración I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mplantación I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-Evaluación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cept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40458c"/>
                </a:solidFill>
                <a:uFillTx/>
                <a:latin typeface="Tahoma"/>
              </a:rPr>
              <a:t>40 % - Controles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% correspond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la nota del examen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2.5 % corresponde a la nota de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 control 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2.5 % corresponde a la nota del control 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a nota del examen puede reemplazar a la de uno de los contro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NOTA: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6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1- Si más del 50 % de los miembros del equipo de trabajo está de acuerdo con expulsar a uno de sus integrantes, puede hacerlo. Para ello deberá contar con el consentimiento del profesor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6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2- Si el alumno es expulsado, la responsabilidad del acto será asumida por el profes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6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3- El expulsado tendrá un 1 como nota final del proyecto, y reprobará el cur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NOTA: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1- El administrador de cada proyecto puede recomendar al profesor, la expulsión justificada de un miembro del equipo de trabajo, sin necesidad de que la mayoría esté de acuer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2- Si el alumno es expulsado, la responsabilidad del acto será asumida en forma compartida por el adm. del proyecto y el profesor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3- El expulsado tendrá un 1 como nota final del proyecto, y reprobará el cur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NOTA: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. La nota de Co-Evaluación es obligatoria, y cada alumno debe ser responsable al evaluar a sus compañer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2. Si un alumno queda sin nota de Co-Evaluación porque sus compañeros no quisieron evaluarlo, la nota de concepto puesta por el profesor tendrá un peso del 20% para ese alumn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esponsable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ofesor a Carg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ergio F. Ochoa </a:t>
            </a:r>
            <a:r>
              <a:rPr b="0" lang="es-MX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sochoa@dcc.uchile.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      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el: + 56 2 678-4364/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      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Oficina 313 (DC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Auxilia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Andrés Neyem   </a:t>
            </a:r>
            <a:r>
              <a:rPr b="0" lang="es-MX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aneyem@dcc.uchile.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       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el: + 56 2 678-489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       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Oficina de Doctoran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Ayudan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Andrés Vergara   </a:t>
            </a:r>
            <a:r>
              <a:rPr b="0" lang="es-MX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avergara@dcc.uchile.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Bibliografí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1760" y="1628640"/>
            <a:ext cx="80578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  “</a:t>
            </a: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 - A  Practitioner’s Approach”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  - Roger S. Pressman. 6</a:t>
            </a:r>
            <a:r>
              <a:rPr b="0" lang="es-CL" sz="2200" spc="-1" strike="noStrike">
                <a:solidFill>
                  <a:srgbClr val="40458c"/>
                </a:solidFill>
                <a:latin typeface="Arial"/>
                <a:ea typeface="Arial"/>
              </a:rPr>
              <a:t>º Ed. (2002). 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McGraw Hill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“  </a:t>
            </a: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ESA Software Engineering Standards”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. PSS-05-0 Issue 2. ESA Board for Software Standardization and Control (BSSC) - European Space Agency. (1991).  URL: www.ess.co.at/ECOSIM/ESA.txt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  “</a:t>
            </a: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”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  - Ian Somerville. 7</a:t>
            </a:r>
            <a:r>
              <a:rPr b="0" lang="es-CL" sz="2200" spc="-1" strike="noStrike">
                <a:solidFill>
                  <a:srgbClr val="40458c"/>
                </a:solidFill>
                <a:latin typeface="Arial"/>
                <a:ea typeface="Arial"/>
              </a:rPr>
              <a:t>º Ed. (2004). 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Addison Wesley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“  </a:t>
            </a:r>
            <a:r>
              <a:rPr b="0" i="1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A Discipline for Software Engineering”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 – Watts Humphrey. (1995). Addison Wesley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  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 Institute (SEI), Carnegie Melon University (www.sei.cmu.edu)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Arial"/>
                <a:ea typeface="Arial"/>
              </a:rPr>
              <a:t>  </a:t>
            </a:r>
            <a:r>
              <a:rPr b="0" lang="es-CL" sz="2200" spc="-1" strike="noStrike">
                <a:solidFill>
                  <a:srgbClr val="40458c"/>
                </a:solidFill>
                <a:latin typeface="Arial"/>
                <a:ea typeface="Arial"/>
              </a:rPr>
              <a:t>Web-site del curso (</a:t>
            </a:r>
            <a:r>
              <a:rPr b="0" lang="es-CL" sz="2200" spc="-1" strike="noStrike" u="sng">
                <a:solidFill>
                  <a:srgbClr val="6f89f7"/>
                </a:solidFill>
                <a:uFillTx/>
                <a:latin typeface="Arial"/>
                <a:ea typeface="Arial"/>
                <a:hlinkClick r:id="rId1"/>
              </a:rPr>
              <a:t>www.dcc.uchile.cl</a:t>
            </a:r>
            <a:r>
              <a:rPr b="0" lang="es-CL" sz="2200" spc="-1" strike="noStrike" u="sng">
                <a:solidFill>
                  <a:srgbClr val="6f89f7"/>
                </a:solidFill>
                <a:uFillTx/>
                <a:latin typeface="Arial"/>
                <a:ea typeface="Arial"/>
                <a:hlinkClick r:id="rId2"/>
              </a:rPr>
              <a:t>/</a:t>
            </a:r>
            <a:r>
              <a:rPr b="0" lang="es-CL" sz="2200" spc="-1" strike="noStrike" u="sng">
                <a:solidFill>
                  <a:srgbClr val="6f89f7"/>
                </a:solidFill>
                <a:uFillTx/>
                <a:latin typeface="Arial"/>
                <a:ea typeface="Arial"/>
                <a:hlinkClick r:id="rId3"/>
              </a:rPr>
              <a:t>~cc51a</a:t>
            </a:r>
            <a:r>
              <a:rPr b="0" lang="es-CL" sz="2200" spc="-1" strike="noStrike">
                <a:solidFill>
                  <a:srgbClr val="40458c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  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Piensa, y luego actúa ....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-   Preguntar es un síntoma de interés e inteligenci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-   Pregunta a tiempo .... no dejes todo para el final..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-   Trata a los demás como deseas que te trate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-   Discute los problemas con sus compañer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-   .... pero debes ser hones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  <a:ea typeface="Times New Roman"/>
              </a:rPr>
              <a:t>Ven a clases. Hay muchas cosas que hay que vivirlas para aprenderlas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ntiende que tu éxito en este curso, sólo puede ser construido por tu equipo de trabaj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... Por lo tanto, sé generoso con tus conocimientos, responsable con tu trabajo, y crítico (constructivo) con el trabajo de los demá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Acepta la ayuda o las sugerencias de tus compañeros, ellos están tratando de mejorar el producto final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89520" indent="-38952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La comunicación y coordinación entre los miembros del equipo de trabajo, y entre estos y el cliente, es la piedra angular para el éxito de cualquier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9520" indent="-38952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51907"/>
                </a:solidFill>
                <a:latin typeface="Tahoma"/>
                <a:ea typeface="Times New Roman"/>
              </a:rPr>
              <a:t>Júntense en forma periódica (1 vez a la semana, 30 minutos), los miembros del equipo de trabaj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... Hay un abismo de diferencia entre la comunicación/coordinación cara a cara versus vía email o inclusive teléfo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9520" indent="-38952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51907"/>
                </a:solidFill>
                <a:latin typeface="Tahoma"/>
                <a:ea typeface="Times New Roman"/>
              </a:rPr>
              <a:t>Júntense en forma periódica (1 vez a la semana, 30 minutos), con el cliente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 para verificar el avance del proyecto y obtener feedback..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9520" indent="-38952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suman que van a tener problemas de comunicación y coordinación, por lo tanto adelántese a esos riesgos y generen planes de continge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9520" indent="-38952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suman que van a tener problemas de internos (por ejemplo gente enferma) y externo (con el cliente) por lo tanto adelántese a esos riesgos y generen planes de continge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9520" indent="-38952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suman que los plazos nunca son suficientes, por lo tanto adelántese a esos riesgos y generen planes de continge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Tarea para el Viernes 26/7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819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os que están inscritos en el curso y no lo van a tomar, por favor avísen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os que no están inscritos y quieren tomar el curso, por favor avísen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os que van a tomar el curso deben entregar a Magaly un currículum de no más de 3 hojas, que conteng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atos Personales (incluir: teléfonos, emails y fot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anejo de Inglé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xperiencia en desarrollo de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xperiencia en diseño gráfic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enguajes de Programación conoc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BD conoc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2 Roles que le interesaría desarrollar (1 rol preferido, y 1 rol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ecundario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Organiz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Definición de Objetiv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Contenidos del Curs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Metodología de Desarrollo del Curs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Roles de los Alumn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Requisitos de Aprob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Evalu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otocolo de Comunic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Guía de Supervivenci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Objetivos de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55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Desarrollar un Sistema Real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apoyándose en un Está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Conocer un Estándar (ESA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Trabajar en Equip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Desempeñar un Rol dentro del Equip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Lidiar con el Cl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Implantar una solución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Contenido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83080" indent="-603360">
              <a:lnSpc>
                <a:spcPct val="100000"/>
              </a:lnSpc>
              <a:spcBef>
                <a:spcPts val="24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40458c"/>
                </a:solidFill>
                <a:latin typeface="Arial"/>
                <a:ea typeface="Times New Roman"/>
              </a:rPr>
              <a:t>Introducción a la 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883080" indent="-603360">
              <a:lnSpc>
                <a:spcPct val="100000"/>
              </a:lnSpc>
              <a:spcBef>
                <a:spcPts val="24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40458c"/>
                </a:solidFill>
                <a:latin typeface="Arial"/>
                <a:ea typeface="Times New Roman"/>
              </a:rPr>
              <a:t>Gestión de Proyecto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883080" indent="-603360">
              <a:lnSpc>
                <a:spcPct val="100000"/>
              </a:lnSpc>
              <a:spcBef>
                <a:spcPts val="24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40458c"/>
                </a:solidFill>
                <a:latin typeface="Arial"/>
                <a:ea typeface="Times New Roman"/>
              </a:rPr>
              <a:t>Especificación de Requisi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883080" indent="-603360">
              <a:lnSpc>
                <a:spcPct val="100000"/>
              </a:lnSpc>
              <a:spcBef>
                <a:spcPts val="24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40458c"/>
                </a:solidFill>
                <a:latin typeface="Arial"/>
                <a:ea typeface="Times New Roman"/>
              </a:rPr>
              <a:t>Diseño de Sistema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883080" indent="-603360">
              <a:lnSpc>
                <a:spcPct val="100000"/>
              </a:lnSpc>
              <a:spcBef>
                <a:spcPts val="24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40458c"/>
                </a:solidFill>
                <a:latin typeface="Arial"/>
                <a:ea typeface="Times New Roman"/>
              </a:rPr>
              <a:t>Aseguramiento de Calidad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883080" indent="-603360">
              <a:lnSpc>
                <a:spcPct val="100000"/>
              </a:lnSpc>
              <a:spcBef>
                <a:spcPts val="24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40458c"/>
                </a:solidFill>
                <a:latin typeface="Arial"/>
                <a:ea typeface="Times New Roman"/>
              </a:rPr>
              <a:t>Entrega e Implantación del Produc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etodología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819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0458c"/>
                </a:solidFill>
                <a:latin typeface="Tahoma"/>
              </a:rPr>
              <a:t>Cátedr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lases Teóricas (B203 - Mar-Jue. 8:30-10:00h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lases Auxiliares (*** - Lunes 14:30 a 16:00h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0458c"/>
                </a:solidFill>
                <a:latin typeface="Tahoma"/>
              </a:rPr>
              <a:t>Alumno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Selección y Ejecución de un 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jecución de un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etodología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0172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º-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cada alumno se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signa un rol, de acuerdo a su Currículum y a sus preferencia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os roles posibles son: Administrador de Proyectos, Analista, Diseñador, Implementador o Tést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2º- Los alumnos son divididos en equipos de trabajo de 5 o 6 personas, y se les asignará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un proyecto a desarrolla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por ellos durante el semest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º-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Cada equip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ejecutará el proyecto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según las pautas dadas por la cátedr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etodología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819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4º- Habrá dos tipos de proyectos: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de implantación y extensió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, y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de desarrollo e implan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5º- La asignación de proyectos a equipos de trabajo la hace el profes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º- Al finalizar el semestre, cada equipo de trabajo, deberá entregar una versión implantada del sistema, ajustándose a los requisitos especificados por el cl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oles (1): Adm.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08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s el principal responsable proyecto (Decision maker). Entre sus responsabilidades está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1430280" indent="-533520" algn="just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Delimitar el Alcance del Sistema (con los analistas)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1430280" indent="-533520" algn="just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Planificar/replanificar y Administrar el Proyecto de Software. Incluyendo el plan de pruebas e implantación junto con el implementador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1430280" indent="-533520" algn="just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Coordinar el trabajo de los distintos miembros del equip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1430280" indent="-533520" algn="just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I</a:t>
            </a:r>
            <a:r>
              <a:rPr b="0" lang="en-U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nteractuar con el Cliente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1430280" indent="-533520" algn="just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6f89f7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Velar por el cumplimiento de los objetivos, plazos y costos comprometidos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ste es uno de los roles más críticos dentro d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ualquier proyecto de desarrollo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4365720"/>
            <a:ext cx="1362240" cy="1101600"/>
          </a:xfrm>
          <a:prstGeom prst="parallelogram">
            <a:avLst>
              <a:gd name="adj" fmla="val 30915"/>
            </a:avLst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7480" y="3548160"/>
            <a:ext cx="708120" cy="70776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-108000" y="55594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"/>
              </a:rPr>
              <a:t>Adm. del Proyec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ala_B203</cp:lastModifiedBy>
  <dcterms:modified xsi:type="dcterms:W3CDTF">2005-07-28T13:50:50Z</dcterms:modified>
  <cp:revision>88</cp:revision>
  <dc:subject/>
  <dc:title>Ingeniería de Software   </dc:title>
</cp:coreProperties>
</file>