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995-B22A-452C-8757-F46A915B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015-9AA5-40E5-AFAB-55CD5C4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568-C290-4B9E-8D89-E6305D9C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9C8-4131-496E-BE6F-E77A174C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EB3-B162-4176-8F50-483A7E1C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819E-0C7A-4B24-B321-06A89C5F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0AB-7FA2-4CDA-A424-00C0A86F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9B2-38F6-4DB2-BC87-10AB98A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E6D-6A94-4E3E-94BC-542BA0A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F2B4-8DAD-42D6-9FCD-1FEF970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DDFC-F7B4-44B4-A28F-6B2DA0B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1F8-3D7A-4497-8055-D256C0A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5A5B-4436-4E76-BEC3-E67FB8E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AF4-8D0D-4DA7-B32B-0E8B0676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C129-0E8A-4AEC-870D-8C589934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24C0-C497-482E-A333-A0ED6658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D960-8329-456D-8F41-FE87D0C7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578-9D9A-429F-A488-91B232F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C2B-F13A-4B24-8E0C-26EE575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EB3-CCA9-4057-A2D3-C1B9F3C7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570-5BAE-410B-9DE9-CE6766D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99A-0C4F-4EEF-B25C-BFD2EF8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13A-8EC1-4746-A520-8ED16AF3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5D9-0DFC-455E-862A-98DF7C2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2EA0-8BA2-4543-A189-8CFD70EA2F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30A6-62B5-4DE7-A1EC-FA8CABB877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hyperlink" Target="mailto:aneyem@dcc.uchile.cl" TargetMode="External"/><Relationship Id="rId3" Type="http://schemas.openxmlformats.org/officeDocument/2006/relationships/hyperlink" Target="mailto:avergara@dcc.uchile.c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cc.uchile.cl/~cc51a" TargetMode="External"/><Relationship Id="rId2" Type="http://schemas.openxmlformats.org/officeDocument/2006/relationships/hyperlink" Target="http://www.dcc.uchile.cl/~cc51a" TargetMode="External"/><Relationship Id="rId3" Type="http://schemas.openxmlformats.org/officeDocument/2006/relationships/hyperlink" Target="http://www.dcc.uchile.cl/~cc51a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51A -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ón 4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2): Analis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relevar y especificar los requisitos del sistema a desarrollar. Entre sus tareas está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Identificar y entrevistar a clientes y usuari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Delimitar el alcance del sistema (con el AdP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Desambigüar los requisit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los documentos de requisitos de  software (SRD) y de usuario (URD), dentro de los plazos comprometid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Apoyar al Téster en la especificación de las pruebas de sistema y de Usuari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diseño cumpla con los requisitos (junto con el téster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producto final cumpla con los requisitos (junto con el téster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6360" y="4822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4560" y="4005360"/>
            <a:ext cx="708120" cy="7077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00" y="6016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Anali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3): Diseñad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generar el diseño del front-end y back-end del sistema. Entre sus funciones está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el diseño arquitectónico y diseño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tallado del sistema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(DD-Documento de Diseño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basándose en los requisitos. El diseño DEBE ser implement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prototipos rápidos del sistema (con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nalistas e implementadores) para chequear los requisitos entregados por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alidar los prototipos con clientes y usuarios perti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producto final se ajuste al diseño realizado (funciones de tést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4606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08000" y="58006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Diseña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7480" y="3789360"/>
            <a:ext cx="70812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4):Implementad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1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implementar el sistema. Entre sus funciones está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mplementar los prototipos rápidos para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hequear los requisit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plementar los diseños del sistema, especificados por los diseñadores (en el D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r la primera batería de pruebas y ajustar el sistema en base a los result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eñar (junto al AdP) y llevar a cabo el plan de impla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4606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60" y="58006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Impl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480" y="3789360"/>
            <a:ext cx="70812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5): Tés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asegurar la calidad de cada uno de los productos (documentos, prototipos, etc). Entre sus tarea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Coordinar las revisiones de los productos del proyec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los informes post re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r un seguimiento de las falencias identificad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Informar al AdP acepta de riesgos identificad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adhesión al estándar adopt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completitud, y exactitud (no </a:t>
            </a:r>
            <a:r>
              <a:rPr b="0" lang="es-MX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ambigüedades) de los document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calidad del producto final (cumplimiento de los requisitos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Especificar las pruebas a realizar (con analistas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1400" y="4606920"/>
            <a:ext cx="1361880" cy="1101600"/>
          </a:xfrm>
          <a:prstGeom prst="parallelogram">
            <a:avLst>
              <a:gd name="adj" fmla="val 30907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36360" y="5800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Tés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" y="3789360"/>
            <a:ext cx="70776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584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La nota del examen también debe ser mayor o igual a 4.0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6 * PNP + 0.4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  <a:ea typeface="Arial"/>
              </a:rPr>
              <a:t>Podrá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09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60 % - Proyecto: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76440" y="2421000"/>
          <a:ext cx="8143560" cy="4303800"/>
        </p:xfrm>
        <a:graphic>
          <a:graphicData uri="http://schemas.openxmlformats.org/drawingml/2006/table">
            <a:tbl>
              <a:tblPr/>
              <a:tblGrid>
                <a:gridCol w="1950840"/>
                <a:gridCol w="1081080"/>
                <a:gridCol w="1150920"/>
                <a:gridCol w="1368360"/>
                <a:gridCol w="1440000"/>
                <a:gridCol w="1152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oles / Phase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P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st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iseñad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eme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ést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ración 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antación 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ración I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antación I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-Evaluació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cept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40 % - Controle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2.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2.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- Si más del 50 % de los miembros del equipo de trabajo está de acuerdo con expulsar a uno de sus integrantes, puede hacerlo. Para ello deberá contar con el consentimiento del profeso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- Si el alumno es expulsado, la responsabilidad del acto será asumida por el profes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- El expulsado tendrá un 1 como nota final del proyecto, y reprobará el cur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- El administrador de cada proyecto puede recomendar al profesor, la expulsión justificada de un miembro del equipo de trabajo, sin necesidad de que la mayoría esté de 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- Si el alumno es expulsado, la responsabilidad del acto será asumida en forma compartida por el adm. del proyecto y el profeso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- El expulsado tendrá un 1 como nota final del proyecto, y reprobará el cur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. La nota de Co-Evaluación es obligatoria, y cada alumno debe ser responsable al evaluar a sus compañ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. Si un alumno queda sin nota de Co-Evaluación porque sus compañeros no quisieron evaluarlo, la nota de concepto puesta por el profesor tendrá un peso del 20% para ese alum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F. Ochoa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56 2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Oficina 313 (DC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ndrés Neyem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neyem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56 2 678-489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Oficina de Doctoran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yud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ndrés Vergara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vergar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“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“  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ESA Software Engineering Standards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. PSS-05-0 Issue 2. ESA Board for Software Standardization and Control (BSSC) - European Space Agency. (1991).  URL: www.ess.co.at/ECOSIM/ESA.tx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“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“  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A Discipline for Software Engineering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– Watts Humphrey. (1995). Addison Wesley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(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1"/>
              </a:rPr>
              <a:t>www.dcc.uchile.cl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2"/>
              </a:rPr>
              <a:t>/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3"/>
              </a:rPr>
              <a:t>~cc51a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Preguntar es un síntoma de interés e inteligenc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Pregunta a tiempo .... no dejes todo para el final..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Trata a los demás como deseas que te trate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Discute los problemas con sus compañer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.... pero debes ser hones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, y entre estos y el cliente, es la piedra angular para el éxito de cualquier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con el cliente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para verificar el avance del proyecto y obtener feedback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internos (por ejemplo gente enferma) y externo (con el cliente)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Viernes 26/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van a tomar el curso deben entregar a Magaly un currículum de no más de 3 hojas, que conteng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Personales (incluir: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anejo de Inglé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2 Roles que le interesaría desarrollar (1 rol preferido, y 1 ro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cundari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rgan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finición de Objetiv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tenidos del Curs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Metodología de Desarrollo del Curs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Roles de los Alumn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Requisitos de Aprob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valu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tocolo de Comun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Guía de Supervivenc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Sistema Real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poyándose en un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un Estándar (ESA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Trabajar en Equi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empeñar un Rol dentro del Equi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Lidiar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Implantar una solución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Introducción a la 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Especificación de Requisi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Diseño de Sistem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Aseguramiento de Calidad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Entrega e Implantación del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lases Teóricas (B203 - Mar-Jue. 8:30-10:00h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lases Auxiliares (*** - Lunes 14:30 a 16:00h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Alumn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lección y Ejecución de un 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jecución de un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0172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cada alumno s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signa un rol, de acuerdo a su Currículum y a sus preferenci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roles posibles son: Administrador de Proyectos, Analista, Diseñador, Implementador o Tés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- Los alumnos son divididos en equipos de trabajo de 5 o 6 personas, y se les asignará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un proyecto a desarroll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por ellos durante el semest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ada equi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jecutará el proyecto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según las pautas dadas por la cátedr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4º- Habrá dos tipos de proyectos: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de implantación y extens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y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de desarrollo e impla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5º- La asignación de proyectos a equipos de trabajo la hace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º- Al finalizar el semestre, cada equipo de trabajo, deberá entregar una versión implantada del sistema, ajustándose a los requisitos especificados por e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1): Adm.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principal responsable proyecto (Decision maker). Entre sus responsabilidades está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Delimitar el Alcance del Sistema (con los analista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Planificar/replanificar y Administrar el Proyecto de Software. Incluyendo el plan de pruebas e implantación junto con el implementado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Coordinar el trabajo de los distintos miembros del equip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I</a:t>
            </a: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nteractuar con el Cliente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el cumplimiento de los objetivos, plazos y costos comprometido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e es uno de los roles más críticos dentro d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ualquier proyecto de desarroll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43657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7480" y="3548160"/>
            <a:ext cx="708120" cy="7077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108000" y="55594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Adm. del Proye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03</cp:lastModifiedBy>
  <dcterms:modified xsi:type="dcterms:W3CDTF">2005-07-28T13:50:50Z</dcterms:modified>
  <cp:revision>88</cp:revision>
  <dc:subject/>
  <dc:title>Ingeniería de Software   </dc:title>
</cp:coreProperties>
</file>