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FC95-717B-46B1-85E9-138DB4D6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3431-7FBA-4138-9EE9-3417110E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9D96-AE3D-428D-93B0-4F0216C7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EFA3-8B87-4B4F-8644-F28E6AF3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4EF0-20D9-48DD-BA51-1035381D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D361-C457-4A2F-A0EA-10D03483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CD10-D0C8-4DA8-AD18-317B3220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1FDD-0DE9-437B-B747-C064F56B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CF22-0D34-47DD-B419-D180A9B5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C76C-52FB-4B64-BBB3-3C0909F0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4A1D-20C4-4930-BE40-ECA5B67C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F528-0F9C-4C72-B3E6-406B2F8E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A4F8-983F-44E8-8022-25EE9BAC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14A3-704A-48E6-B466-78934A1A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2BA3-D869-4DDD-806B-2F691B7F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F458-5E26-426E-AE20-31867B13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0731-75DA-4B79-9302-A824C4F7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9F10-B709-4C2D-B5FD-92C47959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08AD-EEB5-4835-B0DF-0284B788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0E9D-E82A-4226-A718-CF484625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E3CA-3C5E-4F9B-8989-47412967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A302-C6E2-4480-8E39-70B3F668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CFD1-3EA1-4E5F-A04B-B25DA4B7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CAEC-172E-4616-AE6F-B699A0E6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44A7-782B-4F41-8360-B222604FC701}" type="slidenum">
              <a:rPr b="0" lang="fr-C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AE09-BCB0-42D2-B7A8-862B327BB655}" type="slidenum">
              <a:rPr b="0" lang="fr-C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java.sun.com/j2se/1.3/docs/tooldocs/solaris/rmid.html" TargetMode="External"/><Relationship Id="rId2" Type="http://schemas.openxmlformats.org/officeDocument/2006/relationships/hyperlink" Target="http://java.sun.com/j2se/1.3/docs/tooldocs/solaris/rmid.html" TargetMode="External"/><Relationship Id="rId3" Type="http://schemas.openxmlformats.org/officeDocument/2006/relationships/hyperlink" Target="http://java.sun.com/j2se/1.3/docs/tooldocs/solaris/rmid.html" TargetMode="External"/><Relationship Id="rId4" Type="http://schemas.openxmlformats.org/officeDocument/2006/relationships/hyperlink" Target="http://java.sun.com/j2se/1.3/docs/tooldocs/solaris/rmid.html" TargetMode="External"/><Relationship Id="rId5" Type="http://schemas.openxmlformats.org/officeDocument/2006/relationships/hyperlink" Target="http://java.sun.com/j2se/1.3/docs/tooldocs/solaris/rmid.html" TargetMode="External"/><Relationship Id="rId6" Type="http://schemas.openxmlformats.org/officeDocument/2006/relationships/hyperlink" Target="http://java.sun.com/j2se/1.3/docs/tooldocs/solaris/rmid.html" TargetMode="External"/><Relationship Id="rId7" Type="http://schemas.openxmlformats.org/officeDocument/2006/relationships/hyperlink" Target="http://java.sun.com/j2se/1.3/docs/tooldocs/solaris/rmid.html" TargetMode="External"/><Relationship Id="rId8" Type="http://schemas.openxmlformats.org/officeDocument/2006/relationships/hyperlink" Target="http://java.sun.com/j2se/1.3/docs/tooldocs/solaris/rmid.html" TargetMode="External"/><Relationship Id="rId9" Type="http://schemas.openxmlformats.org/officeDocument/2006/relationships/hyperlink" Target="http://java.sun.com/j2se/1.3/docs/tooldocs/solaris/rmid.html" TargetMode="External"/><Relationship Id="rId10" Type="http://schemas.openxmlformats.org/officeDocument/2006/relationships/hyperlink" Target="http://java.sun.com/j2se/1.3/docs/tooldocs/solaris/rmid.html" TargetMode="External"/><Relationship Id="rId11" Type="http://schemas.openxmlformats.org/officeDocument/2006/relationships/hyperlink" Target="http://java.sun.com/j2se/1.3/docs/tooldocs/solaris/rmid.html" TargetMode="External"/><Relationship Id="rId12" Type="http://schemas.openxmlformats.org/officeDocument/2006/relationships/hyperlink" Target="http://java.sun.com/j2se/1.3/docs/tooldocs/win32/rmid.html" TargetMode="External"/><Relationship Id="rId13" Type="http://schemas.openxmlformats.org/officeDocument/2006/relationships/hyperlink" Target="http://java.sun.com/j2se/1.3/docs/tooldocs/win32/rmid.html" TargetMode="External"/><Relationship Id="rId14" Type="http://schemas.openxmlformats.org/officeDocument/2006/relationships/hyperlink" Target="http://java.sun.com/j2se/1.3/docs/tooldocs/win32/rmid.html" TargetMode="External"/><Relationship Id="rId15" Type="http://schemas.openxmlformats.org/officeDocument/2006/relationships/hyperlink" Target="http://java.sun.com/j2se/1.3/docs/tooldocs/win32/rmid.html" TargetMode="External"/><Relationship Id="rId16" Type="http://schemas.openxmlformats.org/officeDocument/2006/relationships/hyperlink" Target="http://java.sun.com/j2se/1.3/docs/tooldocs/win32/rmid.html" TargetMode="External"/><Relationship Id="rId17" Type="http://schemas.openxmlformats.org/officeDocument/2006/relationships/hyperlink" Target="http://java.sun.com/j2se/1.3/docs/tooldocs/win32/rmid.html" TargetMode="External"/><Relationship Id="rId18" Type="http://schemas.openxmlformats.org/officeDocument/2006/relationships/hyperlink" Target="http://java.sun.com/j2se/1.3/docs/tooldocs/win32/rmid.html" TargetMode="External"/><Relationship Id="rId1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java.sun.com/j2se/1.3/docs/guide/rmi/activation/activation.1.html#registryNote" TargetMode="External"/><Relationship Id="rId2" Type="http://schemas.openxmlformats.org/officeDocument/2006/relationships/hyperlink" Target="http://java.sun.com/j2se/1.3/docs/guide/rmi/activation/activation.1.html#registryNote" TargetMode="External"/><Relationship Id="rId3" Type="http://schemas.openxmlformats.org/officeDocument/2006/relationships/hyperlink" Target="http://java.sun.com/j2se/1.3/docs/guide/rmi/activation/activation.1.html#registryNote" TargetMode="External"/><Relationship Id="rId4" Type="http://schemas.openxmlformats.org/officeDocument/2006/relationships/hyperlink" Target="http://java.sun.com/j2se/1.3/docs/guide/rmi/activation/activation.1.html#registryNote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java.sun.com/j2se/1.3/docs/guide/rmi/activation/activation.1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java.sun.com/j2se/1.3/docs/guide/rmi/activation/code/Client.java" TargetMode="External"/><Relationship Id="rId2" Type="http://schemas.openxmlformats.org/officeDocument/2006/relationships/hyperlink" Target="http://java.sun.com/j2se/1.3/docs/guide/rmi/activation/code/MyRemoteInterface.java" TargetMode="External"/><Relationship Id="rId3" Type="http://schemas.openxmlformats.org/officeDocument/2006/relationships/hyperlink" Target="http://java.sun.com/j2se/1.3/docs/guide/rmi/activation/code/MyRemoteInterface.java" TargetMode="External"/><Relationship Id="rId4" Type="http://schemas.openxmlformats.org/officeDocument/2006/relationships/hyperlink" Target="http://java.sun.com/j2se/1.3/docs/guide/rmi/activation/code/ActivatableImplementation.java" TargetMode="External"/><Relationship Id="rId5" Type="http://schemas.openxmlformats.org/officeDocument/2006/relationships/hyperlink" Target="http://java.sun.com/j2se/1.3/docs/guide/rmi/activation/code/ActivatableImplementation.java" TargetMode="External"/><Relationship Id="rId6" Type="http://schemas.openxmlformats.org/officeDocument/2006/relationships/hyperlink" Target="http://java.sun.com/j2se/1.3/docs/guide/rmi/activation/code/Setup.java" TargetMode="External"/><Relationship Id="rId7" Type="http://schemas.openxmlformats.org/officeDocument/2006/relationships/hyperlink" Target="http://java.sun.com/j2se/1.3/docs/guide/rmi/activation/code/Setup.java" TargetMode="Externa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Activable Servic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333399"/>
                </a:solidFill>
                <a:latin typeface="Tahoma"/>
              </a:rPr>
              <a:t>Note 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ahoma"/>
              </a:rPr>
              <a:t>the policy file location to b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Tahoma"/>
              </a:rPr>
              <a:t>the absolute path to where you've installed the example policy file that came with the source code</a:t>
            </a: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Compilation and Exec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Step 1:</a:t>
            </a: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Compile the remote interface, implementation, client and setup classes</a:t>
            </a: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% javac -d . MyRemoteInterface.jav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% javac -d . ActivatableImplementation.jav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% javac -d . Client.jav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% javac -d . Setup.jav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Step 2:</a:t>
            </a: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Run rmic on the implementation class</a:t>
            </a: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% rmic -d . examples.activation.ActivatableImplement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Step 3:</a:t>
            </a:r>
            <a:r>
              <a:rPr b="0" lang="fr-CA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Start the rmiregist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% rmiregistry &amp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Before you start the rmiregistry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600" spc="-1" strike="noStrike">
                <a:solidFill>
                  <a:srgbClr val="000000"/>
                </a:solidFill>
                <a:latin typeface="Tahoma"/>
              </a:rPr>
              <a:t>you must make sure that the shell or window in which you will run the 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registry</a:t>
            </a:r>
            <a:r>
              <a:rPr b="0" i="1" lang="fr-CA" sz="1600" spc="-1" strike="noStrike">
                <a:solidFill>
                  <a:srgbClr val="000000"/>
                </a:solidFill>
                <a:latin typeface="Tahoma"/>
              </a:rPr>
              <a:t>, either ha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400" spc="-1" strike="noStrike">
                <a:solidFill>
                  <a:srgbClr val="000000"/>
                </a:solidFill>
                <a:latin typeface="Tahoma"/>
              </a:rPr>
              <a:t>no CLASSPATH se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400" spc="-1" strike="noStrike">
                <a:solidFill>
                  <a:srgbClr val="000000"/>
                </a:solidFill>
                <a:latin typeface="Tahoma"/>
              </a:rPr>
              <a:t>or has a CLASSPATH that does not include the path to any classes that you want downloaded to your client, including the stubs for your remote object implementation classes.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If you start the 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rmiregistry</a:t>
            </a: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, and it 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can</a:t>
            </a: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 find your stub classes in its CLASSPATH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600" spc="-1" strike="noStrike">
                <a:solidFill>
                  <a:srgbClr val="000000"/>
                </a:solidFill>
                <a:latin typeface="Tahoma"/>
              </a:rPr>
              <a:t>it will ignore the server's 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java.rmi.server.codebase</a:t>
            </a:r>
            <a:r>
              <a:rPr b="0" i="1" lang="fr-CA" sz="1600" spc="-1" strike="noStrike">
                <a:solidFill>
                  <a:srgbClr val="000000"/>
                </a:solidFill>
                <a:latin typeface="Tahoma"/>
              </a:rPr>
              <a:t> property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600" spc="-1" strike="noStrike">
                <a:solidFill>
                  <a:srgbClr val="000000"/>
                </a:solidFill>
                <a:latin typeface="Tahoma"/>
              </a:rPr>
              <a:t>and as a result, your client(s) will not be able to download the stub code for your remote object.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Step 4:</a:t>
            </a:r>
            <a:r>
              <a:rPr b="0" lang="fr-CA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Start the activation daemon, rmid</a:t>
            </a:r>
            <a:r>
              <a:rPr b="0" lang="fr-CA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% rmid -J-Djava.security.policy=rmid.policy &a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Where rmid.policy is the name of the security policy file for rmi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Note: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 By default, rmid now requires a security policy file, that is used to verify whether or not the information in each ActivationGroupDescriptor is allowed to be used to launch a JVM for an activation group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For complete details, please refer to the 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rmid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 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man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 page for 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the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 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Solaris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 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operating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 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environment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rmid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 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man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 page for 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the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7"/>
              </a:rPr>
              <a:t> Microsoft Windows 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8"/>
              </a:rPr>
              <a:t>platform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Step 5:</a:t>
            </a:r>
            <a:r>
              <a:rPr b="0" lang="fr-CA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Run the setup program</a:t>
            </a:r>
            <a:r>
              <a:rPr b="0" lang="fr-CA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Run the setup, setting the codebase property to be the location of the implementation stub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% java 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-Djava.security.policy=/home/rmi_tutorial/activation/policy 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-Djava.rmi.server.codebase=file:/home/rmi_tutorial/activation/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examples.activation.Setup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The codebase property will be resolved to a URL, so it must have the form of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"http://aHost/somesource/" or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"file:/myDirectory/location/" or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"file:///myDirectory/location/" (three slashes after the "file:")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Please note that each of these sample URL strings has a trailing "/"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The server output should look like this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Got the stub for the ActivatableImplement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Exported ActivatableImplement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If you forget the trailing slash on the property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or if the class files can't be located at the source (they aren't really being made available for downloa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or if you misspell the property nam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you'll get thrown a 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java.lang.ClassNotFoundException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This exception will be throw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when you try to bind your remote object to the rmiregistry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or when the first client attempts to access that object's stub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If the latter case occurs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you have another problem as well because the 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rmiregistry was finding the stubs 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in 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its 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CLASSPATH.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Step 6:</a:t>
            </a:r>
            <a:r>
              <a:rPr b="0" lang="fr-CA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Run the cli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877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The argument to the examples.activation.Client program is the hostname of the implementation server, in this case, "vector"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% java -Djava.security.policy=/home/rmi_tutorial/activation/policy 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examples.activation.Clien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vector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The client output should look like th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Got a remote reference to the object that extends Activa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Making remote call to the server Returned from remote cal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Result: Succes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Poli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Policy fi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there is by defaul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a single system-wide policy file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and a single user policy fil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The system policy file is by default located a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java.home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/lib/security/java.policy (Solaris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java.home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\lib\security\java.policy (Windows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Tahoma"/>
              </a:rPr>
              <a:t>java.home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refers to the value of the system property named "java.home"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which specifies the directory that houses the runtime environmen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either the jre directory in the Java 2 SDK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or the top-level directory of the Java 2 Runtime Environment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User policy fi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The user policy file is by default located a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Tahoma"/>
              </a:rPr>
              <a:t>user.home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/.java.policy (Solaris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Tahoma"/>
              </a:rPr>
              <a:t>user.home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\.java.policy (Windows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Note: </a:t>
            </a:r>
            <a:r>
              <a:rPr b="0" i="1" lang="fr-CA" sz="2000" spc="-1" strike="noStrike">
                <a:solidFill>
                  <a:srgbClr val="000000"/>
                </a:solidFill>
                <a:latin typeface="Tahoma"/>
              </a:rPr>
              <a:t>user.home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 refers t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he value of the system property named "user.home"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which specifies the user's home directory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On Windows systems, given user name </a:t>
            </a: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uName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, the "user.home" property value defaults to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C:\Winnt\Profiles\uName on multi-user Windows NT systems C:\Windows\Profiles\uName on multi-user Windows 95 systems C:\Windows on single-user Windows 95 systems</a:t>
            </a: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333399"/>
                </a:solidFill>
                <a:latin typeface="Tahoma"/>
              </a:rPr>
              <a:t>UnicastRemoteObject vs Activatab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An instance of UnicastRemoteObject may be accessed on a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(1) creating an instance of the remote objec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(2) continuously execu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java.rmi.activation.Activatable + RMI daemon, rm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Develop applications based on remote objects to be executed on deman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RMI daemon, rmid, provides a virtual machine from which other can be launch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Policy file lo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Policy file locations are specified in the security properties file, which is located a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java.home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/lib/security/java.security (Solaris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java.home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\lib\security\java.security (Windows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The policy file locations are specified as the values of properti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whose names are of the form policy.url.</a:t>
            </a: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 is a number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For example, the default system and user policy files are defined in the security properties file a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policy.url.1=file:${java.home}/lib/security/java.polic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policy.url.2=file:${user.home}/.java.polic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333399"/>
                </a:solidFill>
                <a:latin typeface="Tahoma"/>
              </a:rPr>
              <a:t>Specifying an Additional Policy File at Runtim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It is also possible to specify an additional or a different policy file when invoking execution of an applica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his can be done via the "-Djava.security.policy" command line argument, which sets the value of the </a:t>
            </a: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java.security.policy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 property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java -Djava.security.manager -Djava.security.policy=</a:t>
            </a:r>
            <a:r>
              <a:rPr b="0" i="1" lang="fr-CA" sz="1600" spc="-1" strike="noStrike">
                <a:solidFill>
                  <a:srgbClr val="000000"/>
                </a:solidFill>
                <a:latin typeface="Tahoma"/>
              </a:rPr>
              <a:t>someURL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SomeApp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fr-CA" sz="1400" spc="-1" strike="noStrike">
                <a:solidFill>
                  <a:srgbClr val="000000"/>
                </a:solidFill>
                <a:latin typeface="Tahoma"/>
              </a:rPr>
              <a:t>someURL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is a URL specifying the location of a policy file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then the specified policy file will be loaded in addition to all the policy files that are specified in the security properties fil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333399"/>
                </a:solidFill>
                <a:latin typeface="Tahoma"/>
              </a:rPr>
              <a:t>Making a UnicastRemoteObject Activatabl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to change an existing class from being a subclass of UnicastRemoteObjec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being a sub-class of java.rmi.activation.Activata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116000" y="404640"/>
            <a:ext cx="7772400" cy="59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Step 1: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200"/>
            </a:b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Make the appropriate imports in the implementation class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import java.rmi.*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import java.rmi.activation.*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Step 2: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200"/>
            </a:b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Modify the class declaration so that the class now extends from java.rmi.activation.Activatable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public class MyRemoteInterfaceImpl extends Activatabl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implements examples.activation.MyRemoteInterface {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Step 3: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200"/>
            </a:b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Remove or comment out the old no-argument constructor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// public MyRemoteInterfaceImpl() throws RemoteExcep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// { // }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Step 4: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200"/>
            </a:b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Declare a two-argument constructor in the implementation class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public MyRemoteInterfaceImpl(ActivationID id, MarshalledObject data) throws RemoteExcep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000" spc="-1" strike="noStrike">
                <a:solidFill>
                  <a:srgbClr val="000000"/>
                </a:solidFill>
                <a:latin typeface="Tahoma"/>
              </a:rPr>
              <a:t>// Register the object with the activation system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000" spc="-1" strike="noStrike">
                <a:solidFill>
                  <a:srgbClr val="000000"/>
                </a:solidFill>
                <a:latin typeface="Tahoma"/>
              </a:rPr>
              <a:t>// then export it on an anonymous port //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000" spc="-1" strike="noStrike">
                <a:solidFill>
                  <a:srgbClr val="000000"/>
                </a:solidFill>
                <a:latin typeface="Tahoma"/>
              </a:rPr>
              <a:t>super(id, 0); }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78920" y="104400"/>
            <a:ext cx="8713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import java.rmi.*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import java.rmi.activation.*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import java.util.Properties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public class Setup {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This class registers information about the ActivatableImplementa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class with rmid and the rmiregistry //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public static void main(String[] args) throws Excep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System.setSecurityManager(new RMISecurityManager());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Because of the 1.2 security model, a security policy should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be specified for the ActivationGroup VM. The first argument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to the Properties put method, inherited from Hashtable, i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the key and the second is the value //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Properties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props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 = new Properties()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props.put("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java.security.policy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",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"/home/rmi_tutorial/activation/policy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")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ActivationGroupDesc.CommandEnvironment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ace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 = null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ActivationGroupDesc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exampleGroup = new ActivationGroupDesc(props, ace);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Once the ActivationGroupDesc has been created, register it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with the activation system to obtain its ID //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ActivationGroupID agi =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ActivationGroup.getSystem().registerGroup(exampleGroup)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The "location" String specifies a URL from where the clas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definition will come when this object is requested (activated). //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Don't forget the trailing slash at the end of the UR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or your classes won't be found. //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String location = "file:/home/rmi_tutorial/activation/"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870408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public class Setup {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…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Create the rest of the parameters that will be passed to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he ActivationDesc constructor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MarshalledObject data = null;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he location argument to the ActivationDesc constructor will be used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o uniquely identify this class; it's location is relative to th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URL-formatted String, location.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ActivationDesc desc = new ActivationDesc (agi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"examples.activation.ActivatableImplementation"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location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data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// MyRemoteInterfaceImpl mri = new MyRemoteInterfaceImpl()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// the above line is replaced with the following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Register with rmid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MyRemoteInterface mri = (MyRemoteInterface)Activatable.register(desc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System.out.println("Got the stub for the ActivatableImplementation"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Bind the stub to a name in the registry running on 1099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Naming.rebind("ActivatableImplementation", mri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System.out.println("Exported ActivatableImplementation"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System.exit(0); } }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3933720"/>
            <a:ext cx="4824360" cy="71928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333399"/>
                </a:solidFill>
                <a:latin typeface="Tahoma"/>
              </a:rPr>
              <a:t>Activating an object that does not extend java.rmi.activation.Activatabl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Creating the implementation class</a:t>
            </a:r>
            <a:r>
              <a:rPr b="0" lang="fr-CA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ahoma"/>
              </a:rPr>
              <a:t>Step 1: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400"/>
            </a:br>
            <a:r>
              <a:rPr b="1" lang="fr-CA" sz="1400" spc="-1" strike="noStrike">
                <a:solidFill>
                  <a:srgbClr val="000000"/>
                </a:solidFill>
                <a:latin typeface="Tahoma"/>
              </a:rPr>
              <a:t>Make the appropriate imports in the implementation class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import java.rmi.*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import java.rmi.activation.*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ahoma"/>
              </a:rPr>
              <a:t>Step 2: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400"/>
            </a:br>
            <a:r>
              <a:rPr b="1" lang="fr-CA" sz="1400" spc="-1" strike="noStrike">
                <a:solidFill>
                  <a:srgbClr val="000000"/>
                </a:solidFill>
                <a:latin typeface="Tahoma"/>
              </a:rPr>
              <a:t>Modify the class declaration so that the class implements an interface that extends from java.rmi.Remote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public class MyClass implements examples.activation.AnotherRemoteInterface {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ahoma"/>
              </a:rPr>
              <a:t>Step 3: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400"/>
            </a:br>
            <a:r>
              <a:rPr b="1" lang="fr-CA" sz="1400" spc="-1" strike="noStrike">
                <a:solidFill>
                  <a:srgbClr val="000000"/>
                </a:solidFill>
                <a:latin typeface="Tahoma"/>
              </a:rPr>
              <a:t>Add a new two-argument constructor to the implementation class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public </a:t>
            </a: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MyClass(ActivationID id, MarshalledObject data)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 throws RemoteExcep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// Register the object with the activation system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// then export it on an anonymous port //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Activatable.exportObject(this, id, 0);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 }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333399"/>
                </a:solidFill>
                <a:latin typeface="Tahoma"/>
              </a:rPr>
              <a:t>Creating the "setup" class</a:t>
            </a: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Identique au code précéd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333399"/>
                </a:solidFill>
                <a:latin typeface="Tahoma"/>
              </a:rPr>
              <a:t>Using a MarshalledObject to create persistent data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Ste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Creating the class implementing the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Creating a setup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Compiling and execu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9640" y="436320"/>
            <a:ext cx="8415360" cy="58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he setup class, examples.activation.Setup4, </a:t>
            </a: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does two new things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It constructs a java.util.Properties object t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ahoma"/>
              </a:rPr>
              <a:t>pass the location of the java.security.properties file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to the constructor of an ActivationGroupDescriptor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which in turn, gets passed to the constructor of the ActivationDesc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It uses the </a:t>
            </a:r>
            <a:r>
              <a:rPr b="1" lang="fr-CA" sz="1600" spc="-1" strike="noStrike">
                <a:solidFill>
                  <a:srgbClr val="000000"/>
                </a:solidFill>
                <a:latin typeface="Tahoma"/>
              </a:rPr>
              <a:t>MarshalledObject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that it passes to the ActivationDesc constructor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to store a java.io.File object that represents the location of the persistent data storage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In this example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1" lang="fr-CA" sz="1600" spc="-1" strike="noStrike">
                <a:solidFill>
                  <a:srgbClr val="000000"/>
                </a:solidFill>
                <a:latin typeface="Tahoma"/>
              </a:rPr>
              <a:t>persistentObjectStore.ser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file exists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the activatable object implementation is initialized with the persistent data from the fil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Otherwise, if the file does not exist, the activatable object initializes itself as though this is the first time a client has tried to send dat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he client program, examples.activation.Client4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passes a vector of transaction-like data to the activatable object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and that data is added to the implementation object's vecto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Each time a client calls the implementation (to add more transaction data)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the activatable implementation stores its state (writes the vector) out to the file specified by the MarshalledObject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333399"/>
                </a:solidFill>
                <a:latin typeface="Tahoma"/>
              </a:rPr>
              <a:t>Creating the implementation class</a:t>
            </a: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Step 1: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Make the appropriate imports in the implementation class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import java.io.*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import java.rmi.*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import java.rmi.activation.*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import java.util.Vector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Step 2: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Extend your class from java.rmi.activation.Activatable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public class MyPersistentClass extends Activatabl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implements examples.activation.YetAnotherRemoteInterface {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Tahoma"/>
              </a:rPr>
              <a:t>Step 3:</a:t>
            </a:r>
            <a:r>
              <a:rPr b="0" lang="fr-CA" sz="28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800"/>
            </a:br>
            <a:r>
              <a:rPr b="1" lang="fr-CA" sz="2800" spc="-1" strike="noStrike">
                <a:solidFill>
                  <a:srgbClr val="333399"/>
                </a:solidFill>
                <a:latin typeface="Tahoma"/>
              </a:rPr>
              <a:t>Declare a two-argument constructor in the implementation class</a:t>
            </a:r>
            <a:r>
              <a:rPr b="0" lang="fr-CA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private Vector transactions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private File holder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public MyPersistentClass(ActivationID id, MarshalledObject data) 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throws RemoteException, ClassNotFoundException, java.io.IOException {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Register the object with the activation system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hen export it on an anonymous por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super(id, 0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Extract the File object from the MarshalledObject that was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passed to the constructor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holder = (File)data.get(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if (holder.exists()) {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Use the MarshalledObject to restore my state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this.restoreState(); }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else {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transactions = new Vector(1,1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transactions.addElement("Initializing transaction vector"); } }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333399"/>
                </a:solidFill>
                <a:latin typeface="Tahoma"/>
              </a:rPr>
              <a:t>Step 4:</a:t>
            </a:r>
            <a:r>
              <a:rPr b="0" lang="fr-CA" sz="2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000"/>
            </a:br>
            <a:r>
              <a:rPr b="1" lang="fr-CA" sz="2000" spc="-1" strike="noStrike">
                <a:solidFill>
                  <a:srgbClr val="333399"/>
                </a:solidFill>
                <a:latin typeface="Tahoma"/>
              </a:rPr>
              <a:t>Write the methods that use the MarshalledObject, to save and restore the object's data state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If the MarshalledObject that was passed to the constructor was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a file, then use it to recover the vector of transaction data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private void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restoreState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(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throws IOException, ClassNotFoundExcep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File f = holder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FileInputStream fis = new FileInputStream(f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ObjectInputStream ois = new ObjectInputStream(fis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transactions = (Vector)ois.readObject(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ois.close(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private void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saveState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(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File f = holder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FileOutputStream fos = new FileOutputStream(f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ObjectOutputStream oos = new ObjectOutputStream(fos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oos.writeObject(getTransactions()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oos.close(); }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catch (Exception e) { throw new RuntimeException("Error saving vector of data"); } }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333399"/>
                </a:solidFill>
                <a:latin typeface="Tahoma"/>
              </a:rPr>
              <a:t>Step 5:</a:t>
            </a:r>
            <a:r>
              <a:rPr b="0" lang="fr-CA" sz="2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400"/>
            </a:br>
            <a:r>
              <a:rPr b="1" lang="fr-CA" sz="2400" spc="-1" strike="noStrike">
                <a:solidFill>
                  <a:srgbClr val="333399"/>
                </a:solidFill>
                <a:latin typeface="Tahoma"/>
              </a:rPr>
              <a:t>Implement the remote interface method(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877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Add each of the vector elements passed from the client to the object instance and save the updated vector out to a fil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public Vector calltheServer(Vector v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throws RemoteExcepti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{ int limit = v.size(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for (int i = 0; i &lt; limit; i++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{ transactions.addElement(v.elementAt(i)); }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// Save this object's data out to file //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this.saveState(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return transactions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333399"/>
                </a:solidFill>
                <a:latin typeface="Tahoma"/>
              </a:rPr>
              <a:t>Creating the "setup" class</a:t>
            </a: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Step 1:</a:t>
            </a: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Make the appropriate imports in the setup class</a:t>
            </a: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import java.io.File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import java.rmi.*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import java.rmi.activation.*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import java.util.Properties;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Step 2:</a:t>
            </a: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Install a SecurityManager</a:t>
            </a: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System.setSecurityManager(new RMISecurityManager());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Step 3:</a:t>
            </a:r>
            <a:r>
              <a:rPr b="0" lang="fr-CA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Create an ActivationGroup instance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Because of the Java 2 security model, a security policy should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be specified for the ActivationGroup VM. The first argum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o the Properties put method, inherited from Hashtable, is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he key and the second is the value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Properties props = new Properties(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props.put("java.security.policy", "/home/rmi_tutorial/activation/policy"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ActivationGroupDesc.CommandEnvironment ace = null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ActivationGroupDesc exampleGroup = new ActivationGroupDesc(props, ace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Once the ActivationGroupDesc has been created, register i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with the activation system to obtain its ID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ActivationGroupID agi =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ActivationGroup.getSystem().registerGroup(exampleGroup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Step 4:</a:t>
            </a:r>
            <a:r>
              <a:rPr b="0" lang="fr-CA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Create an ActivationDesc instance</a:t>
            </a:r>
            <a:r>
              <a:rPr b="0" lang="fr-CA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In the setup application, the job of the activation descriptor is to provide all the information that rmid will require to create a new instance of the implementation class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String location = "file:/home/rmi_tutorial/activation/"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Pass the file that we want to persist to as the Marshalled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objec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MarshalledObject data =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new MarshalledObject (new File( 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"/home/rmi_tutorial/activation/persistentObjectStore.ser")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he location argument to the ActivationDesc constructor will be used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o uniquely identify this class; it's location is relative to th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URL-formatted String, location.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ActivationDesc desc = new ActivationDesc (agi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"examples.activation.ActivatableImplementation"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location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data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Tahoma"/>
              </a:rPr>
              <a:t>Step 5: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1" lang="fr-CA" sz="1600" spc="-1" strike="noStrike">
                <a:solidFill>
                  <a:srgbClr val="000000"/>
                </a:solidFill>
                <a:latin typeface="Tahoma"/>
              </a:rPr>
              <a:t>Declare an instance of your remote interface and register the activation descriptor with  rmid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YetAnotherRemoteInterface yari =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(YetAnotherRemoteInterface)Activatable.register(desc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System.out.println("Got the stub for MyPersistentClass");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Tahoma"/>
              </a:rPr>
              <a:t>Step 6: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1" lang="fr-CA" sz="1600" spc="-1" strike="noStrike">
                <a:solidFill>
                  <a:srgbClr val="000000"/>
                </a:solidFill>
                <a:latin typeface="Tahoma"/>
              </a:rPr>
              <a:t>Bind the stub, that was returned by the Activatable.register method, to a name in the rmiregistry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Naming.rebind("MyPersistentClass", yari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System.out.println("Exported MyPersistentClass");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Tahoma"/>
              </a:rPr>
              <a:t>Step 7: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1" lang="fr-CA" sz="1600" spc="-1" strike="noStrike">
                <a:solidFill>
                  <a:srgbClr val="000000"/>
                </a:solidFill>
                <a:latin typeface="Tahoma"/>
              </a:rPr>
              <a:t>Quit the setup application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System.exit(0)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Réfé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java.sun.com/j2se/1.3/docs/guide/rmi/activation/activation.1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http://java.sun.com/j2se/1.3/docs/guide/rmi/activation/activation.2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http://java.sun.com/j2se/1.3/docs/guide/rmi/activation/activation.3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http://java.sun.com/j2se/1.3/docs/guide/rmi/activation/activation.4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Tahoma"/>
              </a:rPr>
              <a:t>Classes and Interfa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Client.java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he class which will invoke a method on an activatable objec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MyRemoteInterface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.java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he interface that extends java.rmi.Remote, implemented by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ActivatableImplementation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.java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he class which will be activate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Setup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.java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he class which registers information about the activatable class with the RMI registry and the RMI daem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631000" cy="572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import java.rmi.*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import java.rmi.activation.*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public class ActivatableImplementation extends Activatable implements examples.activation.MyRemoteInterfa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// The constructor for activation and export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// this constructor is called by the method ActivationInstantiator.newInstan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// during activation, to construct the objec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public ActivatableImplementation(  ActivationID id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MarshalledObject data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throws RemoteExcepti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// Register the object with the activation system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// then export it on an anonymous port //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super(id, 0); }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// Implement the method declared in MyRemoteInterface //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public Object callMeRemotely() throws RemoteExcepti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{ return "Success"; }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5148360" y="1341360"/>
            <a:ext cx="2376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502080"/>
            <a:ext cx="316872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4726080"/>
            <a:ext cx="21589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8920" y="104400"/>
            <a:ext cx="8713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import java.rmi.*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import java.rmi.activation.*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import java.util.Properties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public class Setup {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This class registers information about the ActivatableImplementa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class with rmid and the rmiregistry //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public static void main(String[] args) throws Excep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System.setSecurityManager(new RMISecurityManager());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Because of the 1.2 security model, a security policy should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be specified for the ActivationGroup VM. The first argument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to the Properties put method, inherited from Hashtable, i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the key and the second is the value //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Properties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props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 = new Properties()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props.put("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java.security.policy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",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"/home/rmi_tutorial/activation/policy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")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ActivationGroupDesc.CommandEnvironment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ace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 = null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ActivationGroupDesc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exampleGroup = new ActivationGroupDesc(props, ace);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Once the ActivationGroupDesc has been created, register it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with the activation system to obtain its ID //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ActivationGroupID agi =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ActivationGroup.getSystem().registerGroup(exampleGroup)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The "location" String specifies a URL from where the clas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definition will come when this object is requested (activated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Don't forget the trailing slash at the end of the UR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or your classes won't be found. //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location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 = "file:/home/rmi_tutorial/activation/"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870408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public class Setup {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…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Create the rest of the parameters that will be passed to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he ActivationDesc constructor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MarshalledObject data = null;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he location argument to the ActivationDesc constructor will be used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o uniquely identify this class; it's location is relative to th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URL-formatted String, location.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ActivationDesc desc = new ActivationDesc (agi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"examples.activation.ActivatableImplementation"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location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data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Register with rmid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MyRemoteInterface mri = (MyRemoteInterface)Activatable.register(desc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System.out.println("Got the stub for the ActivatableImplementation"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Bind the stub to a name in the registry running on 1099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Naming.rebind("ActivatableImplementation", mri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System.out.println("Exported ActivatableImplementation"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System.exit(0); } }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Activation Group Descrip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877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the job of the activation group descripto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o provide all the informati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hat rmid will require to contact the appropriate existing JVM or spawn a new JVM for the activatable objec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he activator spawns, as needed, </a:t>
            </a:r>
            <a:r>
              <a:rPr b="0" lang="fr-CA" sz="1800" spc="-1" strike="noStrike" u="sng">
                <a:solidFill>
                  <a:srgbClr val="000000"/>
                </a:solidFill>
                <a:uFillTx/>
                <a:latin typeface="Tahoma"/>
              </a:rPr>
              <a:t>a separate VM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 (as a child process, for example) </a:t>
            </a:r>
            <a:r>
              <a:rPr b="0" lang="fr-CA" sz="1800" spc="-1" strike="noStrike" u="sng">
                <a:solidFill>
                  <a:srgbClr val="000000"/>
                </a:solidFill>
                <a:uFillTx/>
                <a:latin typeface="Tahoma"/>
              </a:rPr>
              <a:t>for each registered activation group and directs activation requests to the appropriate group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ActivationGroupDesc.CommandEnvironment 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ace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= null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ActivationGroupDesc 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exampleGroup = 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new ActivationGroupDesc(props, ace);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// Once the ActivationGroupDesc has been created, register i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// with the activation system to obtain its ID //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ActivationGroupID agi = 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ActivationGroup.getSystem().registerGroup(exampleGroup)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Activation Descrip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84700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The job of the activation descriptor is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to provide all the inform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that rmid will require to </a:t>
            </a:r>
            <a:r>
              <a:rPr b="1" lang="fr-CA" sz="1400" spc="-1" strike="noStrike">
                <a:solidFill>
                  <a:srgbClr val="000000"/>
                </a:solidFill>
                <a:latin typeface="Tahoma"/>
              </a:rPr>
              <a:t>create a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CA" sz="1400" spc="-1" strike="noStrike">
                <a:solidFill>
                  <a:srgbClr val="000000"/>
                </a:solidFill>
                <a:latin typeface="Tahoma"/>
              </a:rPr>
              <a:t>new instance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of the implementation class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he "location" String specifies a URL from where the class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definition will come when this object is requested (activated)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Don't forget the trailing slash at the end of the UR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or your classes won't be found.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location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 = "file:/home/rmi_tutorial/activation/"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Create the rest of the parameters that will be passed to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he ActivationDesc constructor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MarshalledObject data = null;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he location argument to the ActivationDesc constructor will be used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o uniquely identify this class; it's location is relative to th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URL-formatted String, location.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ActivationDesc desc = new ActivationDesc (agi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"examples.activation.ActivatableImplementation"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location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data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Register with rmid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MyRemoteInterface mri = (MyRemoteInterface)Activatable.register(desc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04:21:06Z</dcterms:created>
  <dc:creator>Sylvain Giroux</dc:creator>
  <dc:description/>
  <dc:language>en-US</dc:language>
  <cp:lastModifiedBy>om om</cp:lastModifiedBy>
  <cp:lastPrinted>2009-04-22T19:24:48Z</cp:lastPrinted>
  <dcterms:modified xsi:type="dcterms:W3CDTF">2005-10-18T13:03:23Z</dcterms:modified>
  <cp:revision>56</cp:revision>
  <dc:subject/>
  <dc:title>Services activab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