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95B-3F39-496E-8E0B-6A4A0DAC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190-7D7A-4D6E-AA12-1876D64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0FC-3D79-4851-B25C-79554366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857-06DA-42ED-B6A3-1C0DABB6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F65-16E9-4B7E-9206-9194D73D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AFA-8C14-4B04-972E-C38D8654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B729-AE21-46B2-B96C-3B820EC5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5D65-B785-44CA-87AE-4B49CD61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0DB-BE6A-493F-945D-7E3AB53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265-4EB6-489F-AC67-17C8D58F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743E-4EFC-4C88-9A5A-424E5BBC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5DA-E19C-4A77-8377-2251CAF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4EE-437F-417E-AFE5-9492B2A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1E8-7F48-4F33-A6FC-9040EEE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B5B6-06E9-4266-AA07-6397A79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570-5AC2-4DE4-B697-82AFB58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3F46-9E23-4475-886B-9DC928E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6B8-11BB-4A63-A111-A1BB52F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83E-F033-4622-B5E0-64AB786B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F75-F8F1-460B-9BFD-543E3F3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C6E-2235-4F87-805E-81C8AE28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DF3-B14B-4C15-9C71-FF6C4FAC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863-6924-4673-B48D-BCF9CD5D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435-7738-439D-865F-407F628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EA61-E0E0-4CD8-A245-1415472550D8}" type="slidenum">
              <a:rPr b="0" lang="fr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67D4-67B4-4EA6-83F4-43A1602F1871}" type="slidenum">
              <a:rPr b="0" lang="fr-C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tooldocs/solaris/rmid.html" TargetMode="External"/><Relationship Id="rId2" Type="http://schemas.openxmlformats.org/officeDocument/2006/relationships/hyperlink" Target="http://java.sun.com/j2se/1.3/docs/tooldocs/solaris/rmid.html" TargetMode="External"/><Relationship Id="rId3" Type="http://schemas.openxmlformats.org/officeDocument/2006/relationships/hyperlink" Target="http://java.sun.com/j2se/1.3/docs/tooldocs/solaris/rmid.html" TargetMode="External"/><Relationship Id="rId4" Type="http://schemas.openxmlformats.org/officeDocument/2006/relationships/hyperlink" Target="http://java.sun.com/j2se/1.3/docs/tooldocs/solaris/rmid.html" TargetMode="External"/><Relationship Id="rId5" Type="http://schemas.openxmlformats.org/officeDocument/2006/relationships/hyperlink" Target="http://java.sun.com/j2se/1.3/docs/tooldocs/solaris/rmid.html" TargetMode="External"/><Relationship Id="rId6" Type="http://schemas.openxmlformats.org/officeDocument/2006/relationships/hyperlink" Target="http://java.sun.com/j2se/1.3/docs/tooldocs/solaris/rmid.html" TargetMode="External"/><Relationship Id="rId7" Type="http://schemas.openxmlformats.org/officeDocument/2006/relationships/hyperlink" Target="http://java.sun.com/j2se/1.3/docs/tooldocs/solaris/rmid.html" TargetMode="External"/><Relationship Id="rId8" Type="http://schemas.openxmlformats.org/officeDocument/2006/relationships/hyperlink" Target="http://java.sun.com/j2se/1.3/docs/tooldocs/solaris/rmid.html" TargetMode="External"/><Relationship Id="rId9" Type="http://schemas.openxmlformats.org/officeDocument/2006/relationships/hyperlink" Target="http://java.sun.com/j2se/1.3/docs/tooldocs/solaris/rmid.html" TargetMode="External"/><Relationship Id="rId10" Type="http://schemas.openxmlformats.org/officeDocument/2006/relationships/hyperlink" Target="http://java.sun.com/j2se/1.3/docs/tooldocs/solaris/rmid.html" TargetMode="External"/><Relationship Id="rId11" Type="http://schemas.openxmlformats.org/officeDocument/2006/relationships/hyperlink" Target="http://java.sun.com/j2se/1.3/docs/tooldocs/solaris/rmid.html" TargetMode="External"/><Relationship Id="rId12" Type="http://schemas.openxmlformats.org/officeDocument/2006/relationships/hyperlink" Target="http://java.sun.com/j2se/1.3/docs/tooldocs/win32/rmid.html" TargetMode="External"/><Relationship Id="rId13" Type="http://schemas.openxmlformats.org/officeDocument/2006/relationships/hyperlink" Target="http://java.sun.com/j2se/1.3/docs/tooldocs/win32/rmid.html" TargetMode="External"/><Relationship Id="rId14" Type="http://schemas.openxmlformats.org/officeDocument/2006/relationships/hyperlink" Target="http://java.sun.com/j2se/1.3/docs/tooldocs/win32/rmid.html" TargetMode="External"/><Relationship Id="rId15" Type="http://schemas.openxmlformats.org/officeDocument/2006/relationships/hyperlink" Target="http://java.sun.com/j2se/1.3/docs/tooldocs/win32/rmid.html" TargetMode="External"/><Relationship Id="rId16" Type="http://schemas.openxmlformats.org/officeDocument/2006/relationships/hyperlink" Target="http://java.sun.com/j2se/1.3/docs/tooldocs/win32/rmid.html" TargetMode="External"/><Relationship Id="rId17" Type="http://schemas.openxmlformats.org/officeDocument/2006/relationships/hyperlink" Target="http://java.sun.com/j2se/1.3/docs/tooldocs/win32/rmid.html" TargetMode="External"/><Relationship Id="rId18" Type="http://schemas.openxmlformats.org/officeDocument/2006/relationships/hyperlink" Target="http://java.sun.com/j2se/1.3/docs/tooldocs/win32/rmid.html" TargetMode="External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#registryNote" TargetMode="External"/><Relationship Id="rId2" Type="http://schemas.openxmlformats.org/officeDocument/2006/relationships/hyperlink" Target="http://java.sun.com/j2se/1.3/docs/guide/rmi/activation/activation.1.html#registryNote" TargetMode="External"/><Relationship Id="rId3" Type="http://schemas.openxmlformats.org/officeDocument/2006/relationships/hyperlink" Target="http://java.sun.com/j2se/1.3/docs/guide/rmi/activation/activation.1.html#registryNote" TargetMode="External"/><Relationship Id="rId4" Type="http://schemas.openxmlformats.org/officeDocument/2006/relationships/hyperlink" Target="http://java.sun.com/j2se/1.3/docs/guide/rmi/activation/activation.1.html#registryNote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activation.1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ava.sun.com/j2se/1.3/docs/guide/rmi/activation/code/Client.java" TargetMode="External"/><Relationship Id="rId2" Type="http://schemas.openxmlformats.org/officeDocument/2006/relationships/hyperlink" Target="http://java.sun.com/j2se/1.3/docs/guide/rmi/activation/code/MyRemoteInterface.java" TargetMode="External"/><Relationship Id="rId3" Type="http://schemas.openxmlformats.org/officeDocument/2006/relationships/hyperlink" Target="http://java.sun.com/j2se/1.3/docs/guide/rmi/activation/code/MyRemoteInterface.java" TargetMode="External"/><Relationship Id="rId4" Type="http://schemas.openxmlformats.org/officeDocument/2006/relationships/hyperlink" Target="http://java.sun.com/j2se/1.3/docs/guide/rmi/activation/code/ActivatableImplementation.java" TargetMode="External"/><Relationship Id="rId5" Type="http://schemas.openxmlformats.org/officeDocument/2006/relationships/hyperlink" Target="http://java.sun.com/j2se/1.3/docs/guide/rmi/activation/code/ActivatableImplementation.java" TargetMode="External"/><Relationship Id="rId6" Type="http://schemas.openxmlformats.org/officeDocument/2006/relationships/hyperlink" Target="http://java.sun.com/j2se/1.3/docs/guide/rmi/activation/code/Setup.java" TargetMode="External"/><Relationship Id="rId7" Type="http://schemas.openxmlformats.org/officeDocument/2006/relationships/hyperlink" Target="http://java.sun.com/j2se/1.3/docs/guide/rmi/activation/code/Setup.java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ble Servi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333399"/>
                </a:solidFill>
                <a:latin typeface="Tahoma"/>
              </a:rPr>
              <a:t>Note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ahoma"/>
              </a:rPr>
              <a:t>the policy file location to b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Tahoma"/>
              </a:rPr>
              <a:t>the absolute path to where you've installed the example policy file that came with the source code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Compilation and Exec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Compile the remote interface, implementation, client and setup classe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MyRemoteInterface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ActivatableImplementation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Client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javac -d . Setup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Run rmic on the implementation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c -d . examples.activation.ActivatableImplemen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rmiregist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% rmiregistry 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Before you start the rmiregistry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you must make sure that the shell or window in which you will run the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egistry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, either h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no CLASSPATH s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or has a CLASSPATH that does not include the path to any classes that you want downloaded to your client, including the stubs for your remote object implementation classes.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If you start the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miregistry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, and it 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 find your stub classes in its CLASSPATH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it will ignore the server's 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.rmi.server.codebase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 property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and as a result, your client(s) will not be able to download the stub code for your remote object.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art the activation daemon, rmid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% rmid -J-Djava.security.policy=rmid.policy &a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re rmid.policy is the name of the security policy file for rmi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Note: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By default, rmid now requires a security policy file, that is used to verify whether or not the information in each ActivationGroupDescriptor is allowed to be used to launch a JVM for an activation gro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For complete details, please refer to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Solaris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operating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environment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rmid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ma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 page for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th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 Microsoft Windows 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platform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setup program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Run the setup, setting the codebase property to be the location of the implementation stub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% java 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security.policy=/home/rmi_tutorial/activation/policy 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-Djava.rmi.server.codebase=file:/home/rmi_tutorial/activation/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examples.activation.Setu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codebase property will be resolved to a URL, so it must have the form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http://aHost/somesource/" 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myDirectory/location/" 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"file:///myDirectory/location/" (three slashes after the "file:"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Please note that each of these sample URL strings has a trailing "/"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server output should look like thi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Got the stub for the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Exported Activatable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If you forget the trailing slash on the propert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the class files can't be located at the source (they aren't really being made available for downloa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or if you misspell the property nam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you'll get thrown a </a:t>
            </a:r>
            <a:r>
              <a:rPr b="1" lang="fr-CA" sz="2000" spc="-1" strike="noStrike">
                <a:solidFill>
                  <a:srgbClr val="000000"/>
                </a:solidFill>
                <a:latin typeface="Tahoma"/>
              </a:rPr>
              <a:t>java.lang.ClassNotFoundException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is exception will be th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when you try to bind your remote object to the rmiregist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or when the first client attempts to access that object's stub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f the latter case occu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you have another problem as well because the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miregistry was finding the stub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in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its </a:t>
            </a:r>
            <a:r>
              <a:rPr b="0" lang="fr-CA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CLASSPATH.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6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Run the cli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argument to the examples.activation.Client program is the hostname of the implementation server, in this case, "vector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% java -Djava.security.policy=/home/rmi_tutorial/activation/policy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s.activation.Cli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vector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client output should look like th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Got a remote reference to the object that extends Activa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Making remote call to the server Returned from remote ca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esult: Succes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Policy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re is by defaul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 single system-wide policy fi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nd a single user policy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system policy file is by default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polic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polic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refers to the value of the system property named "java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directory that houses the runtime environ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ither the jre directory in the Java 2 SDK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r the top-level directory of the Java 2 Runtime Environm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User policy 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he user policy file is by default located 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/.java.policy (Solari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\.java.policy (Window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Note: </a:t>
            </a:r>
            <a:r>
              <a:rPr b="0" i="1" lang="fr-CA" sz="2000" spc="-1" strike="noStrike">
                <a:solidFill>
                  <a:srgbClr val="000000"/>
                </a:solidFill>
                <a:latin typeface="Tahoma"/>
              </a:rPr>
              <a:t>user.home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refers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value of the system property named "user.home"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ich specifies the user's home director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On Windows systems, given user nam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uNa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, the "user.home" property value defaults 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C:\Winnt\Profiles\uName on multi-user Windows NT systems C:\Windows\Profiles\uName on multi-user Windows 95 systems C:\Windows on single-user Windows 95 system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333399"/>
                </a:solidFill>
                <a:latin typeface="Tahoma"/>
              </a:rPr>
              <a:t>UnicastRemoteObject vs Activatab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An instance of UnicastRemoteObject may be accessed on a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1) creating an instance of the remote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(2) continuously execu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java.rmi.activation.Activatable + RMI daemon, rm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Develop applications based on remote objects to be executed on dema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RMI daemon, rmid, provides a virtual machine from which other can be launch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Policy file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Policy file locations are specified in the security properties file, which is located 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/lib/security/java.security (Solari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hom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\lib\security\java.security (Window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policy file locations are specified as the values of proper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whose names are of the form policy.url.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is a numb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For example, the default system and user policy files are defined in the security properties file 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1=file:${java.home}/lib/security/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olicy.url.2=file:${user.home}/.java.polic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pecifying an Additional Policy File at Runtim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It is also possible to specify an additional or a different policy file when invoking execution of an applic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is can be done via the "-Djava.security.policy" command line argument, which sets the value of the </a:t>
            </a:r>
            <a:r>
              <a:rPr b="0" i="1" lang="fr-CA" sz="1800" spc="-1" strike="noStrike">
                <a:solidFill>
                  <a:srgbClr val="000000"/>
                </a:solidFill>
                <a:latin typeface="Tahoma"/>
              </a:rPr>
              <a:t>java.security.policy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proper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java -Djava.security.manager -Djava.security.policy=</a:t>
            </a:r>
            <a:r>
              <a:rPr b="0" i="1" lang="fr-CA" sz="16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SomeAp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fr-CA" sz="1400" spc="-1" strike="noStrike">
                <a:solidFill>
                  <a:srgbClr val="000000"/>
                </a:solidFill>
                <a:latin typeface="Tahoma"/>
              </a:rPr>
              <a:t>someURL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is a URL specifying the location of a policy file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n the specified policy file will be loaded in addition to all the policy files that are specified in the security properties fi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Making a UnicastRemoteObject 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change an existing class from being a subclass of UnicastRemoteObj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being a sub-class of java.rmi.activation.Activa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9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odify the class declaration so that the class now extends from java.rmi.activation.Activatable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public class MyRemoteInterfaceImpl extends Activatabl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implements examples.activation.MyRemoteInterfac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Remove or comment out the old no-argument constructor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public MyRemoteInterfaceImpl() throws RemoteExcep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// { //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Step 4: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200"/>
            </a:b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Declare a two-argument constructor in the implementation class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public MyRemoteInterfaceImpl(ActivationID id, MarshalledObject data)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Tahoma"/>
              </a:rPr>
              <a:t>super(id, 0); }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MyRemoteInterfaceImpl mri = new MyRemoteInterfaceImpl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 above line is replaced with the following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933720"/>
            <a:ext cx="4824360" cy="719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Activating an object that does not extend java.rmi.activation.Activatab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Modify the class declaration so that the class implements an interface that extends from java.rmi.Remot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class MyClass implements examples.activation.AnotherRemoteInterface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Step 3: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Add a new two-argument constructor to the implementation class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MyClass(ActivationID id, MarshalledObject data)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throws Remote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Register the object with the activation syst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// then export it on an anonymous port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Tahoma"/>
              </a:rPr>
              <a:t>Activatable.exportObject(this, id, 0);</a:t>
            </a:r>
            <a:r>
              <a:rPr b="0" lang="fr-CA" sz="1200" spc="-1" strike="noStrike">
                <a:solidFill>
                  <a:srgbClr val="000000"/>
                </a:solidFill>
                <a:latin typeface="Tahoma"/>
              </a:rPr>
              <a:t> }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Identique au code précé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3399"/>
                </a:solidFill>
                <a:latin typeface="Tahoma"/>
              </a:rPr>
              <a:t>Using a MarshalledObject to create persistent dat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the class implementing the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reating a setup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mpiling and exec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436320"/>
            <a:ext cx="8415360" cy="58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setup class, examples.activation.Setup4, </a:t>
            </a: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does two new thing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constructs a java.util.Properties object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pass the location of the java.security.properties fil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to the constructor of an ActivationGroupDescrip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which in turn, gets passed to the constructor of the ActivationDesc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t uses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MarshalledObject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it passes to the ActivationDesc constructor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store a java.io.File object that represents the location of the persistent data storag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In this exampl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persistentObjectStore.ser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file exist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the activatable object implementation is initialized with the persistent data from the fil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Otherwise, if the file does not exist, the activatable object initializes itself as though this is the first time a client has tried to send dat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ient program, examples.activation.Client4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passes a vector of transaction-like data to the activatable object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and that data is added to the implementation object's vecto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Each time a client calls the implementation (to add more transaction data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activatable implementation stores its state (writes the vector) out to the file specified by the MarshalledObject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implementation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Make the appropriate imports in the implementation class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import java.util.Vector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Tahoma"/>
              </a:rPr>
              <a:t>Extend your class from java.rmi.activation.Activatable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class MyPersistentClass extends Activatab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implements examples.activation.YetAnotherRemoteInterface {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1" lang="fr-CA" sz="2800" spc="-1" strike="noStrike">
                <a:solidFill>
                  <a:srgbClr val="333399"/>
                </a:solidFill>
                <a:latin typeface="Tahoma"/>
              </a:rPr>
              <a:t>Declare a two-argument constructor in the implementation class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ector transactions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File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MyPersistentClass(ActivationID id, MarshalledObject data)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RemoteException, ClassNotFoundException, java.io.IOException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n export it on an anonymous por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uper(id, 0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Extract the File object from the MarshalledObject that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ed to the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holder = (File)data.ge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if (holder.exists())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se the MarshalledObject to restore my stat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is.restoreStat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new Vector(1,1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.addElement("Initializing transaction vector"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2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000"/>
            </a:br>
            <a:r>
              <a:rPr b="1" lang="fr-CA" sz="2000" spc="-1" strike="noStrike">
                <a:solidFill>
                  <a:srgbClr val="333399"/>
                </a:solidFill>
                <a:latin typeface="Tahoma"/>
              </a:rPr>
              <a:t>Write the methods that use the MarshalledObject, to save and restore the object's data stat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If the MarshalledObject that was passed to the constructor wa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a file, then use it to recover the vector of transaction data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restor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hrows IOException, ClassNotFoundExcep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InputStream fis = new FileInputStream(f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InputStream ois = new ObjectInputStream(fi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ansactions = (Vector)ois.readObject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is.close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saveState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(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 f = hold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FileOutputStream fos = new FileOutputStream(f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bjectOutputStream oos = new ObjectOutputStream(fos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writeObject(getTransactions(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oos.close();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catch (Exception e) { throw new RuntimeException("Error saving vector of data"); } }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Step 5:</a:t>
            </a:r>
            <a:r>
              <a:rPr b="0" lang="fr-CA" sz="2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333399"/>
                </a:solidFill>
                <a:latin typeface="Tahoma"/>
              </a:rPr>
              <a:t>Implement the remote interface method(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Add each of the vector elements passed from the client to the object instance and save the updated vector out to a fil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public Vector calltheServer(Vector v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int limit = v.siz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for (int i = 0; i &lt; limit; i++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{ transactions.addElement(v.elementAt(i));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// Save this object's data out to file /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this.saveState(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return transactions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333399"/>
                </a:solidFill>
                <a:latin typeface="Tahoma"/>
              </a:rPr>
              <a:t>Creating the "setup" class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1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Make the appropriate imports in the setup class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io.Fil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import java.util.Properties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ep 2: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Install a SecurityManager</a:t>
            </a: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3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Group instanc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cause of the Java 2 security model, a security policy shoul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erties props = new Properties(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rops.put("java.security.policy", "/home/rmi_tutorial/activation/policy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.CommandEnvironment ace = null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Desc exampleGroup = new ActivationGroupDesc(props, ace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Step 4: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fr-CA" sz="3200" spc="-1" strike="noStrike">
                <a:solidFill>
                  <a:srgbClr val="333399"/>
                </a:solidFill>
                <a:latin typeface="Tahoma"/>
              </a:rPr>
              <a:t>Create an ActivationDesc instance</a:t>
            </a:r>
            <a:r>
              <a:rPr b="0" lang="fr-C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In the setup application, the job of the activation descriptor is to provide all the information that rmid will require to create a new instance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location = "file:/home/rmi_tutorial/activation/"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Pass the file that we want to persist to as the Marshall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bjec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MarshalledObject data =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new MarshalledObject (new File( 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/home/rmi_tutorial/activation/persistentObjectStore.ser")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5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Declare an instance of your remote interface and register the activation descriptor with  rmid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YetAnotherRemoteInterface yari =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(YetAnotherRemoteInterface)Activatable.register(desc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Got the stub for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6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Bind the stub, that was returned by the Activatable.register method, to a name in the rmiregistry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Naming.rebind("MyPersistentClass", yar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"Exported MyPersistentClass");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Step 7: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Quit the setup application</a:t>
            </a:r>
            <a:r>
              <a:rPr b="0" lang="fr-CA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Réfé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java.sun.com/j2se/1.3/docs/guide/rmi/activation/activation.1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2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3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http://java.sun.com/j2se/1.3/docs/guide/rmi/activation/activation.4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Classes and Interfa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lient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invoke a method on an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yRemoteInterface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interface that extends java.rmi.Remote, implemented by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ctivatableImplementation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will be activat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tup</a:t>
            </a:r>
            <a:r>
              <a:rPr b="0" lang="fr-CA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java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class which registers information about the activatable class with the RMI registry and the RMI daem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6310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class ActivatableImplementation extends Activatable implements examples.activation.MyRemoteInterfa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 constructor for activation and expor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is constructor is called by the method ActivationInstantiator.newInst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during activation, to construct the obje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ActivatableImplementation(  ActivationID id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MarshalledObject data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Register the object with the activation syste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then export it on an anonymous port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super(id, 0)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// Implement the method declared in MyRemoteInterface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public Object callMeRemotely() throws RemoteExcep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{ return "Success"; 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341360"/>
            <a:ext cx="2376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2080"/>
            <a:ext cx="31687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726080"/>
            <a:ext cx="2158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04400"/>
            <a:ext cx="87138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rmi.activation.*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import java.util.Properties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is class registers information about the ActivatableImple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class with rmid and the rmiregistry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ublic static void main(String[] args) throws Excep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System.setSecurityManager(new RMISecurityManager()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cause of the 1.2 security model, a security policy shoul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be specified for the ActivationGroup VM. The first argumen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o the Properties put method, inherited from Hashtable, 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key and the second is the value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erties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ew Properties(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props.put("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java.security.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"/home/rmi_tutorial/activation/policy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")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exampleGroup = new ActivationGroupDesc(props, ace);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2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200" spc="-1" strike="noStrike">
                <a:solidFill>
                  <a:srgbClr val="000000"/>
                </a:solidFill>
                <a:latin typeface="Courier New"/>
              </a:rPr>
              <a:t> = "file:/home/rmi_tutorial/activation/"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870408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public class Setup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Got the stub for the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Bind the stub to a name in the registry running on 1099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Naming.rebind("ActivatableImplementation", mri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out.println("Exported ActivatableImplementation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ystem.exit(0); } }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Group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the job of the activation group descrip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at rmid will require to contact the appropriate existing JVM or spawn a new JVM for the activatable obje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The activator spawns, as needed,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a separate VM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 (as a child process, for example)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Tahoma"/>
              </a:rPr>
              <a:t>for each registered activation group and directs activation requests to the appropriate group</a:t>
            </a: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.CommandEnvironment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= null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Desc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exampleGroup =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new ActivationGroupDesc(props, ace);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Once the ActivationGroupDesc has been created, register i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// with the activation system to obtain its ID /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ActivationGroupID agi =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ctivation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847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e job of the activation descriptor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o provide all the inform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that rmid will require to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create a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Tahoma"/>
              </a:rPr>
              <a:t>new instance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 of the implementation clas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"location" String specifies a URL from where the clas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efinition will come when this object is requested (activated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Don't forget the trailing slash at the end of the UR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or your classes won't be found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= "file:/home/rmi_tutorial/activation/"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Create the rest of the parameters that will be passed t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ActivationDesc constructor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arshalledObject data = null;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he location argument to the ActivationDesc constructor will be use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to uniquely identify this class; it's location is relative to th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URL-formatted String, location.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ActivationDesc desc = new ActivationDesc (agi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"examples.activation.ActivatableImplementation"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location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1400" spc="-1" strike="noStrike">
                <a:solidFill>
                  <a:srgbClr val="000000"/>
                </a:solidFill>
                <a:latin typeface="Courier New"/>
              </a:rPr>
              <a:t>// Register with rmid 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1400" spc="-1" strike="noStrike">
                <a:solidFill>
                  <a:srgbClr val="000000"/>
                </a:solidFill>
                <a:latin typeface="Courier New"/>
              </a:rPr>
              <a:t>MyRemoteInterface mri = (MyRemoteInterface)Activatable.register(desc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21:06Z</dcterms:created>
  <dc:creator>Sylvain Giroux</dc:creator>
  <dc:description/>
  <dc:language>en-US</dc:language>
  <cp:lastModifiedBy>om om</cp:lastModifiedBy>
  <cp:lastPrinted>2009-04-22T19:24:48Z</cp:lastPrinted>
  <dcterms:modified xsi:type="dcterms:W3CDTF">2005-10-18T13:03:23Z</dcterms:modified>
  <cp:revision>56</cp:revision>
  <dc:subject/>
  <dc:title>Services activ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