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6F1-086F-403A-B50A-35F993BA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F03-E1D5-4580-8D8A-7A1293D3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D47-9283-4236-9FFF-B67CB7A3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1F2-CB60-4EBE-9BF6-102B7348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0EC-2D08-4612-9A54-F1782448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8D3E-A08B-4672-803A-6A7753A9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84B-5D71-4223-9454-D4B4C5B0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4934-07CA-4A0F-BD7B-C69D542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06BC-158E-4907-BD46-8F20FA9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24B2-916B-4DC6-98E2-755A679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54F9-E905-4A72-B73B-2A4A293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407-DE21-4BD9-87C7-56B0C42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4A4D-9FEE-448B-8755-12507CCB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759A-6AF2-4201-BFB1-9FF1E65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B7BB-1532-42FF-B6F2-B94FA12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EF1C-BCA4-42CF-A7A9-2DAA2EFA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B672-BB30-43AC-9CF8-DD20AC81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374-5E98-4183-93AA-7F9BF06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C03-1EBA-42A5-A565-60E5A296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D3B-E265-4562-9ECD-59EF598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18F-E57C-4568-A6B3-ECAF3877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09D-3C09-48E6-80CA-0CEED66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E33-B6EA-4957-8D1E-C3F7274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B0A-B28A-41A1-B2E7-55F01EB9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943-5794-447E-8E72-10D9EE6C4032}" type="slidenum">
              <a:rPr b="0" lang="fr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B5BC-14F3-46FD-94CF-B04679F2111C}" type="slidenum">
              <a:rPr b="0" lang="fr-C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tooldocs/solaris/rmid.html" TargetMode="External"/><Relationship Id="rId2" Type="http://schemas.openxmlformats.org/officeDocument/2006/relationships/hyperlink" Target="http://java.sun.com/j2se/1.3/docs/tooldocs/solaris/rmid.html" TargetMode="External"/><Relationship Id="rId3" Type="http://schemas.openxmlformats.org/officeDocument/2006/relationships/hyperlink" Target="http://java.sun.com/j2se/1.3/docs/tooldocs/solaris/rmid.html" TargetMode="External"/><Relationship Id="rId4" Type="http://schemas.openxmlformats.org/officeDocument/2006/relationships/hyperlink" Target="http://java.sun.com/j2se/1.3/docs/tooldocs/solaris/rmid.html" TargetMode="External"/><Relationship Id="rId5" Type="http://schemas.openxmlformats.org/officeDocument/2006/relationships/hyperlink" Target="http://java.sun.com/j2se/1.3/docs/tooldocs/solaris/rmid.html" TargetMode="External"/><Relationship Id="rId6" Type="http://schemas.openxmlformats.org/officeDocument/2006/relationships/hyperlink" Target="http://java.sun.com/j2se/1.3/docs/tooldocs/solaris/rmid.html" TargetMode="External"/><Relationship Id="rId7" Type="http://schemas.openxmlformats.org/officeDocument/2006/relationships/hyperlink" Target="http://java.sun.com/j2se/1.3/docs/tooldocs/solaris/rmid.html" TargetMode="External"/><Relationship Id="rId8" Type="http://schemas.openxmlformats.org/officeDocument/2006/relationships/hyperlink" Target="http://java.sun.com/j2se/1.3/docs/tooldocs/solaris/rmid.html" TargetMode="External"/><Relationship Id="rId9" Type="http://schemas.openxmlformats.org/officeDocument/2006/relationships/hyperlink" Target="http://java.sun.com/j2se/1.3/docs/tooldocs/solaris/rmid.html" TargetMode="External"/><Relationship Id="rId10" Type="http://schemas.openxmlformats.org/officeDocument/2006/relationships/hyperlink" Target="http://java.sun.com/j2se/1.3/docs/tooldocs/solaris/rmid.html" TargetMode="External"/><Relationship Id="rId11" Type="http://schemas.openxmlformats.org/officeDocument/2006/relationships/hyperlink" Target="http://java.sun.com/j2se/1.3/docs/tooldocs/solaris/rmid.html" TargetMode="External"/><Relationship Id="rId12" Type="http://schemas.openxmlformats.org/officeDocument/2006/relationships/hyperlink" Target="http://java.sun.com/j2se/1.3/docs/tooldocs/win32/rmid.html" TargetMode="External"/><Relationship Id="rId13" Type="http://schemas.openxmlformats.org/officeDocument/2006/relationships/hyperlink" Target="http://java.sun.com/j2se/1.3/docs/tooldocs/win32/rmid.html" TargetMode="External"/><Relationship Id="rId14" Type="http://schemas.openxmlformats.org/officeDocument/2006/relationships/hyperlink" Target="http://java.sun.com/j2se/1.3/docs/tooldocs/win32/rmid.html" TargetMode="External"/><Relationship Id="rId15" Type="http://schemas.openxmlformats.org/officeDocument/2006/relationships/hyperlink" Target="http://java.sun.com/j2se/1.3/docs/tooldocs/win32/rmid.html" TargetMode="External"/><Relationship Id="rId16" Type="http://schemas.openxmlformats.org/officeDocument/2006/relationships/hyperlink" Target="http://java.sun.com/j2se/1.3/docs/tooldocs/win32/rmid.html" TargetMode="External"/><Relationship Id="rId17" Type="http://schemas.openxmlformats.org/officeDocument/2006/relationships/hyperlink" Target="http://java.sun.com/j2se/1.3/docs/tooldocs/win32/rmid.html" TargetMode="External"/><Relationship Id="rId18" Type="http://schemas.openxmlformats.org/officeDocument/2006/relationships/hyperlink" Target="http://java.sun.com/j2se/1.3/docs/tooldocs/win32/rmid.html" TargetMode="External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activation.1.html#registryNote" TargetMode="External"/><Relationship Id="rId2" Type="http://schemas.openxmlformats.org/officeDocument/2006/relationships/hyperlink" Target="http://java.sun.com/j2se/1.3/docs/guide/rmi/activation/activation.1.html#registryNote" TargetMode="External"/><Relationship Id="rId3" Type="http://schemas.openxmlformats.org/officeDocument/2006/relationships/hyperlink" Target="http://java.sun.com/j2se/1.3/docs/guide/rmi/activation/activation.1.html#registryNote" TargetMode="External"/><Relationship Id="rId4" Type="http://schemas.openxmlformats.org/officeDocument/2006/relationships/hyperlink" Target="http://java.sun.com/j2se/1.3/docs/guide/rmi/activation/activation.1.html#registryNote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activation.1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code/Client.java" TargetMode="External"/><Relationship Id="rId2" Type="http://schemas.openxmlformats.org/officeDocument/2006/relationships/hyperlink" Target="http://java.sun.com/j2se/1.3/docs/guide/rmi/activation/code/MyRemoteInterface.java" TargetMode="External"/><Relationship Id="rId3" Type="http://schemas.openxmlformats.org/officeDocument/2006/relationships/hyperlink" Target="http://java.sun.com/j2se/1.3/docs/guide/rmi/activation/code/MyRemoteInterface.java" TargetMode="External"/><Relationship Id="rId4" Type="http://schemas.openxmlformats.org/officeDocument/2006/relationships/hyperlink" Target="http://java.sun.com/j2se/1.3/docs/guide/rmi/activation/code/ActivatableImplementation.java" TargetMode="External"/><Relationship Id="rId5" Type="http://schemas.openxmlformats.org/officeDocument/2006/relationships/hyperlink" Target="http://java.sun.com/j2se/1.3/docs/guide/rmi/activation/code/ActivatableImplementation.java" TargetMode="External"/><Relationship Id="rId6" Type="http://schemas.openxmlformats.org/officeDocument/2006/relationships/hyperlink" Target="http://java.sun.com/j2se/1.3/docs/guide/rmi/activation/code/Setup.java" TargetMode="External"/><Relationship Id="rId7" Type="http://schemas.openxmlformats.org/officeDocument/2006/relationships/hyperlink" Target="http://java.sun.com/j2se/1.3/docs/guide/rmi/activation/code/Setup.java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ble Servi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333399"/>
                </a:solidFill>
                <a:latin typeface="Tahoma"/>
              </a:rPr>
              <a:t>Note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ahoma"/>
              </a:rPr>
              <a:t>the policy file location to b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Tahoma"/>
              </a:rPr>
              <a:t>the absolute path to where you've installed the example policy file that came with the source code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Compilation and Exec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Compile the remote interface, implementation, client and setup classe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MyRemoteInterface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ActivatableImplementation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Client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Setup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Run rmic on the implementation clas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rmic -d . examples.activation.ActivatableImplement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art the rmiregist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% rmiregistry 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Before you start the rmiregistry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you must make sure that the shell or window in which you will run the 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registry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, either h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no CLASSPATH se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or has a CLASSPATH that does not include the path to any classes that you want downloaded to your client, including the stubs for your remote object implementation classes.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If you start the 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, and it 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 find your stub classes in its CLASSPATH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it will ignore the server's 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java.rmi.server.codebase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 property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and as a result, your client(s) will not be able to download the stub code for your remote object.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art the activation daemon, rmid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rmid -J-Djava.security.policy=rmid.policy &a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Where rmid.policy is the name of the security policy file for rmi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Note: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By default, rmid now requires a security policy file, that is used to verify whether or not the information in each ActivationGroupDescriptor is allowed to be used to launch a JVM for an activation gro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For complete details, please refer to the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mid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page for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th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Solaris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operating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environment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rmid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ma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 page for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th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 Microsoft Windows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platform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5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Run the setup program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Run the setup, setting the codebase property to be the location of the implementation stub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% java 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-Djava.security.policy=/home/rmi_tutorial/activation/policy 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-Djava.rmi.server.codebase=file:/home/rmi_tutorial/activation/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examples.activation.Setu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codebase property will be resolved to a URL, so it must have the form o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http://aHost/somesource/" 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file:/myDirectory/location/" 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file:///myDirectory/location/" (three slashes after the "file:"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Please note that each of these sample URL strings has a trailing "/"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server output should look like thi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Got the stub for the Activatable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Exported Activatable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If you forget the trailing slash on the property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or if the class files can't be located at the source (they aren't really being made available for downloa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or if you misspell the property nam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you'll get thrown 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java.lang.ClassNotFoundException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is exception will be th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when you try to bind your remote object to the rmiregistr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or when the first client attempts to access that object's stub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If the latter case occu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you have another problem as well because the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miregistry was finding the stubs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in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its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CLASSPATH.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6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Run the cli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argument to the examples.activation.Client program is the hostname of the implementation server, in this case, "vector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% java -Djava.security.policy=/home/rmi_tutorial/activation/policy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examples.activation.Cli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vector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client output should look like th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Got a remote reference to the object that extends Activa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Making remote call to the server Returned from remote ca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esult: Succ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Policy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re is by defaul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 single system-wide policy fil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nd a single user policy fil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system policy file is by default located 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/lib/security/java.policy (Solari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\lib\security\java.policy (Window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refers to the value of the system property named "java.home"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ich specifies the directory that houses the runtime environ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either the jre directory in the Java 2 SDK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or the top-level directory of the Java 2 Runtime Environmen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User policy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user policy file is by default located 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/.java.policy (Solari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\.java.policy (Window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Note: </a:t>
            </a: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refers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value of the system property named "user.home"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ich specifies the user's home director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On Windows systems, given user nam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uNa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, the "user.home" property value defaults 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C:\Winnt\Profiles\uName on multi-user Windows NT systems C:\Windows\Profiles\uName on multi-user Windows 95 systems C:\Windows on single-user Windows 95 system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333399"/>
                </a:solidFill>
                <a:latin typeface="Tahoma"/>
              </a:rPr>
              <a:t>UnicastRemoteObject vs Activatab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An instance of UnicastRemoteObject may be accessed on a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(1) creating an instance of the remote obje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(2) continuously execu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java.rmi.activation.Activatable + RMI daemon, rm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Develop applications based on remote objects to be executed on deman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MI daemon, rmid, provides a virtual machine from which other can be launch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Policy file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Policy file locations are specified in the security properties file, which is located 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/lib/security/java.security (Solari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\lib\security\java.security (Window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policy file locations are specified as the values of proper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ose names are of the form policy.url.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is a numb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For example, the default system and user policy files are defined in the security properties file 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olicy.url.1=file:${java.home}/lib/security/java.poli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olicy.url.2=file:${user.home}/.java.poli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Specifying an Additional Policy File at Runtim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It is also possible to specify an additional or a different policy file when invoking execution of an applic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is can be done via the "-Djava.security.policy" command line argument, which sets the value of th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security.policy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proper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java -Djava.security.manager -Djava.security.policy=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someURL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SomeAp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someURL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is a URL specifying the location of a policy file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n the specified policy file will be loaded in addition to all the policy files that are specified in the security properties fi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Making a UnicastRemoteObject Activatab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o change an existing class from being a subclass of UnicastRemoteObj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being a sub-class of java.rmi.activation.Activa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9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odify the class declaration so that the class now extends from java.rmi.activation.Activatable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public class MyRemoteInterfaceImpl extends Activatabl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implements examples.activation.MyRemoteInterface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3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Remove or comment out the old no-argument constructor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// public MyRemoteInterfaceImpl() throws RemoteExce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// { //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4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Declare a two-argument constructor in the implementation class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public MyRemoteInterfaceImpl(ActivationID id, MarshalledObject data) throws Remote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// Register the object with the activation system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// then export it on an anonymous port //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super(id, 0); }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8920" y="104400"/>
            <a:ext cx="8713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util.Properties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is class registers information about the ActivatableImple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class with rmid and the rmiregistry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static void main(String[] args) throws 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cause of the 1.2 security model, a security policy shoul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erties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ew Properties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s.put("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java.security.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"/home/rmi_tutorial/activation/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exampleGroup = new ActivationGroupDesc(props, ace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Don't forget the trailing slash at the end of the UR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String location = "file:/home/rmi_tutorial/activation/"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70408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MyRemoteInterfaceImpl mri = new MyRemoteInterfaceImpl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the above line is replaced with the following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Got the stub for the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ind the stub to a name in the registry running on 1099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Naming.rebind("ActivatableImplementation", mri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Exported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exit(0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933720"/>
            <a:ext cx="4824360" cy="719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Activating an object that does not extend java.rmi.activation.Activatab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ing the implementation class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import java.rmi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Modify the class declaration so that the class implements an interface that extends from java.rmi.Remot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public class MyClass implements examples.activation.AnotherRemoteInterface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3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Add a new two-argument constructor to the implementation class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yClass(ActivationID id, MarshalledObject data)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throws Remote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Register the object with the activation syst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then export it on an anonymous port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Activatable.exportObject(this, id, 0);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}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"setup"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dentique au code précé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Tahoma"/>
              </a:rPr>
              <a:t>Using a MarshalledObject to create persistent dat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reating the class implementing the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reating a setup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mpiling and exec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640" y="436320"/>
            <a:ext cx="8415360" cy="58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setup class, examples.activation.Setup4, </a:t>
            </a: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oes two new things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t constructs a java.util.Properties object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pass the location of the java.security.properties fil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to the constructor of an ActivationGroupDescript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which in turn, gets passed to the constructor of the ActivationDesc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t uses the 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MarshalledObject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at it passes to the ActivationDesc construct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o store a java.io.File object that represents the location of the persistent data storage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In this exampl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persistentObjectStore.ser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file exist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activatable object implementation is initialized with the persistent data from the fil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Otherwise, if the file does not exist, the activatable object initializes itself as though this is the first time a client has tried to send dat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ient program, examples.activation.Client4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asses a vector of transaction-like data to the activatable object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and that data is added to the implementation object's vecto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Each time a client calls the implementation (to add more transaction data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e activatable implementation stores its state (writes the vector) out to the file specified by the MarshalledObject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implementation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util.Vector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xtend your class from java.rmi.activation.Activatabl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public class MyPersistentClass extends Activatab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implements examples.activation.YetAnotherRemoteInterface {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Tahoma"/>
              </a:rPr>
              <a:t>Declare a two-argument constructor in the implementation class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ector transactions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File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MyPersistentClass(ActivationID id, MarshalledObject data)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rows RemoteException, ClassNotFoundException, java.io.IOException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the object with the activation system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n export it on an anonymous por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uper(id, 0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Extract the File object from the MarshalledObject that wa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passed to the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holder = (File)data.get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if (holder.exists())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se the MarshalledObject to restore my state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is.restoreState();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 = new Vector(1,1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.addElement("Initializing transaction vector"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r>
              <a:rPr b="1" lang="fr-CA" sz="2000" spc="-1" strike="noStrike">
                <a:solidFill>
                  <a:srgbClr val="333399"/>
                </a:solidFill>
                <a:latin typeface="Tahoma"/>
              </a:rPr>
              <a:t>Write the methods that use the MarshalledObject, to save and restore the object's data stat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If the MarshalledObject that was passed to the constructor wa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a file, then use it to recover the vector of transaction data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restoreState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rows IOException, ClassNotFoundExcep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 f =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InputStream fis = new FileInputStream(f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bjectInputStream ois = new ObjectInputStream(fis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 = (Vector)ois.readObject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is.close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saveState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 f =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OutputStream fos = new FileOutputStream(f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bjectOutputStream oos = new ObjectOutputStream(fos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os.writeObject(getTransactions()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os.close();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catch (Exception e) { throw new RuntimeException("Error saving vector of data"); } }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Step 5:</a:t>
            </a:r>
            <a:r>
              <a:rPr b="0" lang="fr-CA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Implement the remote interface method(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dd each of the vector elements passed from the client to the object instance and save the updated vector out to a fil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public Vector calltheServer(Vector v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throws Remote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{ int limit = v.size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for (int i = 0; i &lt; limit; i++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{ transactions.addElement(v.elementAt(i)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// Save this object's data out to file /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this.saveState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return transactions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"setup"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Make the appropriate imports in the setup clas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io.Fil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util.Properties;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Install a SecurityManager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e an ActivationGroup instanc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ecause of the Java 2 security model, a security policy shoul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operties props = new Properties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ops.put("java.security.policy", "/home/rmi_tutorial/activation/policy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Desc.CommandEnvironment ace = null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Desc exampleGroup = new ActivationGroupDesc(props, ace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e an ActivationDesc instance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In the setup application, the job of the activation descriptor is to provide all the information that rmid will require to create a new instance of the implementation clas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tring location = "file:/home/rmi_tutorial/activation/"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Pass the file that we want to persist to as the Marshall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bjec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MarshalledObject data =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new MarshalledObject (new File(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"/home/rmi_tutorial/activation/persistentObjectStore.ser")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5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Declare an instance of your remote interface and register the activation descriptor with  rmid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YetAnotherRemoteInterface yari =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(YetAnotherRemoteInterface)Activatable.register(desc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"Got the stub for MyPersistentClass");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6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Bind the stub, that was returned by the Activatable.register method, to a name in the rmiregistry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Naming.rebind("MyPersistentClass", yar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"Exported MyPersistentClass");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7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Quit the setup application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Réfé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java.sun.com/j2se/1.3/docs/guide/rmi/activation/activation.1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2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3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4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Classes and Interfa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lient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will invoke a method on an activatable obj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yRemoteInterfac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interface that extends java.rmi.Remote, implemented by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ActivatableImplementatio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will be activat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tup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registers information about the activatable class with the RMI registry and the RMI daem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6310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class ActivatableImplementation extends Activatable implements examples.activation.MyRemoteInterfa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e constructor for activation and expor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is constructor is called by the method ActivationInstantiator.newInst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during activation, to construct the obje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ActivatableImplementation(  ActivationID id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MarshalledObject data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throws RemoteExcep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Register the object with the activation syste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en export it on an anonymous port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super(id, 0); 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Implement the method declared in MyRemoteInterface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Object callMeRemotely() throws RemoteExcep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return "Success"; 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1341360"/>
            <a:ext cx="2376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2080"/>
            <a:ext cx="31687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726080"/>
            <a:ext cx="21589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04400"/>
            <a:ext cx="8713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util.Properties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is class registers information about the ActivatableImple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class with rmid and the rmiregistry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static void main(String[] args) throws 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cause of the 1.2 security model, a security policy shoul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erties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ew Properties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s.put("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java.security.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"/home/rmi_tutorial/activation/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exampleGroup = new ActivationGroupDesc(props, ace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on't forget the trailing slash at the end of the UR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"file:/home/rmi_tutorial/activation/"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70408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Got the stub for the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ind the stub to a name in the registry running on 1099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Naming.rebind("ActivatableImplementation", mri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Exported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exit(0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tion Group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job of the activation group descript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o provide all the inform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at rmid will require to contact the appropriate existing JVM or spawn a new JVM for the activatable obj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activator spawns, as needed,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Tahoma"/>
              </a:rPr>
              <a:t>a separate VM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(as a child process, for example)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Tahoma"/>
              </a:rPr>
              <a:t>for each registered activation group and directs activation requests to the appropriate group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exampleGroup =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new ActivationGroupDesc(props, ace);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tion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8470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e job of the activation descriptor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o provide all the inform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at rmid will require t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create a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new instanc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of the implementation clas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Don't forget the trailing slash at the end of the UR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= "file:/home/rmi_tutorial/activation/"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21:06Z</dcterms:created>
  <dc:creator>Sylvain Giroux</dc:creator>
  <dc:description/>
  <dc:language>en-US</dc:language>
  <cp:lastModifiedBy>om om</cp:lastModifiedBy>
  <cp:lastPrinted>2009-04-22T19:24:48Z</cp:lastPrinted>
  <dcterms:modified xsi:type="dcterms:W3CDTF">2005-10-18T13:03:23Z</dcterms:modified>
  <cp:revision>56</cp:revision>
  <dc:subject/>
  <dc:title>Services activ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