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0231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6618-14E2-4002-BBB4-7FE8A8305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04A4-D3A9-47B7-9ED8-8CF2BC056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7305-2D41-4E3F-89C4-BB1C69CD4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7ACD-CE59-4ED7-82B2-3E353AE5D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6EC3-15C9-4479-9262-5D1AD428A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E5C9-B8B4-4D3B-89DA-A6ECE0B89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DE45-DDD4-4080-9AA2-8A83029AB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379A-7FB3-4A1A-AC10-98B2EE893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86A0-F1C1-4F70-9C6C-23BEFD8F2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7643-137D-4404-9B6F-B6DC5B9A0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5CD1-38A4-4C5F-95E5-2207A5961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52E6-B49D-40CA-A9F1-14BF0D9D6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1049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spcBef>
                <a:spcPts val="1049"/>
              </a:spcBef>
              <a:buClr>
                <a:srgbClr val="33cc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3" marL="1600200" indent="-22860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4" marL="2057400" indent="-228600">
              <a:spcBef>
                <a:spcPts val="104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5" marL="2057400" indent="-228600">
              <a:spcBef>
                <a:spcPts val="104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6" marL="2057400" indent="-228600">
              <a:spcBef>
                <a:spcPts val="104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B80CA-4EDA-4671-A5C4-E554F7372CBA}" type="slidenum">
              <a:rPr b="0" lang="es-CL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990720" y="2565000"/>
            <a:ext cx="703584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000066"/>
                </a:solidFill>
                <a:latin typeface="Tahoma"/>
              </a:rPr>
              <a:t>Discusión Final del Curso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0" y="463860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Sergio Ochoa D.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95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422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0099"/>
                </a:solidFill>
                <a:latin typeface="Tahoma"/>
              </a:rPr>
              <a:t>Conclusiones..</a:t>
            </a:r>
            <a:r>
              <a:rPr b="0" lang="es-CL" sz="4400" spc="-1" strike="noStrike">
                <a:solidFill>
                  <a:srgbClr val="cc00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20560" indent="-52056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ahoma"/>
              </a:rPr>
              <a:t>En esta disciplina no se puede descansar... Lamentablemente!!!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52056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520560" indent="-52056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ahoma"/>
              </a:rPr>
              <a:t>Rol de una Universidad con respecto a los Profesionales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52056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520560" indent="-52056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ahoma"/>
              </a:rPr>
              <a:t>Rol del curso con respecto a ustedes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52056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A9D2-6ED3-4A64-BD8D-F1FE37E1632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0099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77960" y="1600200"/>
            <a:ext cx="8177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2056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520560" indent="-52056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ahoma"/>
              </a:rPr>
              <a:t>¿En qué cree usted que puede trabajar un Ingeniero en Computación?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52056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520560" indent="-52056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ahoma"/>
              </a:rPr>
              <a:t>¿En qué cree que va a trabajar usted durante los próximos 5 años?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52056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520560" indent="-52056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ahoma"/>
              </a:rPr>
              <a:t>¿y en los próximos 30 años?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ED34-8BD2-4567-8B47-6142495274A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0099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77960" y="1600200"/>
            <a:ext cx="8177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2056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520560" indent="-520560">
              <a:lnSpc>
                <a:spcPct val="90000"/>
              </a:lnSpc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ahoma"/>
              </a:rPr>
              <a:t>¿Cómo cree que es el mercado laboral chileno?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52056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520560" indent="-520560">
              <a:lnSpc>
                <a:spcPct val="90000"/>
              </a:lnSpc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ahoma"/>
              </a:rPr>
              <a:t>¿Cómo cree que es el ambiente laboral en una típica empresa chilena?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52056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520560" indent="-520560">
              <a:lnSpc>
                <a:spcPct val="90000"/>
              </a:lnSpc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ahoma"/>
              </a:rPr>
              <a:t>¿Cuál cree que son los principales problemas que aquejan a las empresas de desarrollo de software en Chile?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099F-A9A8-4FD1-A52A-4619A857745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0099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77960" y="1600200"/>
            <a:ext cx="8177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2056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520560" indent="-52056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¿Cuál es el principal patrimonio de una empresa de desarrollo de software en Chile?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52056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520560" indent="-52056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¿Cuál o cuáles deberían serlo?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52056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520560" indent="-52056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¿Siente que está preparado para montar una empresa en este momento?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52056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520560" indent="-52056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¿Cuándo es un buen momento para hacerlo?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FEC2-E3C8-4F40-AEEB-A3869E4E453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0099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77960" y="1600200"/>
            <a:ext cx="8177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s-CL" sz="2400" spc="-1" strike="noStrike">
                <a:solidFill>
                  <a:srgbClr val="000066"/>
                </a:solidFill>
                <a:latin typeface="Tahoma"/>
              </a:rPr>
              <a:t>Cuando usted va a formar una empresa desarrolladora de software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66"/>
                </a:solidFill>
                <a:latin typeface="Tahoma"/>
              </a:rPr>
              <a:t>¿Qué recursos prevé para comenzar a trabajar?  ¿por qué?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s-CL" sz="2400" spc="-1" strike="noStrike">
                <a:solidFill>
                  <a:srgbClr val="000066"/>
                </a:solidFill>
                <a:latin typeface="Tahoma"/>
              </a:rPr>
              <a:t>Cuando usted va a contratar el desarrollo de un software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66"/>
                </a:solidFill>
                <a:latin typeface="Tahoma"/>
              </a:rPr>
              <a:t>¿Qué le va a exigir a la empresa desarrolladora?  ¿por qué?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66"/>
                </a:solidFill>
                <a:latin typeface="Tahoma"/>
              </a:rPr>
              <a:t>¿Qué le va a exigir al software?  ¿por qué?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F514-D7DD-45CA-B951-A536B73D1FC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0099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77960" y="1600200"/>
            <a:ext cx="8177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ahoma"/>
              </a:rPr>
              <a:t>¿Qué es ”éxito” en un desarrollo de software?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4618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461880" indent="-4618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ahoma"/>
              </a:rPr>
              <a:t>¿Qué papel juega la gestión de proyectos, dentro de una empresa desarrolladora?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4618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461880" indent="-4618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ahoma"/>
              </a:rPr>
              <a:t>¿y la parte técnica? ¿cuál es más importante?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18C7-1F1B-4C5A-9A42-99FB955C771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0099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ahoma"/>
              </a:rPr>
              <a:t>¿Cómo estimar tiempo y costos de desarrollo?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4618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461880" indent="-4618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ahoma"/>
              </a:rPr>
              <a:t>¿Cuál es la fase más importante para los desarrolladores?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4618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461880" indent="-4618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ahoma"/>
              </a:rPr>
              <a:t>¿y para el cliente?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89FD-8327-4B76-9E24-3D20F71E405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0099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lnSpc>
                <a:spcPct val="90000"/>
              </a:lnSpc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ahoma"/>
              </a:rPr>
              <a:t>¿Es posible mantenerse actualizado?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4618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461880" indent="-461880">
              <a:lnSpc>
                <a:spcPct val="90000"/>
              </a:lnSpc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ahoma"/>
              </a:rPr>
              <a:t>¿Es necesario planificar mi empresa a largo plazo?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4618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461880" indent="-461880">
              <a:lnSpc>
                <a:spcPct val="90000"/>
              </a:lnSpc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ahoma"/>
              </a:rPr>
              <a:t>¿Qué pasa con el organigrama de mi empresa? ¿Cuándo se define?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4618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461880" indent="-461880">
              <a:lnSpc>
                <a:spcPct val="90000"/>
              </a:lnSpc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ahoma"/>
              </a:rPr>
              <a:t>¿Con qué estructura?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5FD8-3EB5-4F76-8F99-9A68B795CBD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0099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ahoma"/>
              </a:rPr>
              <a:t>¿Cómo será el personal de mi empresa? ¿especialistas o hombres-orquesta?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4618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461880" indent="-4618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ahoma"/>
              </a:rPr>
              <a:t>¿Mi empresa debe hacer todo, o puedo tercerizar?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4618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461880" indent="-4618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ahoma"/>
              </a:rPr>
              <a:t>Marketing y Diseño Gráfico..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E90A-B982-4052-91C3-2F7AA6763AA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1T17:06:55Z</dcterms:created>
  <dc:creator>cecilia</dc:creator>
  <dc:description/>
  <dc:language>en-US</dc:language>
  <cp:lastModifiedBy>Sergio F. Ochoa</cp:lastModifiedBy>
  <cp:lastPrinted>2000-10-18T19:03:28Z</cp:lastPrinted>
  <dcterms:modified xsi:type="dcterms:W3CDTF">2005-11-15T11:19:08Z</dcterms:modified>
  <cp:revision>93</cp:revision>
  <dc:subject/>
  <dc:title>CC31B: Desarrollo de Software de Aplicacion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>cecilia@dcc.uchile.cl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SoftAplic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