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5AB-B22A-4ECF-99AB-F0A61EF9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63E-E843-4782-B709-B522B67C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4E9-65BD-486E-8CBB-F0371400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260-6C90-4099-85C5-5179DB76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FF9-DB76-456F-8720-AA3DEC88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E4E-FE31-4B28-8FBC-9FA3E18C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52A-F249-4490-9021-06BD0C1F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D3F-7685-49BA-9DE4-29EE6621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2A8-8FF2-4321-9007-61648584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183-CB3F-49BB-A279-10C039A4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06A-F0CB-43F7-9FF0-1B6D9250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FB3-F291-45F2-A633-E7A575FE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2E4D-4B0E-4C0B-97C2-ECED3D1FEF7C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720" y="256500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ahoma"/>
              </a:rPr>
              <a:t>Discusión Final del Curs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n esta disciplina no se puede descansar... Lamentablemente!!!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Rol de una Universidad con respecto a los Profesional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Rol del curso con respecto a usted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60C-1B2B-41EA-A013-2852B2E73B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n qué cree usted que puede trabajar un Ingeniero en Computación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n qué cree que va a trabajar usted durante los próximos 5 año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y en los próximos 30 año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517-6BCA-40C0-9B73-D9F5266AD7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cree que es el mercado laboral chilen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cree que es el ambiente laboral en una típica empresa chilen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676-2908-4F04-8069-D2873D3346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Cuál o cuáles deberían serl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Siente que está preparado para montar una empresa en este momen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Cuándo es un buen momento para hacerl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AB2-5BC2-4E40-9C67-BABAA58B34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uando usted va a formar una empresa desarrolladora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¿Qué recursos prevé para comenzar a trabajar?  ¿por qué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uando usted va a contratar el desarrollo de un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¿Qué le va a exigir a la empresa desarrolladora?  ¿por qué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¿Qué le va a exigir al software?  ¿por qué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D69-3E0A-4450-BB63-FB5D9D403C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Qué es ”éxito” en un desarrollo de softwar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Qué papel juega la gestión de proyectos, dentro de una empresa desarrollador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y la parte técnica? ¿cuál es más importa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E27-2963-434C-B42A-1353196070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estimar tiempo y costos de desarroll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uál es la fase más importante para los desarrolladore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y para el clie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2D6-E18A-4120-985C-02FA417780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s posible mantenerse actualizad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s necesario planificar mi empresa a largo plaz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Qué pasa con el organigrama de mi empresa? ¿Cuándo se defin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on qué estructur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527-F423-4E23-A7D3-256F0E91F0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será el personal de mi empresa? ¿especialistas o hombres-orquest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Mi empresa debe hacer todo, o puedo tercerizar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Marketing y Diseño Gráfico..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91B-4540-49EA-8B84-4965B3F7EA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8T19:03:28Z</cp:lastPrinted>
  <dcterms:modified xsi:type="dcterms:W3CDTF">2005-11-15T11:19:08Z</dcterms:modified>
  <cp:revision>93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