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CBF9-F3EF-440B-AC9F-542A0A96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0326-C753-4975-A09C-46E55C42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365-4498-4884-BAE5-984CF460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EF5-BD50-421F-818E-F43668BF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CB8-8032-4B25-89B3-1616308A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9A9-2A7B-43E3-BBD0-09C6EF3F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7C3A-61B8-458A-9B43-5C727019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539-9AFF-433E-93B3-35380F4F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FD9-CFED-47BD-85C8-24E1E66A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04E-59C5-4B66-AB9E-D53680E0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BA40-8EC4-4DD6-983E-575FA534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DB1-F93A-4508-A575-286FFD44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1BB3-CD69-4D39-A6DE-39EEAF4436B9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90720" y="2565000"/>
            <a:ext cx="70358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ahoma"/>
              </a:rPr>
              <a:t>Discusión Final del Curs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onclusiones..</a:t>
            </a: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n esta disciplina no se puede descansar... Lamentablemente!!!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Rol de una Universidad con respecto a los Profesional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Rol del curso con respecto a usted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2C89-831A-432D-995E-1612B71BBC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En qué cree usted que puede trabajar un Ingeniero en Computación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En qué cree que va a trabajar usted durante los próximos 5 años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y en los próximos 30 años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606-7884-4F63-B23A-2E55EAE629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ómo cree que es el mercado laboral chilen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ómo cree que es el ambiente laboral en una típica empresa chilen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uál cree que son los principales problemas que aquejan a las empresas de desarrollo de software en Chil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D39-6C03-4E3E-B1A4-42F98CF021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¿Cuál es el principal patrimonio de una empresa de desarrollo de software en Chile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¿Cuál o cuáles deberían serl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¿Siente que está preparado para montar una empresa en este moment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¿Cuándo es un buen momento para hacerl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B30B-DD27-4766-BA81-3D159A1A46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Cuando usted va a formar una empresa desarrolladora de softwa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¿Qué recursos prevé para comenzar a trabajar?  ¿por qué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Cuando usted va a contratar el desarrollo de un softwa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¿Qué le va a exigir a la empresa desarrolladora?  ¿por qué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¿Qué le va a exigir al software?  ¿por qué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F800-1DF5-4D8D-8E45-9AEF94E38C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Qué es ”éxito” en un desarrollo de softwar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Qué papel juega la gestión de proyectos, dentro de una empresa desarrollador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y la parte técnica? ¿cuál es más important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7387-A3C7-4D34-BBAC-674DD127E5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ómo estimar tiempo y costos de desarroll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uál es la fase más importante para los desarrolladores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y para el client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3368-8DE9-4CC4-BD42-F0EFC222D3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Es posible mantenerse actualizad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Es necesario planificar mi empresa a largo plaz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Qué pasa con el organigrama de mi empresa? ¿Cuándo se defin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on qué estructur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675-7CF4-4113-BB67-1EEAE6EDED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ómo será el personal de mi empresa? ¿especialistas o hombres-orquest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Mi empresa debe hacer todo, o puedo tercerizar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Marketing y Diseño Gráfico..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D7D-1539-4514-92E0-BFFEBB8902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F. Ochoa</cp:lastModifiedBy>
  <cp:lastPrinted>2000-10-18T19:03:28Z</cp:lastPrinted>
  <dcterms:modified xsi:type="dcterms:W3CDTF">2005-11-15T11:19:08Z</dcterms:modified>
  <cp:revision>93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