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78F-9A37-4ADF-94F8-D1352887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C9EE-1D34-4C86-BC6F-08ACBB15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7895-DD74-4FFD-989B-1EF04A5C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942D-CF93-40A4-BED8-FBFFEBD5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F44-A469-4BC6-B6DF-0E97AC6D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850E-A90A-4D01-A7CC-3570BEFC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A18-D96A-42A5-BB91-B9D8D9CC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395-072E-4460-8D31-2C7873B9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FDCB-A159-4065-9CA1-47FF0F24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443-2E30-4030-87F6-AF28F5D3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D90F-5373-41ED-BB81-D47651F2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CBE-597E-4820-83E9-F126E498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464A-28CF-4B6B-8F52-835DAECC3294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90720" y="2204640"/>
            <a:ext cx="70358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Puesta a Punto y Entrega del Producto (Transferencia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Tahoma"/>
              </a:rPr>
              <a:t>Puesta en marcha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aralelo o reemplazo (ver tiempos, recursos, etapas e hitos)?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Tahoma"/>
              </a:rPr>
              <a:t>Paralelo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Tahoma"/>
              </a:rPr>
              <a:t>Cómo hago convivir los legados con los nuevos sistemas?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Tahoma"/>
              </a:rPr>
              <a:t>Cómo verifico la correspondencia de datos entre ambos escenarios?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Tahoma"/>
              </a:rPr>
              <a:t>Cómo puedo garantizar que el código implementado (sólo) para el paralelo, está bueno y no me está metiendo errores en las BD legadas?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Tahoma"/>
              </a:rPr>
              <a:t>Reemplazo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Tahoma"/>
              </a:rPr>
              <a:t>… </a:t>
            </a:r>
            <a:r>
              <a:rPr b="0" lang="es-ES" sz="1600" spc="-1" strike="noStrike">
                <a:solidFill>
                  <a:srgbClr val="000066"/>
                </a:solidFill>
                <a:latin typeface="Tahoma"/>
              </a:rPr>
              <a:t>va a haber incendios… Cómo los pienso apagar? En cuánto tiempo?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Tahoma"/>
              </a:rPr>
              <a:t>Qué pasa si el reemplazo no funciona?. Por ejemplo, la BD colapsa durante un peak, por fálta de índices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l costo de volver atrás es </a:t>
            </a:r>
            <a:r>
              <a:rPr b="1" i="1" lang="es-ES" sz="1800" spc="-1" strike="noStrike">
                <a:solidFill>
                  <a:srgbClr val="000066"/>
                </a:solidFill>
                <a:latin typeface="Tahoma"/>
              </a:rPr>
              <a:t>altísimo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…. La etapa de transferencia no puede salir mal!!!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655-B34B-4554-9D56-B0500CA9B4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FA43-F5E0-44E2-B05D-19542100CC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uego de la etapa de codificación se deben entregar 2 documento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2872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TD (Software Transfer Document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2872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HD (Project History Document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n el STD se debería describir todo el proceso de transferencia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ara nuestros proyectos sólo consideraremos una versión simplificada del PHD (se presenta más adelante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ta etapa culmina con: la puesta en producción del producto, y entrega del PHD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2E2-704C-4A32-8639-6C36DEB432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te documento se le entregará al CLIENTE, en papel, y en formato digita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estructura del documento es la siguient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1. Identificación del Proyecto.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Es la carátula del informe, compuesta por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Especificación del tipo de informe (Documento Histórico del Proyecto)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Nombre del proyect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Fecha de términ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2.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Índice General.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Debe mostrar el contenido del resto del documento. Los documentos incluidos en éste, como el URD, SRD, y DD, no deben llevar índices propi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8E74-F1EF-4756-9571-7CC875A430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0920" y="1523520"/>
            <a:ext cx="8304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3. Grupo de Trabajo.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Nómina de todos los miembros del grupo, el rol que desempeñó cada uno, y su dirección de e-mai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4 Documentos de Análisi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4.1. URD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4.2. SRD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5 Documento de Diseño.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adjunta el DD con el formato estableci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6 Documento de Pruebas.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adjuntan las pruebas diseñadas para verificar el cumplimiento de los requisitos de software y de usuario. Este documento incluye un resumen del estado de cumplimiento de los requisi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Tahoma"/>
              </a:rPr>
              <a:t>Listado: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 Id reg., tipo req., relevancia, nivel de cumplimiento actual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1D47-B5E6-4184-9BD2-95A6FC6F1C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7 Código Fuente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 Debe colocarse el código fuente del producto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El código debe estar “comentariado” como para que pueda ser mantenid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Cada página HTML debe tener al principio, un comentario que indique cuál es la función de ésta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8. Indicaciones.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Acá debe especificarse toda aquella información que sea necesaria para el normal funcionamiento del produc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8.1. Proceso de instalación del software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8.2. Proceso de operación de software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B05-E1CB-4C03-B9CE-F0C0D9F238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ntrega Final del Produ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64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día de la ENTREGA FINAL, el desarrollador deberá entregar 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l Cliente, lo siguiente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Documento histórico del proyecto (en papel y en formato digital) según el formato antes especificad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El sistema desarrollado, instalado y funcionando en una máquina indicada por el CLIENTE.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La base de datos del sistema, migrada (si corresponde)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Los módulos cargadores/actualizadores para alimentar la base de datos del sistema, en caso de ser necesari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66F-1C14-495E-8DBA-47DC63F2C3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lgunos ítems para la reflexión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ómo estuvieron los costo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y los tiempo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ómo estuvo la calidad del product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ómo estuvo la satisfacción del cliente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qué tipo de información guardé a cerca de mi proces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me sirve esa información para futuros desarrollo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qué tanto depende mi empresa, del equipo de trabaj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uáles fueron los errores más dañinos para el proyect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BC3-A96E-40FD-860D-00F3460612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uál fue su origen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uáles fueron los problemas externos que más afectaron al proyect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ómo voy a manejar estos problemas o debilidades durante el próximo proyect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ómo funcionaron los miembros del equipo de desarrollo?... Específicamente el administrador del proyec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ómo estuvo la comunicación al interior del grup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se puede mejorar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ómo de comportó la tecnología empleada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necesito nuevas herramienta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72A-FB6D-49CE-B21C-A51E2F2CE4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¿cómo estuvo la fase de transferencia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¿en que se puede mejorar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¿cómo sacarle más provecho al desarrollo realizado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¿se puede empaquetar el producto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¿qué necesito para hacerlo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.... ¿qué tanto puede mejorar mi empresa a partir de lo aprendido en este proyecto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772-4EB4-447D-A438-35A6B9A241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7960" y="1557000"/>
            <a:ext cx="817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La Etapa de Transferenci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Qué Dice el Estándar de la ESA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l Documento Histórico del Proyecto (PHD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ntrega Fina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prendizaje Post-Proyec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ierre del Proyec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volució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BDE6-FAFD-4068-B968-63F3DA2F8A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92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0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Acto </a:t>
            </a:r>
            <a:r>
              <a:rPr b="0" i="1" lang="es-ES" sz="2000" spc="-1" strike="noStrike">
                <a:solidFill>
                  <a:srgbClr val="cc0099"/>
                </a:solidFill>
                <a:latin typeface="Arial"/>
              </a:rPr>
              <a:t>formal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 y operativo en que el esfuerzo en el proyecto concluye, y se asume un nuevo estado de las personas, recursos, organización, negocio, 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0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eben estar claras las </a:t>
            </a:r>
            <a:r>
              <a:rPr b="0" i="1" lang="es-ES" sz="2000" spc="-1" strike="noStrike">
                <a:solidFill>
                  <a:srgbClr val="cc0099"/>
                </a:solidFill>
                <a:latin typeface="Arial"/>
              </a:rPr>
              <a:t>condiciones de cierre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s-ES" sz="2000" spc="-1" strike="noStrike">
                <a:solidFill>
                  <a:srgbClr val="000066"/>
                </a:solidFill>
                <a:latin typeface="Arial"/>
              </a:rPr>
              <a:t>aceptación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0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Tipos de cierre (normal, formal, negociado, político, ...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0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Identificación y evaluación de la situación de término y resultados del proyec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A84-FDA0-49CF-AAD8-DD8BED6051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ifusión del cierre y del futuro (</a:t>
            </a: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¿cuál será nuestro rol en el proyecto implantado?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Se requiere la formalización correspondiente</a:t>
            </a:r>
            <a:br>
              <a:rPr sz="2000"/>
            </a:b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(actas, contratos, pagos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Identificación de aspectos pendientes, importancia y prioriz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Suele haber negociación y realización de ajus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fectos futuros del proyecto (mantención y/o evolución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Nuevos proyectos surgidos a partir de éste?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F99-5BD1-4B0D-976C-787EA73E92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Formulación de la Evolución del Proye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cc0099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Al término del proyecto todo ha cambia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n particular hay nuevas expectativ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l proyecto se evalúa injustament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ya no estamos en el “estado del arte”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han cambiado las prioridad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Hay nuevas alternativas para el proyec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e reemplaz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e crecimien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e fortalecimien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C6B-18E4-41ED-9055-999F8E2D60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cc0099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Hay nuevos proyec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e reemplaz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omplementari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independient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Hay nuevas formas de evaluar, formular y administrar proyectos en la organiz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Si el desarrollo es interno a la organización, todos estos cambios deben ayudar a fortalecer el proceso de desarroll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Si el desarrollo es externo, se requiere que el desarrollador debe ser un tanto visionari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4EA-FE6E-450D-9551-DC1DBBCF29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cc0099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45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Hay que tener todo esto en cuenta, desde la planificación del proyecto…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Así nos va a doler menos cuando esto ocurr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. la parte buena es que si lo hemos hecho bien, las probabilidades de quedarnos con el cliente, son altas (debido principalmente a estos cambios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A91-29AC-44DD-BC8A-EFFE811F185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Fase de Transferencia puede verse desde el punto de vista del cliente o de la empresa desarrollador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de el punto de vista del client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 la fase más importante de todo el proyecto, ya que el cliente “espera” cosechar todo lo que ha sembrado (tiempo, dinero, compromiso, etc.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trato (soporte) que reciba el cliente durante esta fase, influye directamente sobre su nivel de satisfac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i hubo problemas antes, pero está fase se hace bien, el cliente olvidará los problemas previos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i no hubo problemas antes, pero está fase se hace mal, el cliente olvidará los éxitos previos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2AB4-A450-4ACC-A676-E5FDE03A0CB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6080" y="1523880"/>
            <a:ext cx="8143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de el punto de vista de la empresa desarrolladora, es la posibilidad d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btener el “cheque más jugoso”…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Quedarme con el cli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btener resultados tangibles que me ayuden a mejorar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Registrar Los resultados del proceso de desarrollo deben medirse y guardarse “por escrito”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Los miembros de cada rol deben presentar un documento que indique fortalezas y debilidades detectadas con respecto a su trabajo, y al funcionamiento colectiv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Aunque al finalizar el proyecto todos evitan este trabajo, la autocrítica objetiva es fundamental para la supervivencia de mi empresa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Si no la documento, el único perjudicado soy y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6F6-F1D7-471A-BC20-F2CD3CDA67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fase de transferencia lleva una nota importante en este curso…. Háganla bie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to es importante para ustedes y para el futuro del proye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764-2FB2-4281-B1E9-52C2E20F5F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88960" y="1599840"/>
            <a:ext cx="8375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En esta fase hay varias actividades que deben ser planificadas, coordinadas, controladas y evaluadas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Migración de Dato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apacitación de Usuario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Puesta en marcha del nuevo softwar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Pruebas de Usuari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Recolección y Reparación de Errore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Alternativas de Implantación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ertificación (marcha blanca, paralelos, etc.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ierre de la situación anterior (apagar equipo, botar sistema, ...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Hay que determinar la necesidad (y posibilidad) de vuelta atrás…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8D3-909B-40E0-A9A1-1A17039937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278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81374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Es la hora de la verdad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Es también la ocasión más clara para identificar el fracaso del proyect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Es necesario manejar los miedos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Difusión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apacitación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Asistencia a usuario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Es necesario manejar la transición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Mecanismos de “vuelta atrás”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onsistencia de los dato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Traspasos entre sistema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Duplicidad en el trabaj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1D0D-2098-4F0A-A3F0-9A8B1B54CF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42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cc0099"/>
                </a:solidFill>
                <a:latin typeface="Tahoma"/>
              </a:rPr>
              <a:t>Etapa de transferencia</a:t>
            </a:r>
            <a:endParaRPr b="0" lang="en-US" sz="48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104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Hay que establecer un punto de quiebre, en el cual la nueva solución se transforma en definitiv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Podría cambiar la historia dentro de una organización (típicamente asociada a sistemas antiguos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Podría haber mucha resistencia por parte de los usuarios, si no se maneja bien la implantación y la difus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DAF-6DFB-4797-B78F-BD36B93BBE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744200"/>
            <a:ext cx="80773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spcAft>
                <a:spcPts val="9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omo contraparte, el cliente debe firmar el documento de aceptación del produ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spcAft>
                <a:spcPts val="9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on eso se da por finalizada la relación contractual con el cli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spcAft>
                <a:spcPts val="9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... pero no el proye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spcAft>
                <a:spcPts val="9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uego de la etapa de transferencia, se debe APRENDER de proceso realiz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14A9-D867-4E8D-A2D5-95E58AFA44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Migración de dato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Planificar el trabajo (tiempos, recursos, etapas e hitos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No debe salir mal, pues las consecuencias podrían ser catastrófic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¿El modelo de datos nuevo se corresponde con el legado?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¿Cuáles son los procedimientos de migración de dato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¿En qué orden se ejecutan estos procedimiento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¿Cómo se valida la consistencia de datos en cada etapa de la migración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¿Quién está a cargo de cada actividad o proces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¿cómo volvemos atrás si, después de una semana, nos damos cuenta de que la cosa no funciona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3EF-952C-4520-B861-F53A8C061C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Tahoma"/>
              </a:rPr>
              <a:t>Capacitación: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74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Presencial, a Distancia o Mix (ver tiempos, recursos, etapas e hitos)?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74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74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66"/>
                </a:solidFill>
                <a:latin typeface="Tahoma"/>
              </a:rPr>
              <a:t>Presencial</a:t>
            </a: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los usuarios están co-localizados o son trasladables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no son muchos usuarios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tengo y puedo co-localizar los recursos necesarios (salas, máquinas, instructores, asistentes). 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es crítico que los usuarios sepan desde el primer día manejar bien el sistema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74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A distancia (</a:t>
            </a:r>
            <a:r>
              <a:rPr b="1" lang="es-ES" sz="1500" spc="-1" strike="noStrike">
                <a:solidFill>
                  <a:srgbClr val="000066"/>
                </a:solidFill>
                <a:latin typeface="Tahoma"/>
              </a:rPr>
              <a:t>e-learning</a:t>
            </a: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):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los usuarios son muchos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los usuarios tienen margen de tiempo para aprender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los usuarios están distribuidos y no son trasladables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el Quantum de tiempo diario destinado a capacitación es pequeño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74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… </a:t>
            </a: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y un </a:t>
            </a:r>
            <a:r>
              <a:rPr b="1" lang="es-ES" sz="1500" spc="-1" strike="noStrike">
                <a:solidFill>
                  <a:srgbClr val="000066"/>
                </a:solidFill>
                <a:latin typeface="Tahoma"/>
              </a:rPr>
              <a:t>Mix</a:t>
            </a: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3ECD-00B0-4BB7-B316-4ADF183645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Tahoma"/>
              </a:rPr>
              <a:t>Capacitación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Tahoma"/>
              </a:rPr>
              <a:t>Tutoriales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 basados en courseware o </a:t>
            </a:r>
            <a:r>
              <a:rPr b="1" lang="es-ES" sz="1800" spc="-1" strike="noStrike">
                <a:solidFill>
                  <a:srgbClr val="000066"/>
                </a:solidFill>
                <a:latin typeface="Tahoma"/>
              </a:rPr>
              <a:t>Talleres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 usando el sistema?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¿Cómo se puede garantizar que los usuarios son capaces de usar bien el sistema (garantizar que la capacitación fue efectiva)?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¿Cuánto tiempo antes deben entregarse las interfaces de usuario para poder generar el material instruccional?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¿Cómo se va a distribuir el material didáctico?... Courseware, DVD, papel?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se requiere un trabajo y un compromiso grande de los usuarios… ¿Está planificado? ¿Querrán cooperar? ¿qué pasa con mi maravilloso sistema si ellos no cooperan?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¿Se entrena en base a comunidades de aprendizaje? ¿Quiénes supervisan y apoyan a estas comunidades?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stas son sólo algunas de las preguntas que hay que responder…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AEFF-CF05-45DC-88AD-BB6481415B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F. Ochoa</cp:lastModifiedBy>
  <cp:lastPrinted>2000-10-18T19:03:28Z</cp:lastPrinted>
  <dcterms:modified xsi:type="dcterms:W3CDTF">2005-11-03T17:11:43Z</dcterms:modified>
  <cp:revision>95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