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FB2-2E28-475A-A73F-A5EE8A94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EE3C-C08C-4476-94E1-6D40F7B9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B6A-47CA-41BA-B9EB-4EE2C08B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4EC-0305-41FE-8E85-239C11D7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5EE-729D-4478-AFAE-6DD1BF07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C22-C45E-460D-A93D-39749F41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D54-9AF1-40E8-8E17-0D2B1739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B83-6F0B-4BCF-BFB2-B018E8FE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23F-CADE-4443-9C6E-E12ED8BA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A1B-AC20-4D3A-8BAE-08CFE002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B50-8DA5-4FC0-9725-340707D2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099-2BFF-45F5-A910-FF55A7D9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6DD3-FD38-47E1-B43F-4E5C7D22BEAE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720" y="220464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Puesta a Punto y Entrega del Producto (Transferencia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Puesta en marcha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aralelo o reemplazo (ver tiempos, recursos, etapas e hitos)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Paralelo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Cómo hago convivir los legados con los nuevos sistemas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Cómo verifico la correspondencia de datos entre ambos escenarios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Cómo puedo garantizar que el código implementado (sólo) para el paralelo, está bueno y no me está metiendo errores en las BD legadas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Reemplazo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… </a:t>
            </a: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va a haber incendios… Cómo los pienso apagar? En cuánto tiempo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66"/>
                </a:solidFill>
                <a:latin typeface="Tahoma"/>
              </a:rPr>
              <a:t>Qué pasa si el reemplazo no funciona?. Por ejemplo, la BD colapsa durante un peak, por fálta de índices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l costo de volver atrás es </a:t>
            </a:r>
            <a:r>
              <a:rPr b="1" i="1" lang="es-ES" sz="1800" spc="-1" strike="noStrike">
                <a:solidFill>
                  <a:srgbClr val="000066"/>
                </a:solidFill>
                <a:latin typeface="Tahoma"/>
              </a:rPr>
              <a:t>altísimo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…. La etapa de transferencia no puede salir mal!!!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B23-2C0C-426A-8420-8EEB7287E9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453-4D30-4C66-867A-D8803FE913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Qué dice el estándar de la ESA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lnSpc>
                <a:spcPct val="9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uego de la etapa de codificación se deben entregar 2 document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TD (Software Transfer Document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2872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HD (Project History Document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 el STD se debería describir todo el proceso de transferencia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ara nuestros proyectos sólo consideraremos una versión simplificada del PHD (se presenta más adelante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63600" indent="-36360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a etapa culmina con: la puesta en producción del producto, y entrega del PHD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84E-8F6D-4236-AFC4-3C668277E8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e documento se le entregará al CLIENTE, en papel, y en formato digit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estructura del documento es la sigui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1. Identificación del Proyecto.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Es la carátula del informe, compuesta por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Especificación del tipo de informe (Documento Histórico del Proyecto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Nombre del proyect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Fecha de términ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2.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Índice General.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Debe mostrar el contenido del resto del documento. Los documentos incluidos en éste, como el URD, SRD, y DD, no deben llevar índices propi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85E-295C-4E59-A5BC-8AD8891B4A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0920" y="1523520"/>
            <a:ext cx="8304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3. Grupo de Trabajo.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Nómina de todos los miembros del grupo, el rol que desempeñó cada uno, y su dirección de e-mai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4 Documentos de Análisi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4.1. URD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4.2. SRD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5 Documento de Diseño.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adjunta el DD con el formato estableci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6 Documento de Pruebas.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adjuntan las pruebas diseñadas para verificar el cumplimiento de los requisitos de software y de usuario. Este documento incluye un resumen del estado de cumplimiento de los requisi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66"/>
                </a:solidFill>
                <a:latin typeface="Tahoma"/>
              </a:rPr>
              <a:t>Listado: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Id reg., tipo req., relevancia, nivel de cumplimiento actual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C77-57B4-4843-B86F-7D39AA4BC9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PHD (Documento Histórico del Proyecto) Simplific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7 Código Fuent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 Debe colocarse el código fuente del producto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El código debe estar “comentariado” como para que pueda ser mantenid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Cada página HTML debe tener al principio, un comentario que indique cuál es la función de ést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8. Indicaciones.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Acá debe especificarse toda aquella información que sea necesaria para el normal funcionamiento del produc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8.1. Proceso de instalación del software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8.2. Proceso de operación de software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4C8-0CE3-4429-8F21-6EE6EACA59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ntrega Final del Produ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64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día de la ENTREGA FINAL, el desarrollador deberá entregar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l Cliente, lo siguiente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Documento histórico del proyecto (en papel y en formato digital) según el formato antes especificad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El sistema desarrollado, instalado y funcionando en una máquina indicada por el CLIENTE.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La base de datos del sistema, migrada (si corresponde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Los módulos cargadores/actualizadores para alimentar la base de datos del sistema, en caso de ser necesari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1B01-E0FF-4917-A236-95C2B4E996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lgunos ítems para la reflexión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estuvieron los cost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y los tiemp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estuvo la calidad del produc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estuvo la satisfacción del cliente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qué tipo de información guardé a cerca de mi proces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me sirve esa información para futuros desarroll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qué tanto depende mi empresa, del equipo de trabaj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uáles fueron los errores más dañinos para el proyec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557-6398-4B1A-934E-5A5EA75B69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uál fue su origen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uáles fueron los problemas externos que más afectaron al proyec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voy a manejar estos problemas o debilidades durante el próximo proyect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funcionaron los miembros del equipo de desarrollo?... Específicamente el administrador del proyec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estuvo la comunicación al interior del grup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se puede mejorar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cómo de comportó la tecnología emplead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¿necesito nuevas herramienta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F397-C41D-4ACB-B15E-F1AA6F30BD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Aprendizaje Post-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cómo estuvo la fase de transferencia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en que se puede mejorar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cómo sacarle más provecho al desarrollo realizad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se puede empaquetar el product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qué necesito para hacerl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.... ¿qué tanto puede mejorar mi empresa a partir de lo aprendido en este proyect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D3A-E61C-410C-9F5F-F612E3F877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7960" y="1557000"/>
            <a:ext cx="817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La Etapa de Transferenc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Qué Dice el Estándar de la ES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l Documento Histórico del Proyecto (PHD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ntrega Fin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prendizaje Post-Proyec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ierre del Proyec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volució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nclusion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B7B3-85C1-44BC-B0E7-FFDAEC3063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Acto </a:t>
            </a:r>
            <a:r>
              <a:rPr b="0" i="1" lang="es-ES" sz="2000" spc="-1" strike="noStrike">
                <a:solidFill>
                  <a:srgbClr val="cc0099"/>
                </a:solidFill>
                <a:latin typeface="Arial"/>
              </a:rPr>
              <a:t>formal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 y operativo en que el esfuerzo en el proyecto concluye, y se asume un nuevo estado de las personas, recursos, organización, negocio, 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ben estar claras las </a:t>
            </a:r>
            <a:r>
              <a:rPr b="0" i="1" lang="es-ES" sz="2000" spc="-1" strike="noStrike">
                <a:solidFill>
                  <a:srgbClr val="cc0099"/>
                </a:solidFill>
                <a:latin typeface="Arial"/>
              </a:rPr>
              <a:t>condiciones de cierre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0" i="1" lang="es-ES" sz="2000" spc="-1" strike="noStrike">
                <a:solidFill>
                  <a:srgbClr val="000066"/>
                </a:solidFill>
                <a:latin typeface="Arial"/>
              </a:rPr>
              <a:t>aceptación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pos de cierre (normal, formal, negociado, político, ...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10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dentificación y evaluación de la situación de término y resultados del proyec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DC8-3166-408C-B84E-A9AFABEB5F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Cierre del 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ifusión del cierre y del futuro (</a:t>
            </a:r>
            <a:r>
              <a:rPr b="0" lang="es-ES" sz="1400" spc="-1" strike="noStrike">
                <a:solidFill>
                  <a:srgbClr val="000066"/>
                </a:solidFill>
                <a:latin typeface="Arial"/>
              </a:rPr>
              <a:t>¿cuál será nuestro rol en el proyecto implantado?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e requiere la formalización correspondiente</a:t>
            </a:r>
            <a:br>
              <a:rPr sz="2000"/>
            </a:b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(actas, contratos, pagos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dentificación de aspectos pendientes, importancia y prioriz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uele haber negociación y realización de ajus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fectos futuros del proyecto (mantención y/o evolució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499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Nuevos proyectos surgidos a partir de éste?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4BD-0FF6-44C2-A6F2-FFD293BB94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3111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Formulación de la Evolución del Proyec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cc0099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Al término del proyecto todo ha cambi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n particular hay nuevas expectativ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l proyecto se evalúa injustam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ya no estamos en el “estado del arte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han cambiado las prioridad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Hay nuevas alternativas para el proyec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 reemplaz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 crecimien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 fortalecimien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AF5-6638-4D11-89D1-E43317C919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cc0099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Hay nuevos proyec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de reemplaz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mplementari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independient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Hay nuevas formas de evaluar, formular y administrar proyectos en la organiz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i el desarrollo es interno a la organización, todos estos cambios deben ayudar a fortalecer el proceso de desarroll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Si el desarrollo es externo, se requiere que el desarrollador debe ser un tanto visionar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26BE-3E0B-458A-9633-C4C47564D3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Arial"/>
              </a:rPr>
              <a:t>E</a:t>
            </a:r>
            <a:r>
              <a:rPr b="0" lang="es-ES" sz="4400" spc="-1" strike="noStrike">
                <a:solidFill>
                  <a:srgbClr val="cc0099"/>
                </a:solidFill>
                <a:latin typeface="Arial"/>
              </a:rPr>
              <a:t>volu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Hay que tener todo esto en cuenta, desde la planificación del proyecto…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sí nos va a doler menos cuando esto ocur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. la parte buena es que si lo hemos hecho bien, las probabilidades de quedarnos con el cliente, son altas (debido principalmente a estos cambio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441-A432-4644-8B16-9E6371BCFEB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Fase de Transferencia puede verse desde el punto de vista del cliente o de la empresa desarrollado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de el punto de vista del client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la fase más importante de todo el proyecto, ya que el cliente “espera” cosechar todo lo que ha sembrado (tiempo, dinero, compromiso, etc.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trato (soporte) que reciba el cliente durante esta fase, influye directamente sobre su nivel de satisfac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hubo problemas antes, pero está fase se hace bien, el cliente olvidará los problemas previos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no hubo problemas antes, pero está fase se hace mal, el cliente olvidará los éxitos previos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72C-B47F-4D3E-B902-DCB307EED7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6080" y="1523880"/>
            <a:ext cx="8143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de el punto de vista de la empresa desarrolladora, es la posibilidad d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btener el “cheque más jugoso”…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Quedarme con el cli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btener resultados tangibles que me ayuden a mejorar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Registrar Los resultados del proceso de desarrollo deben medirse y guardarse “por escrito”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Los miembros de cada rol deben presentar un documento que indique fortalezas y debilidades detectadas con respecto a su trabajo, y al funcionamiento colectiv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Aunque al finalizar el proyecto todos evitan este trabajo, la autocrítica objetiva es fundamental para la supervivencia de mi empres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Si no la documento, el único perjudicado soy y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F53-B0EB-4A36-9212-8E0C812C479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fase de transferencia lleva una nota importante en este curso…. Háganla bie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o es importante para ustedes y para el futuro del proy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3C6-1ED9-4328-B41D-26E9A42ABA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8960" y="1599840"/>
            <a:ext cx="8375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n esta fase hay varias actividades que deben ser planificadas, coordinadas, controladas y evaluadas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Migración de Dato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apacitación de Usuario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uesta en marcha del nuevo softwar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ruebas de Usuari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Recolección y Reparación de Errore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Alternativas de Implantación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ertificación (marcha blanca, paralelos, etc.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ierre de la situación anterior (apagar equipo, botar sistema, ...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Hay que determinar la necesidad (y posibilidad) de vuelta atrás…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4E52-C3BB-4D4B-AF0B-AFB04B04AE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78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2560" y="1557000"/>
            <a:ext cx="813744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s la hora de la verdad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s también la ocasión más clara para identificar el fracaso del proyect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s necesario manejar los miedos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ifusión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apacitación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Asistencia a usuario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45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Es necesario manejar la transición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Mecanismos de “vuelta atrás”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nsistencia de los dato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raspasos entre sistema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Duplicidad en el trabaj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2C3-4CAD-420E-AC09-3C78B3C2C6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42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cc0099"/>
                </a:solidFill>
                <a:latin typeface="Tahoma"/>
              </a:rPr>
              <a:t>Etapa de transferencia</a:t>
            </a:r>
            <a:endParaRPr b="0" lang="en-US" sz="48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104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Hay que establecer un punto de quiebre, en el cual la nueva solución se transforma en definitiv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Podría cambiar la historia dentro de una organización (típicamente asociada a sistemas antiguo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Podría haber mucha resistencia por parte de los usuarios, si no se maneja bien la implantación y la difus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845-8EA4-4EB2-9F5D-0EED1DE0B7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tapa de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744200"/>
            <a:ext cx="8077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9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omo contraparte, el cliente debe firmar el documento de aceptación del produ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spcAft>
                <a:spcPts val="9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on eso se da por finalizada la relación contractual con el cl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spcAft>
                <a:spcPts val="9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... pero no el proy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spcAft>
                <a:spcPts val="90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uego de la etapa de transferencia, se debe APRENDER de proceso realiz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3521-5DAA-4D32-9893-1A2A609E8C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igración de dat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lanificar el trabajo (tiempos, recursos, etapas e hitos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o debe salir mal, pues las consecuencias podrían ser catastrófic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El modelo de datos nuevo se corresponde con el legado?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Cuáles son los procedimientos de migración de dat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En qué orden se ejecutan estos procedimiento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Cómo se valida la consistencia de datos en cada etapa de la migración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Quién está a cargo de cada actividad o proces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¿cómo volvemos atrás si, después de una semana, nos damos cuenta de que la cosa no funcion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601-31B3-472B-BF22-0FC349B447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Tahoma"/>
              </a:rPr>
              <a:t>Capacitación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Presencial, a Distancia o Mix (ver tiempos, recursos, etapas e hitos)?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(… de nuevo…) No debe salir mal, pues las consecuencias podrían ser catastróficas.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66"/>
                </a:solidFill>
                <a:latin typeface="Tahoma"/>
              </a:rPr>
              <a:t>Presencial</a:t>
            </a: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los usuarios están co-localizados o son trasladables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no son muchos usuarios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tengo y puedo co-localizar los recursos necesarios (salas, máquinas, instructores, asistentes). 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es crítico que los usuarios sepan desde el primer día manejar bien el sistema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A distancia (</a:t>
            </a:r>
            <a:r>
              <a:rPr b="1" lang="es-ES" sz="1500" spc="-1" strike="noStrike">
                <a:solidFill>
                  <a:srgbClr val="000066"/>
                </a:solidFill>
                <a:latin typeface="Tahoma"/>
              </a:rPr>
              <a:t>e-learning</a:t>
            </a: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):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los usuarios son muchos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los usuarios tienen margen de tiempo para aprender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los usuarios están distribuidos y no son trasladables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spcAft>
                <a:spcPts val="349"/>
              </a:spcAft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Cuando el Quantum de tiempo diario destinado a capacitación es pequeño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74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… </a:t>
            </a: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y un </a:t>
            </a:r>
            <a:r>
              <a:rPr b="1" lang="es-ES" sz="1500" spc="-1" strike="noStrike">
                <a:solidFill>
                  <a:srgbClr val="000066"/>
                </a:solidFill>
                <a:latin typeface="Tahoma"/>
              </a:rPr>
              <a:t>Mix</a:t>
            </a:r>
            <a:r>
              <a:rPr b="0" lang="es-ES" sz="15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15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136-3FA9-40D3-A5F9-B4E2FFC11E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Actividades de la Transfer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Capacitación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Tutoriales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basados en courseware o </a:t>
            </a: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Talleres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 usando el sistema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¿Cómo se puede garantizar que los usuarios son capaces de usar bien el sistema (garantizar que la capacitación fue efectiva)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¿Cuánto tiempo antes deben entregarse las interfaces de usuario para poder generar el material instruccional?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¿Cómo se va a distribuir el material didáctico?... Courseware, DVD, papel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…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se requiere un trabajo y un compromiso grande de los usuarios… ¿Está planificado? ¿Querrán cooperar? ¿qué pasa con mi maravilloso sistema si ellos no cooperan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¿Se entrena en base a comunidades de aprendizaje? ¿Quiénes supervisan y apoyan a estas comunidades?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337"/>
              </a:spcAft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tas son sólo algunas de las preguntas que hay que responder…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8FF-05F1-4517-8863-4E039BB70E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8T19:03:28Z</cp:lastPrinted>
  <dcterms:modified xsi:type="dcterms:W3CDTF">2005-11-03T17:11:43Z</dcterms:modified>
  <cp:revision>95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