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588B-E4C6-414F-AD3E-C1F575B1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31C-6C3E-4F7A-A1DF-14D85FFB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F0A-9287-4753-9B5A-0A7B5500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953-21C0-4F60-A2C9-0A6D1BDE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FE2-0F81-4413-A4A4-B22B6070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995-F89C-4021-B254-44C15A62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088-222A-400E-A7B1-D6A64897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927-3A9D-4677-B708-E238BFDF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440-27C7-4877-900D-6A527D7E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FD9-A014-4106-8792-E58E63B2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FC7-CB23-42D6-873A-116A5B94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FE9-ACC6-4C84-BEB9-E32F4C6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345C-0AF0-4C21-A353-AFF220F5BE9A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220464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Puesta a Punto y Entrega del Producto (Transferenci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Puesta en marcha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aralelo o reemplazo (ver tiempos, recursos, etapas e hitos)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Paralelo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Cómo hago convivir los legados con los nuevos sistemas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Cómo verifico la correspondencia de datos entre ambos escenarios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Reemplazo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… </a:t>
            </a: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va a haber incendios… Cómo los pienso apagar? En cuánto tiempo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Qué pasa si el reemplazo no funciona?. Por ejemplo, la BD colapsa durante un peak, por fálta de índices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l costo de volver atrás es </a:t>
            </a: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altísimo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…. La etapa de transferencia no puede salir mal!!!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E2DA-1666-4ABE-A0E2-F04060EF68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A8B-AD6E-4DE0-A8CE-3EF6A8A945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uego de la etapa de codificación se deben entregar 2 document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TD (Software Transfer Document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HD (Project History Document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 el STD se debería describir todo el proceso de transferencia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a etapa culmina con: la puesta en producción del producto, y entrega del PH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89B-518C-4D64-8066-62A5CBC95B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e documento se le entregará al CLIENTE, en papel, y en formato digit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estructura del documento es la sigui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1. Identificación del Proyecto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Es la carátula del informe, compuesta por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Especificación del tipo de informe (Documento Histórico del Proyecto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Nombre del proyect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Fecha de términ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2.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Índice General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F5D-5903-4B3C-82E1-7F88930639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1523520"/>
            <a:ext cx="8304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3. Grupo de Trabajo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4 Documentos de Análisi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4.1. URD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4.2. SRD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5 Documento de Diseño.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djunta el DD con el formato estableci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6 Documento de Pruebas.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djuntan las pruebas diseñadas para verificar el cumplimiento de los requisitos de software y de usuario. Este documento incluye un resumen del estado de cumplimiento de los requisi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Tahoma"/>
              </a:rPr>
              <a:t>Listado: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Id reg., tipo req., relevancia, nivel de cumplimiento actual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015-2988-4587-9806-74CAB5D1FD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7 Código Fuent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 Debe colocarse el código fuente del product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El código debe estar “comentariado” como para que pueda ser mantenid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8. Indicaciones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8.1. Proceso de instalación del software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8.2. Proceso de operación de software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3AD-42DD-43DD-A58A-FB69A87755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trega Final del Produ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64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día de la ENTREGA FINAL, el desarrollador deberá entregar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l Cliente, lo siguiente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La base de datos del sistema, migrada (si corresponde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C18-CC82-431F-B8BD-3B66F70AE8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lgunos ítems para la reflexión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ieron los cost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y los tiemp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o la calidad del produ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o la satisfacción del cliente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qué tipo de información guardé a cerca de mi proces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me sirve esa información para futuros desarroll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qué tanto depende mi empresa, del equipo de trabaj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uáles fueron los errores más dañinos para el proye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6F0-4952-47F7-8B8B-FC0299A4EF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uál fue su origen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uáles fueron los problemas externos que más afectaron al proye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voy a manejar estos problemas o debilidades durante el próximo proye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o la comunicación al interior del grup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se puede mejorar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de comportó la tecnología emplead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necesito nuevas herramienta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B6B-0DED-4D7E-AB17-89B4D2FC3D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cómo estuvo la fase de transferencia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en que se puede mejorar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cómo sacarle más provecho al desarrollo realizad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se puede empaquetar el product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qué necesito para hacerl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43A-3D2A-4593-BE30-1E1B2226AC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La Etapa de Transferen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Qué Dice el Estándar de la ES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l Documento Histórico del Proyecto (PHD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ntrega Fin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prendizaje Post-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ierre del 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volu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D39-62D7-4CD9-BE49-65089C13AE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Acto </a:t>
            </a:r>
            <a:r>
              <a:rPr b="0" i="1" lang="es-ES" sz="2000" spc="-1" strike="noStrike">
                <a:solidFill>
                  <a:srgbClr val="cc0099"/>
                </a:solidFill>
                <a:latin typeface="Arial"/>
              </a:rPr>
              <a:t>formal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ben estar claras las </a:t>
            </a:r>
            <a:r>
              <a:rPr b="0" i="1" lang="es-ES" sz="2000" spc="-1" strike="noStrike">
                <a:solidFill>
                  <a:srgbClr val="cc0099"/>
                </a:solidFill>
                <a:latin typeface="Arial"/>
              </a:rPr>
              <a:t>condiciones de cierre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s-ES" sz="2000" spc="-1" strike="noStrike">
                <a:solidFill>
                  <a:srgbClr val="000066"/>
                </a:solidFill>
                <a:latin typeface="Arial"/>
              </a:rPr>
              <a:t>aceptación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pos de cierre (normal, formal, negociado, político, ...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FFA-A482-43D2-B04B-404E190598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ifusión del cierre y del futuro (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¿cuál será nuestro rol en el proyecto implantado?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e requiere la formalización correspondiente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(actas, contratos, pago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dentificación de aspectos pendientes, importancia y prioriz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uele haber negociación y realización de ajus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fectos futuros del proyecto (mantención y/o evolució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Nuevos proyectos surgidos a partir de éste?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EC5D-F09A-40B7-92CD-0D46C21692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cc0099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Al término del proyecto todo ha cambi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n particular hay nuevas expectativ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l proyecto se evalúa injustam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ya no estamos en el “estado del arte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n cambiado las prioridad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y nuevas alternativas para el 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reemplaz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crecimi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fortalecimi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5A0-5939-4F70-A591-3DAAB32B501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cc0099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y nuevos proye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reemplaz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mplementari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dependient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CDD3-0F66-4CDE-9D71-E293BA5514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cc0099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Hay que tener todo esto en cuenta, desde la planificación del proyecto…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sí nos va a doler menos cuando esto ocur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606-5DED-4085-9A5B-6197AF4BA7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de el punto de vista del cli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C330-E84D-4767-8D59-75A9942749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de el punto de vista de la empresa desarrolladora, es la posibilidad d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btener el “cheque más jugoso”…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Quedarme con el cli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btener resultados tangibles que me ayuden a mejorar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Si no la documento, el único perjudicado soy y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402-D62D-4E09-8D91-BE3F10E45A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o es importante para ustedes y para el futuro del proy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847-E884-403E-B966-7163F22F58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Migración de Dat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apacitación de Usuari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uesta en marcha del nuevo softwar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ruebas de Usuari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Recolección y Reparación de Errore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Alternativas de Implantació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ertificación (marcha blanca, paralelos, etc.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ierre de la situación anterior (apagar equipo, botar sistema, ...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Hay que determinar la necesidad (y posibilidad) de vuelta atrás…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085-C1CC-4A84-9F6E-DD8EBAF287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la hora de la verdad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también la ocasión más clara para identificar el fracaso del proyect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necesario manejar los miedos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ifusión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apacitación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Asistencia a usuari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necesario manejar la transició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Mecanismos de “vuelta atrás”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nsistencia de los dat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raspasos entre sistema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uplicidad en el trabaj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58F-CBFB-43A4-BA30-315F0FBB04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04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AF1-5CA5-4316-8E35-81C6ACF62B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mo contraparte, el cliente debe firmar el documento de aceptación del produ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n eso se da por finalizada la relación contractual con el cl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... pero no el proy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uego de la etapa de transferencia, se debe APRENDER de proceso realiz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1D6-DBCA-4465-90FB-31973162AC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igración de dat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lanificar el trabajo (tiempos, recursos, etapas e hito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o debe salir mal, pues las consecuencias podrían ser catastrófic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El modelo de datos nuevo se corresponde con el legado?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Cuáles son los procedimientos de migración de dat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En qué orden se ejecutan estos procedimient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Cómo se valida la consistencia de datos en cada etapa de la migración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Quién está a cargo de cada actividad o proces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55D-438E-4EE4-BA00-7EC98107CE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ahoma"/>
              </a:rPr>
              <a:t>Capacitación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Presencial, a Distancia o Mix (ver tiempos, recursos, etapas e hitos)?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66"/>
                </a:solidFill>
                <a:latin typeface="Tahoma"/>
              </a:rPr>
              <a:t>Presencial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están co-localizados o son trasladable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no son muchos usuario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A distancia (</a:t>
            </a:r>
            <a:r>
              <a:rPr b="1" lang="es-ES" sz="1500" spc="-1" strike="noStrike">
                <a:solidFill>
                  <a:srgbClr val="000066"/>
                </a:solidFill>
                <a:latin typeface="Tahoma"/>
              </a:rPr>
              <a:t>e-learning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):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son mucho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tienen margen de tiempo para aprender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están distribuidos y no son trasladable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el Quantum de tiempo diario destinado a capacitación es pequeño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… 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y un </a:t>
            </a:r>
            <a:r>
              <a:rPr b="1" lang="es-ES" sz="1500" spc="-1" strike="noStrike">
                <a:solidFill>
                  <a:srgbClr val="000066"/>
                </a:solidFill>
                <a:latin typeface="Tahoma"/>
              </a:rPr>
              <a:t>Mix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3E2-9280-405B-8A72-2594A76965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Capacitació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Tutoriales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basados en courseware o </a:t>
            </a: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Talleres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usando el sistema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Cómo se va a distribuir el material didáctico?... Courseware, DVD, papel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as son sólo algunas de las preguntas que hay que responder…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ACC4-6670-4E7F-BE14-FFC0ECF6EE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8T19:03:28Z</cp:lastPrinted>
  <dcterms:modified xsi:type="dcterms:W3CDTF">2005-11-03T17:11:43Z</dcterms:modified>
  <cp:revision>95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