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B96-5F30-41E2-9428-E3631C5B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1BB7-E821-49B2-9A55-8D2FE0C9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CC6-A3FA-4F39-8B80-29AE850E7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FB6-1D00-4363-BD97-88395236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7E99-D9FB-476F-9470-3A4D9D70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80A0-565A-45D3-938F-8828E5A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FE5-397C-4BF6-BED1-2FC74367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3625-5485-488D-BD50-4077C70B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46D-0C87-4F94-9022-CCCFE0B8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6253-818F-4110-A8D4-E26B0FB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91F6-3E21-47A6-A176-E2EC8877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F63-0951-4246-84A3-AAED8C21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03C5-9F05-4B77-8352-3928C9A69AF5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erivación de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ocedure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úsqueda (Key: ELEM; T:ELEM_ARRAY;Found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BOOLEAN; L: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in out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ELEM_INDEX);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re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array tiene al menos un element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Post-condition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--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l elemento se encontró y es apuntado por L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(L) = Ke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or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--el elemento no está en el array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190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Found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not (exist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 | T.First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i </a:t>
            </a:r>
            <a:r>
              <a:rPr b="0" lang="es-MX" sz="1400" spc="-1" strike="noStrike">
                <a:solidFill>
                  <a:srgbClr val="000066"/>
                </a:solidFill>
                <a:latin typeface="Symbol"/>
                <a:ea typeface="Symbol"/>
              </a:rPr>
              <a:t>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 T.Last </a:t>
            </a:r>
            <a:r>
              <a:rPr b="1" lang="es-MX" sz="1400" spc="-1" strike="noStrike">
                <a:solidFill>
                  <a:srgbClr val="000066"/>
                </a:solidFill>
                <a:latin typeface="Tahoma"/>
              </a:rPr>
              <a:t>and </a:t>
            </a: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T(i) = Key)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04920" y="411480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procedimiento está especificado con sus parámetros, sus precondiciones y sus postcond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 la especificación pueden derivarse dos clases de equivalenci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está en el array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tradas donde el elemento buscado no está en el arra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1600200"/>
            <a:ext cx="8229600" cy="228600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655F-0DCC-49D8-8F14-871303753C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ec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obar los programas con arrays de un solo element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distintas pruebas con arrays de distinto tamañ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rivar las pruebas de modo que al menos el primer, el último y un elemento del medio del array son accedid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8320" y="2097000"/>
          <a:ext cx="4000320" cy="1865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97000"/>
                    <a:ext cx="400032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79960" y="4267080"/>
          <a:ext cx="5116320" cy="1741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179960" y="4267080"/>
                    <a:ext cx="511632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958-2B5B-47B1-85E9-C3DEACD708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pruebas de caja blanca son complementarias a las de caja neg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encargado de las pruebas deriva los datos de prueba de la estructura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pendiendo de la estructura del código, podemos saber cuantas pruebas son necesarias para tener una “cobertura completa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1640" y="5029200"/>
            <a:ext cx="4419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Cuántas pruebas son necesari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3581280"/>
            <a:ext cx="1447560" cy="60984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ódigo de l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15200" y="3581280"/>
            <a:ext cx="14479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alida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las Prueb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2438280"/>
            <a:ext cx="144756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8" idx="0"/>
            <a:endCxn id="140" idx="2"/>
          </p:cNvCxnSpPr>
          <p:nvPr/>
        </p:nvCxnSpPr>
        <p:spPr>
          <a:xfrm flipV="1">
            <a:off x="5829120" y="3047400"/>
            <a:ext cx="1080" cy="5338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1"/>
            <a:endCxn id="138" idx="1"/>
          </p:cNvCxnSpPr>
          <p:nvPr/>
        </p:nvCxnSpPr>
        <p:spPr>
          <a:xfrm flipH="1" flipV="1" rot="10800000">
            <a:off x="5105160" y="2742120"/>
            <a:ext cx="2160" cy="11437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3"/>
            <a:endCxn id="139" idx="1"/>
          </p:cNvCxnSpPr>
          <p:nvPr/>
        </p:nvCxnSpPr>
        <p:spPr>
          <a:xfrm>
            <a:off x="6552720" y="388584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67920" y="312408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riv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79000" y="3124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plic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62B-886D-4F0B-9464-FD2334CDCE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structurales o de Caja Blanc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053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ejemplo, la condición del while sugiere analizar dos cas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el caso de igualdad, el loop no se ejecuta; cuando son diferentes se ejecut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imer conjunto de prueba “completo”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3, y = 3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802440" indent="-2797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= 4, y = 5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uego vemos que es necesario analizar </a:t>
            </a:r>
            <a:br>
              <a:rPr sz="2000"/>
            </a:b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&gt; y y también x &lt; y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905120"/>
            <a:ext cx="2895480" cy="3809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20A-F72E-4DDA-A214-0B240E0041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emis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defecto no puede descubrirse si no se ejecuta esa parte del códig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riterio de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bertura de instruccione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consiste en proveer un conjunto de pruebas tales que todas las instrucciones del programa sean ejecutadas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lgunos problem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que una instrucción ejecute correctamente una vez no garantiza que siempre será correct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enguajes de programación con estructuras anidadas no es claro que significa ejecutar todas las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signaciones, E/S, llamadas a procedimient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43AF-9444-4B53-BE9E-5284394B81C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r un conjunto de pruebas T tal que, ejecutando el programa P para cada elemento d en T, cada instrucción de P es ejecutada al menos una vez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8520" indent="-30852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uso de un dato del conjunto de prueba puede hacer ejecutar varias instru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veniente hallar el menor conjunto que cumpla con el criterio de cobertura de instruc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2, y=3&gt;,&lt;x=-13, y=51&gt;,&lt;x=97, y=17&gt;, &lt;x=-1,y=-1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68520" indent="-2570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-13, y=51&gt;, &lt;x=2, y=-3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629400" y="2285640"/>
            <a:ext cx="2362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1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2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y &g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3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write (“4”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09680"/>
            <a:ext cx="2286000" cy="350532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38D-2630-480E-A350-9C2ADBD11A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la Cobertura de Instruc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f x &lt; 0 the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-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z := x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74284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cutar todas las instrucciones no siempre implica detectar todos l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n instrucciones implícitas que también debieran ser cubiertas para tener completitud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 un valor de x negativo tenemos que en el primer caso se ejecutan todas las instrucciones, pero realmente no sabemos como se comporta para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 la versión extendida vemos que sólo con un valor negativo no se estaría ejecutando el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nul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981080"/>
            <a:ext cx="1676520" cy="1447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657600"/>
            <a:ext cx="1676520" cy="2133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3A9-5251-4271-9158-0D5BA21D5D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Grafo de Flujo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ado un programa P, su grafo de flujo de control G</a:t>
            </a:r>
            <a:r>
              <a:rPr b="0" lang="es-MX" sz="2200" spc="-1" strike="noStrike" baseline="-25000">
                <a:solidFill>
                  <a:srgbClr val="000066"/>
                </a:solidFill>
                <a:latin typeface="Tahoma"/>
              </a:rPr>
              <a:t>P</a:t>
            </a: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 se construye de la siguiente for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ara cada instrucción de E/S, asignación o llamada a procedimiento, se pone un arco entre dos nodos (inicio y fin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ondicionales se anotan como dos arcos saliendo de un nod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ciclos son grafos que luego de ejecutados un arco los retorna a su nodo de part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964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uede construirse un grafo de flujo para cualquier programa escrito en un lenguaje declarativ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6553080" y="24382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3429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64" idx="4"/>
            <a:endCxn id="165" idx="0"/>
          </p:cNvCxnSpPr>
          <p:nvPr/>
        </p:nvCxnSpPr>
        <p:spPr>
          <a:xfrm>
            <a:off x="6705360" y="2742840"/>
            <a:ext cx="1080" cy="686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7950240" y="1143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930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07440" y="18288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930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407440" y="32004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8" idx="2"/>
            <a:endCxn id="170" idx="2"/>
          </p:cNvCxnSpPr>
          <p:nvPr/>
        </p:nvCxnSpPr>
        <p:spPr>
          <a:xfrm flipH="1" flipV="1" rot="10800000">
            <a:off x="74926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8" idx="6"/>
            <a:endCxn id="170" idx="6"/>
          </p:cNvCxnSpPr>
          <p:nvPr/>
        </p:nvCxnSpPr>
        <p:spPr>
          <a:xfrm>
            <a:off x="77979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9" idx="2"/>
            <a:endCxn id="171" idx="2"/>
          </p:cNvCxnSpPr>
          <p:nvPr/>
        </p:nvCxnSpPr>
        <p:spPr>
          <a:xfrm flipH="1" flipV="1" rot="10800000">
            <a:off x="8407080" y="19807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9" idx="6"/>
            <a:endCxn id="171" idx="6"/>
          </p:cNvCxnSpPr>
          <p:nvPr/>
        </p:nvCxnSpPr>
        <p:spPr>
          <a:xfrm>
            <a:off x="8712360" y="19810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8026560" y="39625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7" idx="3"/>
            <a:endCxn id="168" idx="7"/>
          </p:cNvCxnSpPr>
          <p:nvPr/>
        </p:nvCxnSpPr>
        <p:spPr>
          <a:xfrm flipH="1">
            <a:off x="775296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7" idx="5"/>
            <a:endCxn id="169" idx="1"/>
          </p:cNvCxnSpPr>
          <p:nvPr/>
        </p:nvCxnSpPr>
        <p:spPr>
          <a:xfrm>
            <a:off x="8210520" y="14029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5"/>
            <a:endCxn id="176" idx="1"/>
          </p:cNvCxnSpPr>
          <p:nvPr/>
        </p:nvCxnSpPr>
        <p:spPr>
          <a:xfrm>
            <a:off x="7753320" y="34603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1" idx="3"/>
            <a:endCxn id="176" idx="7"/>
          </p:cNvCxnSpPr>
          <p:nvPr/>
        </p:nvCxnSpPr>
        <p:spPr>
          <a:xfrm flipH="1">
            <a:off x="8286480" y="34603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74271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41560" y="24382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2920" y="38098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05720" y="44956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5867280"/>
            <a:ext cx="30456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84" idx="2"/>
            <a:endCxn id="185" idx="2"/>
          </p:cNvCxnSpPr>
          <p:nvPr/>
        </p:nvCxnSpPr>
        <p:spPr>
          <a:xfrm flipH="1" flipV="1" rot="10800000">
            <a:off x="6705360" y="464796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4" idx="6"/>
            <a:endCxn id="185" idx="6"/>
          </p:cNvCxnSpPr>
          <p:nvPr/>
        </p:nvCxnSpPr>
        <p:spPr>
          <a:xfrm>
            <a:off x="7009920" y="4648320"/>
            <a:ext cx="252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4" idx="7"/>
          </p:cNvCxnSpPr>
          <p:nvPr/>
        </p:nvCxnSpPr>
        <p:spPr>
          <a:xfrm flipH="1">
            <a:off x="6965640" y="407016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6639480" y="510552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r>
              <a:rPr b="0" lang="es-MX" sz="2400" spc="-1" strike="noStrike" baseline="-25000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5" idx="5"/>
            <a:endCxn id="183" idx="5"/>
          </p:cNvCxnSpPr>
          <p:nvPr/>
        </p:nvCxnSpPr>
        <p:spPr>
          <a:xfrm flipH="1" flipV="1" rot="5400000">
            <a:off x="6165720" y="4870080"/>
            <a:ext cx="2057760" cy="457920"/>
          </a:xfrm>
          <a:prstGeom prst="curvedConnector5">
            <a:avLst>
              <a:gd name="adj1" fmla="val -21749"/>
              <a:gd name="adj2" fmla="val 49960"/>
              <a:gd name="adj3" fmla="val -21749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8553-F8EF-42A2-876B-2031D79A6E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Arc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prueba T tal que, ejecutando P para todo d en T, cada arco del grafo de control de flujo de P es atravesado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conjuntos de prueba que satisfacen el criterio de cobertura de arcos hacen ejecutar todas las condicione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verdadero y falso para todos los cas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criterio de cobertura de arcos es más poderoso que el de cobertura de instru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139-DBAE-447D-A51F-BED75A36F0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763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jemplo: MCD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54100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¿Qué cobertura tiene el siguiente conjunto de prueba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{&lt;x=3, y=3&gt;, &lt;x=4, y=5&gt;}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600200"/>
            <a:ext cx="274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ad (x); read (y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while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x &gt; y </a:t>
            </a: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 := x - y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 := y -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if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endloop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CD := x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nd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1523880"/>
            <a:ext cx="2895480" cy="3810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08840" y="16002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16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66040" y="22860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516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66040" y="3657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0" idx="2"/>
          </p:cNvCxnSpPr>
          <p:nvPr/>
        </p:nvCxnSpPr>
        <p:spPr>
          <a:xfrm flipH="1" flipV="1" rot="10800000">
            <a:off x="65512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6"/>
            <a:endCxn id="200" idx="6"/>
          </p:cNvCxnSpPr>
          <p:nvPr/>
        </p:nvCxnSpPr>
        <p:spPr>
          <a:xfrm>
            <a:off x="68565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9" idx="2"/>
            <a:endCxn id="201" idx="2"/>
          </p:cNvCxnSpPr>
          <p:nvPr/>
        </p:nvCxnSpPr>
        <p:spPr>
          <a:xfrm flipH="1" flipV="1" rot="10800000">
            <a:off x="7465680" y="2437920"/>
            <a:ext cx="2160" cy="137232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9" idx="6"/>
            <a:endCxn id="201" idx="6"/>
          </p:cNvCxnSpPr>
          <p:nvPr/>
        </p:nvCxnSpPr>
        <p:spPr>
          <a:xfrm>
            <a:off x="7770960" y="2438280"/>
            <a:ext cx="2160" cy="137232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085160" y="4419720"/>
            <a:ext cx="30456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97" idx="3"/>
            <a:endCxn id="198" idx="7"/>
          </p:cNvCxnSpPr>
          <p:nvPr/>
        </p:nvCxnSpPr>
        <p:spPr>
          <a:xfrm flipH="1">
            <a:off x="681156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7" idx="5"/>
            <a:endCxn id="199" idx="1"/>
          </p:cNvCxnSpPr>
          <p:nvPr/>
        </p:nvCxnSpPr>
        <p:spPr>
          <a:xfrm>
            <a:off x="7269120" y="1860120"/>
            <a:ext cx="241920" cy="4705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09" name=""/>
          <p:cNvCxnSpPr>
            <a:stCxn id="200" idx="5"/>
            <a:endCxn id="206" idx="1"/>
          </p:cNvCxnSpPr>
          <p:nvPr/>
        </p:nvCxnSpPr>
        <p:spPr>
          <a:xfrm>
            <a:off x="6811920" y="3917520"/>
            <a:ext cx="31788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1" idx="3"/>
            <a:endCxn id="206" idx="7"/>
          </p:cNvCxnSpPr>
          <p:nvPr/>
        </p:nvCxnSpPr>
        <p:spPr>
          <a:xfrm flipH="1">
            <a:off x="7345080" y="3917520"/>
            <a:ext cx="165600" cy="5464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415560" y="29368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g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983280" y="762120"/>
            <a:ext cx="304920" cy="3045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4"/>
            <a:endCxn id="197" idx="0"/>
          </p:cNvCxnSpPr>
          <p:nvPr/>
        </p:nvCxnSpPr>
        <p:spPr>
          <a:xfrm>
            <a:off x="7135920" y="1066680"/>
            <a:ext cx="25920" cy="5342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6" idx="2"/>
            <a:endCxn id="212" idx="2"/>
          </p:cNvCxnSpPr>
          <p:nvPr/>
        </p:nvCxnSpPr>
        <p:spPr>
          <a:xfrm rot="10800000">
            <a:off x="6982560" y="913680"/>
            <a:ext cx="102600" cy="3658320"/>
          </a:xfrm>
          <a:prstGeom prst="curvedConnector5">
            <a:avLst>
              <a:gd name="adj1" fmla="val 1182746"/>
              <a:gd name="adj2" fmla="val 49995"/>
              <a:gd name="adj3" fmla="val 1182746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086600" y="518148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6"/>
            <a:endCxn id="215" idx="6"/>
          </p:cNvCxnSpPr>
          <p:nvPr/>
        </p:nvCxnSpPr>
        <p:spPr>
          <a:xfrm>
            <a:off x="7287840" y="914040"/>
            <a:ext cx="104040" cy="4420440"/>
          </a:xfrm>
          <a:prstGeom prst="curvedConnector5">
            <a:avLst>
              <a:gd name="adj1" fmla="val 1059722"/>
              <a:gd name="adj2" fmla="val 50000"/>
              <a:gd name="adj3" fmla="val 1059722"/>
            </a:avLst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7329960" y="289548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&lt;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240" y="1144440"/>
            <a:ext cx="6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</a:t>
            </a:r>
            <a:r>
              <a:rPr b="0" lang="es-MX" sz="2000" spc="-1" strike="noStrike">
                <a:solidFill>
                  <a:srgbClr val="000066"/>
                </a:solidFill>
                <a:latin typeface="Symbol"/>
                <a:ea typeface="Symbol"/>
              </a:rPr>
              <a:t>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15760" y="137016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x=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97760" y="5943600"/>
            <a:ext cx="304920" cy="3049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215" idx="4"/>
            <a:endCxn id="220" idx="0"/>
          </p:cNvCxnSpPr>
          <p:nvPr/>
        </p:nvCxnSpPr>
        <p:spPr>
          <a:xfrm>
            <a:off x="7238520" y="5486400"/>
            <a:ext cx="118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1DA-8489-492B-B6AA-2CE8B4E168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Objetivos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de software es buena si revela la existencia de un defe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ueba no sólo busca comprobar si el software satisface sus requerimientos, sino también si tiene o no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exhaustivas son impracticabl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on car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levan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uchas veces son teóricamente infinit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389-D93A-4BD2-A6BA-4EA8D6CE1E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240" y="2514600"/>
            <a:ext cx="48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fals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num_items &lt;&gt; 0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while (not found) and counter &lt; num_items loop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table (couter) = elem th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found := true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counter := counter + 1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loop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if found then write (“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lse write (“no encontrado”);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endif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upongamos que elegimos el siguiente conjunto de prueb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sin element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no se ejecuta el loop;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tabla con tres elementos, el segundo elemento es el buscad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l loop se ejecuta 2 veces, una vez sin ejecutar el then y luego ejecutándolo,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62080" indent="-22860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 satisface el criterio de cobertura de ar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2514600"/>
            <a:ext cx="4780080" cy="33624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CBD-9D8B-4BC9-8C4E-51E3BF89B4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Cobertura de Condi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fini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leccionar un conjunto de datos de prueba T tal que, ejecutando P para cada elemento de T, cada arco del grafo de control de P se atraviesa al menos una vez, y todos los valores posibles de las componentes de las condiciones compuestas se prueban al menos una ve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763-6D33-46B9-A0BE-36E87F457D62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olític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el sistema es más importante que probar sus componente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quieren usar el sistema para ciertos objetivos y el sistema debe asegurar que estos objetivos podrán logrars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as antiguas características es más importante que probar las nuevas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usuarios pueden prescindir de la nueva funcionalidad, pero no de la que ya estaban usando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obar los casos típicos es más importante que probar los casos lími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muy grave que el sistema no funcione en condiciones normal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7EC-28E1-4232-92F3-30B6EB724D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nfoques de Prueba de Defec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uncional o de caja neg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especificación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uctural o de caja blan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iseñan de acuerdo con la estructura e implementación de cada progra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ruebas de interfaz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pruebas se derivan de la funcionalidad esperada y el conocimiento disponible de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A22-40FB-4062-9469-1A06579B8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Tipos de Pruebas y Responsab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4876920"/>
            <a:ext cx="167652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4876920"/>
            <a:ext cx="1676160" cy="68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idades 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Funcion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505320"/>
            <a:ext cx="167652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48520" y="3505320"/>
            <a:ext cx="1676160" cy="6094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structura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248520" y="2133720"/>
            <a:ext cx="1676160" cy="609480"/>
          </a:xfrm>
          <a:prstGeom prst="flowChartAlternateProcess">
            <a:avLst/>
          </a:prstGeom>
          <a:solidFill>
            <a:srgbClr val="6ddb6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quip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Desarrol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6" idx="2"/>
            <a:endCxn id="53" idx="0"/>
          </p:cNvCxnSpPr>
          <p:nvPr/>
        </p:nvCxnSpPr>
        <p:spPr>
          <a:xfrm>
            <a:off x="18284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59" name=""/>
          <p:cNvCxnSpPr>
            <a:stCxn id="57" idx="2"/>
            <a:endCxn id="55" idx="0"/>
          </p:cNvCxnSpPr>
          <p:nvPr/>
        </p:nvCxnSpPr>
        <p:spPr>
          <a:xfrm>
            <a:off x="7086240" y="27428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</a:ln>
        </p:spPr>
      </p:cxnSp>
      <p:cxnSp>
        <p:nvCxnSpPr>
          <p:cNvPr id="60" name=""/>
          <p:cNvCxnSpPr>
            <a:stCxn id="56" idx="2"/>
            <a:endCxn id="54" idx="0"/>
          </p:cNvCxnSpPr>
          <p:nvPr/>
        </p:nvCxnSpPr>
        <p:spPr>
          <a:xfrm>
            <a:off x="1828440" y="274284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1" name=""/>
          <p:cNvCxnSpPr>
            <a:stCxn id="57" idx="2"/>
            <a:endCxn id="54" idx="0"/>
          </p:cNvCxnSpPr>
          <p:nvPr/>
        </p:nvCxnSpPr>
        <p:spPr>
          <a:xfrm flipH="1">
            <a:off x="4419720" y="274284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prstDash val="dash"/>
            <a:miter/>
          </a:ln>
        </p:spPr>
      </p:cxnSp>
      <p:cxnSp>
        <p:nvCxnSpPr>
          <p:cNvPr id="62" name=""/>
          <p:cNvCxnSpPr>
            <a:stCxn id="53" idx="2"/>
            <a:endCxn id="50" idx="0"/>
          </p:cNvCxnSpPr>
          <p:nvPr/>
        </p:nvCxnSpPr>
        <p:spPr>
          <a:xfrm>
            <a:off x="18284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51" idx="0"/>
          </p:cNvCxnSpPr>
          <p:nvPr/>
        </p:nvCxnSpPr>
        <p:spPr>
          <a:xfrm>
            <a:off x="441936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5" idx="2"/>
            <a:endCxn id="52" idx="0"/>
          </p:cNvCxnSpPr>
          <p:nvPr/>
        </p:nvCxnSpPr>
        <p:spPr>
          <a:xfrm>
            <a:off x="7086240" y="411444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408-8BB1-44FE-BA27-47C5F2EB60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par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mpíricamente se comparó la eficacia de las pruebas estructurales y de caja negra (1987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Se halló que las pruebas de caja negra son más efectiv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Pero la tasa de detección (número de falla descubiertas por unidad de tiempo)  es simil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También se vio que las revisiones estáticas de código (walkthrough) son más efectivas y más baratas que cualquier tipo de pruebas de defe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ta idea de que las revisiones e inspecciones de código y documentos son más eficientes, está confirmada por otros estudios posteriores (1993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A09-7A3D-460E-962C-3B30E3E86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ruebas de Caja Neg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s pruebas de caja negra dependen de la especificación del sistema o componente para derivar los casos de prueb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Es sistema es una “caja negra” cuyo comportamiento sólo se conoce a través de la salida que produce para cada dato de entr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La clave es seleccionar las entradas que tengan una mayor probabilidad de pertenecer al conjunto I</a:t>
            </a:r>
            <a:r>
              <a:rPr b="0" lang="es-CL" sz="2400" spc="-1" strike="noStrike" baseline="-25000">
                <a:solidFill>
                  <a:srgbClr val="000066"/>
                </a:solidFill>
                <a:latin typeface="Tahoma"/>
              </a:rPr>
              <a:t>e.</a:t>
            </a:r>
            <a:r>
              <a:rPr b="0" lang="es-C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2514600"/>
            <a:ext cx="2895840" cy="762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266688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52280" y="266688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35000" y="1523880"/>
            <a:ext cx="18799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provoca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comportamien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rróne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8076960" y="2133720"/>
            <a:ext cx="15228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4648320"/>
            <a:ext cx="2895840" cy="7617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800600"/>
            <a:ext cx="990360" cy="533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O</a:t>
            </a:r>
            <a:r>
              <a:rPr b="0" lang="es-CL" sz="1600" spc="-1" strike="noStrike" baseline="-25000">
                <a:solidFill>
                  <a:srgbClr val="000066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52280" y="4800600"/>
            <a:ext cx="10051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atos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57560" y="5775480"/>
            <a:ext cx="15249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que revelan 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presencia 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8229240" y="5257800"/>
            <a:ext cx="22860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3733920"/>
            <a:ext cx="167616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10280" y="304812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924680" y="3124080"/>
            <a:ext cx="15264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7086240" y="4114800"/>
            <a:ext cx="228600" cy="6858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48720" y="4114800"/>
            <a:ext cx="228600" cy="7621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FAF-4367-4180-A11D-054AD582B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Partición e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En general, los datos de entrada pueden dividirse en clases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Números positivos, cero y números negativ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Strings sin blancos y strings con blanc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19960" indent="-22392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Tahoma"/>
              </a:rPr>
              <a:t>Datos ordenados o datos desordenado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Los programas se comportan en forma similar para todos los datos de una misma clase de equivalenci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Una forma sistemática de hacer pruebas de defectos consiste en identificar estas clases de equivalencia y crear datos de todas las clases de entrada y prever la clase de datos de sali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1600200"/>
            <a:ext cx="2666880" cy="16765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4648320"/>
            <a:ext cx="2666880" cy="16761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22860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4382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77320" y="1828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29600" y="1981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1880" y="21337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514600"/>
            <a:ext cx="1066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entradas invá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5105520"/>
            <a:ext cx="457200" cy="304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48720" y="525780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01000" y="5410080"/>
            <a:ext cx="45720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5791320"/>
            <a:ext cx="10670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Tahoma"/>
              </a:rPr>
              <a:t>salida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3809880"/>
            <a:ext cx="16765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ahoma"/>
              </a:rPr>
              <a:t>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96080" y="3276720"/>
            <a:ext cx="0" cy="53316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96080" y="419112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AFD-69DC-444E-8F5C-7604EABC45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con Clases de Equival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sistemas suelen desarrollarse con la idea de la utilización normal y no se prevé qué sucederá en otros cas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vez identificadas las clases de equivalencia, se eligen casos de prueba de cada clas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el “centro” de la clase o casos típic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os en los “bordes” de la clase o casos rar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6708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acepta entre 4 y 8 entradas, que son enteros de 5 dígitos mayores que 10000”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69680" indent="-268200"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partición debe probarse con distintas combinaciones en las otras parti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4876920" y="3352680"/>
            <a:ext cx="3886200" cy="1493640"/>
            <a:chOff x="4876920" y="3352680"/>
            <a:chExt cx="3886200" cy="1493640"/>
          </a:xfrm>
        </p:grpSpPr>
        <p:sp>
          <p:nvSpPr>
            <p:cNvPr id="112" name=""/>
            <p:cNvSpPr/>
            <p:nvPr/>
          </p:nvSpPr>
          <p:spPr>
            <a:xfrm>
              <a:off x="487692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en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2200" y="4541760"/>
              <a:ext cx="129528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Entre 10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y 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67480" y="4541760"/>
              <a:ext cx="1295640" cy="3045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Mayor qu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588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7360" y="355104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4852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65720" y="342864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81680" y="408456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18000" y="385596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5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1520" y="3627360"/>
              <a:ext cx="0" cy="9144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64120" y="3474720"/>
              <a:ext cx="65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99.99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43800" y="3398760"/>
              <a:ext cx="0" cy="11430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95560" y="3352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66"/>
                  </a:solidFill>
                  <a:latin typeface="Tahoma"/>
                </a:rPr>
                <a:t>100.00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721A-8BE1-4CF8-B8CC-81F5ECAEB9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8T19:03:28Z</cp:lastPrinted>
  <dcterms:modified xsi:type="dcterms:W3CDTF">2004-11-18T22:43:57Z</dcterms:modified>
  <cp:revision>90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