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1B7-E20D-4767-A478-A651A8C8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ECD-48CC-4794-AAFB-B93B0CD9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2E5-F18F-4A66-A248-183A3C72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DFC-1DF7-4950-A987-F3EC47BD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2FB-1F84-411A-9850-A81321A1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48D-72C7-40E7-80D7-6261AA44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27F-993C-4346-ACAF-32537AF6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683-04C6-4629-8648-C668AB74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0AC2-71EB-4D8E-A805-C6A886F8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43E-8156-4A33-BA8C-F30BD7CF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AB5-B92D-4893-B639-50D3A5F1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FBDE-7D34-4EF1-A638-76857A29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D103-8534-440B-931E-56F8292E315D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Defec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erivación de Clas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procedure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Búsqueda (Key: ELEM; T:ELEM_ARRAY;Found: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in out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BOOLEAN; L: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in out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ELEM_INDEX);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Pre-condition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--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l array tiene al menos un elemento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.First </a:t>
            </a:r>
            <a:r>
              <a:rPr b="0" lang="es-MX" sz="1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T.Last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Post-condition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--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l elemento se encontró y es apuntado por L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(Found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T(L) = Key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or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--el elemento no está en el array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not 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Found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not (exist 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 | T.First </a:t>
            </a:r>
            <a:r>
              <a:rPr b="0" lang="es-MX" sz="1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i </a:t>
            </a:r>
            <a:r>
              <a:rPr b="0" lang="es-MX" sz="1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T.Last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and 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(i) = Key)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04920" y="41148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procedimiento está especificado con sus parámetros, sus precondiciones y sus postcondi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 la especificación pueden derivarse dos clases de equivalenci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tradas donde el elemento está en el array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tradas donde el elemento buscado no está en el array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600200"/>
            <a:ext cx="8229600" cy="22860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298-FA21-4685-B4D0-6005E1426B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lección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obar los programas con arrays de un solo elemento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Hacer distintas pruebas con arrays de distinto tamañ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rivar las pruebas de modo que al menos el primer, el último y un elemento del medio del array son accedid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48320" y="2097000"/>
          <a:ext cx="4000320" cy="186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97000"/>
                    <a:ext cx="4000320" cy="18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179960" y="4267080"/>
          <a:ext cx="5116320" cy="1741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79960" y="4267080"/>
                    <a:ext cx="5116320" cy="17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A61-0954-478E-A1EA-E56D5BF75C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Estructu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as pruebas de caja blanca son complementarias a las de caja neg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encargado de las pruebas deriva los datos de prueba de la estructura del códig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pendiendo de la estructura del código, podemos saber cuantas pruebas son necesarias para tener una “cobertura completa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1640" y="5029200"/>
            <a:ext cx="4419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Cuántas pruebas son necesaria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581280"/>
            <a:ext cx="1447560" cy="60984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ódigo de l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mpone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3581280"/>
            <a:ext cx="144792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alida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las Prueb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438280"/>
            <a:ext cx="144756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ato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8" idx="0"/>
            <a:endCxn id="140" idx="2"/>
          </p:cNvCxnSpPr>
          <p:nvPr/>
        </p:nvCxnSpPr>
        <p:spPr>
          <a:xfrm flipV="1">
            <a:off x="5829120" y="3047400"/>
            <a:ext cx="1080" cy="5338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1"/>
            <a:endCxn id="138" idx="1"/>
          </p:cNvCxnSpPr>
          <p:nvPr/>
        </p:nvCxnSpPr>
        <p:spPr>
          <a:xfrm flipH="1" flipV="1" rot="10800000">
            <a:off x="5105160" y="2742120"/>
            <a:ext cx="2160" cy="1143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9" idx="1"/>
          </p:cNvCxnSpPr>
          <p:nvPr/>
        </p:nvCxnSpPr>
        <p:spPr>
          <a:xfrm>
            <a:off x="6552720" y="3885840"/>
            <a:ext cx="762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767920" y="31240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riva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79000" y="312408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plica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BD7-DB15-481E-9850-E2D97309E0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Estructurales o de Caja Blanc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while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x </a:t>
            </a:r>
            <a:r>
              <a:rPr b="0" lang="es-MX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x &gt; y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:= x - y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y := y - x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ndloop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CD := 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53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 el ejemplo, la condición del while sugiere analizar dos cas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02440" indent="-2797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= 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02440" indent="-2797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</a:t>
            </a:r>
            <a:r>
              <a:rPr b="0" lang="es-MX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 el caso de igualdad, el loop no se ejecuta; cuando son diferentes se ejecuta al menos una vez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imer conjunto de prueba “completo”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02440" indent="-2797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= 3, y = 3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02440" indent="-2797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= 4, y = 5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uego vemos que es necesario analizar </a:t>
            </a:r>
            <a:br>
              <a:rPr sz="2000"/>
            </a:b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&gt; y y también x &lt; y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905120"/>
            <a:ext cx="2895480" cy="3809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757-A561-40C0-A59F-E7FD583BE2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Instruc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emis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defecto no puede descubrirse si no se ejecuta esa parte del códig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criterio de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cobertura de instrucciones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consiste en proveer un conjunto de pruebas tales que todas las instrucciones del programa sean ejecutadas al menos una vez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lgunos problem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que una instrucción ejecute correctamente una vez no garantiza que siempre será correct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 lenguajes de programación con estructuras anidadas no es claro que significa ejecutar todas las instruc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signaciones, E/S, llamadas a procedimient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6E1-67E0-4EC3-B4B3-857F7E5AC7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Instruc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finició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leccionar un conjunto de pruebas T tal que, ejecutando el programa P para cada elemento d en T, cada instrucción de P es ejecutada al menos una vez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uso de un dato del conjunto de prueba puede hacer ejecutar varias instruccione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conveniente hallar el menor conjunto que cumpla con el criterio de cobertura de instruc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{&lt;x=2, y=3&gt;,&lt;x=-13, y=51&gt;,&lt;x=97, y=17&gt;, &lt;x=-1,y=-1&gt;}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{&lt;x=-13, y=51&gt;, &lt;x=2, y=-3&gt;}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29400" y="2285640"/>
            <a:ext cx="2362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f x &gt; 0 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write (“1”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write (“2”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f y &gt; 0 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write (“3”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write (“4”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2209680"/>
            <a:ext cx="2286000" cy="35053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42D-5F25-4FE1-B2EE-1A22C2BF4E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ificultades con la Cobertura de Instruc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f x &lt; 0 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:= -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z := 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f x &lt; 0 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:= -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ull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z := 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7428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jecutar todas las instrucciones no siempre implica detectar todos los defec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xisten instrucciones implícitas que también debieran ser cubiertas para tener completitud de prueb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n un valor de x negativo tenemos que en el primer caso se ejecutan todas las instrucciones, pero realmente no sabemos como se comporta para otros cas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 la versión extendida vemos que sólo con un valor negativo no se estaría ejecutando el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nul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981080"/>
            <a:ext cx="1676520" cy="1447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657600"/>
            <a:ext cx="1676520" cy="2133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289-1E37-4CD2-B966-DE2E9B857B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Grafo de Flujo de Contro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64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ado un programa P, su grafo de flujo de control G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P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se construye de la siguiente forma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ara cada instrucción de E/S, asignación o llamada a procedimiento, se pone un arco entre dos nodos (inicio y fin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condicionales se anotan como dos arcos saliendo de un nod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ciclos son grafos que luego de ejecutados un arco los retorna a su nodo de parti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964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uede construirse un grafo de flujo para cualquier programa escrito en un lenguaje declarativ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24382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34290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4" idx="4"/>
            <a:endCxn id="165" idx="0"/>
          </p:cNvCxnSpPr>
          <p:nvPr/>
        </p:nvCxnSpPr>
        <p:spPr>
          <a:xfrm>
            <a:off x="6705360" y="2742840"/>
            <a:ext cx="1080" cy="686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7950240" y="11430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93040" y="18288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07440" y="18288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93040" y="32004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07440" y="32004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8" idx="2"/>
            <a:endCxn id="170" idx="2"/>
          </p:cNvCxnSpPr>
          <p:nvPr/>
        </p:nvCxnSpPr>
        <p:spPr>
          <a:xfrm flipH="1" flipV="1" rot="10800000">
            <a:off x="7492680" y="198072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8" idx="6"/>
            <a:endCxn id="170" idx="6"/>
          </p:cNvCxnSpPr>
          <p:nvPr/>
        </p:nvCxnSpPr>
        <p:spPr>
          <a:xfrm>
            <a:off x="7797960" y="1981080"/>
            <a:ext cx="216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9" idx="2"/>
            <a:endCxn id="171" idx="2"/>
          </p:cNvCxnSpPr>
          <p:nvPr/>
        </p:nvCxnSpPr>
        <p:spPr>
          <a:xfrm flipH="1" flipV="1" rot="10800000">
            <a:off x="8407080" y="198072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9" idx="6"/>
            <a:endCxn id="171" idx="6"/>
          </p:cNvCxnSpPr>
          <p:nvPr/>
        </p:nvCxnSpPr>
        <p:spPr>
          <a:xfrm>
            <a:off x="8712360" y="1981080"/>
            <a:ext cx="216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8026560" y="3962520"/>
            <a:ext cx="304560" cy="304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7" idx="3"/>
            <a:endCxn id="168" idx="7"/>
          </p:cNvCxnSpPr>
          <p:nvPr/>
        </p:nvCxnSpPr>
        <p:spPr>
          <a:xfrm flipH="1">
            <a:off x="7752960" y="140292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7" idx="5"/>
            <a:endCxn id="169" idx="1"/>
          </p:cNvCxnSpPr>
          <p:nvPr/>
        </p:nvCxnSpPr>
        <p:spPr>
          <a:xfrm>
            <a:off x="8210520" y="140292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0" idx="5"/>
            <a:endCxn id="176" idx="1"/>
          </p:cNvCxnSpPr>
          <p:nvPr/>
        </p:nvCxnSpPr>
        <p:spPr>
          <a:xfrm>
            <a:off x="7753320" y="3460320"/>
            <a:ext cx="317880" cy="54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1" idx="3"/>
            <a:endCxn id="176" idx="7"/>
          </p:cNvCxnSpPr>
          <p:nvPr/>
        </p:nvCxnSpPr>
        <p:spPr>
          <a:xfrm flipH="1">
            <a:off x="8286480" y="3460320"/>
            <a:ext cx="165600" cy="54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7427160" y="2438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0" lang="es-MX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41560" y="2438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0" lang="es-MX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3809880"/>
            <a:ext cx="30456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4495680"/>
            <a:ext cx="30456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5867280"/>
            <a:ext cx="30456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4" idx="2"/>
            <a:endCxn id="185" idx="2"/>
          </p:cNvCxnSpPr>
          <p:nvPr/>
        </p:nvCxnSpPr>
        <p:spPr>
          <a:xfrm flipH="1" flipV="1" rot="10800000">
            <a:off x="6705360" y="464796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4" idx="6"/>
            <a:endCxn id="185" idx="6"/>
          </p:cNvCxnSpPr>
          <p:nvPr/>
        </p:nvCxnSpPr>
        <p:spPr>
          <a:xfrm>
            <a:off x="7009920" y="4648320"/>
            <a:ext cx="252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4" idx="7"/>
          </p:cNvCxnSpPr>
          <p:nvPr/>
        </p:nvCxnSpPr>
        <p:spPr>
          <a:xfrm flipH="1">
            <a:off x="6965640" y="407016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6639480" y="51055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0" lang="es-MX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5" idx="5"/>
            <a:endCxn id="183" idx="5"/>
          </p:cNvCxnSpPr>
          <p:nvPr/>
        </p:nvCxnSpPr>
        <p:spPr>
          <a:xfrm flipH="1" flipV="1" rot="5400000">
            <a:off x="6165720" y="4870080"/>
            <a:ext cx="2057760" cy="457920"/>
          </a:xfrm>
          <a:prstGeom prst="curvedConnector5">
            <a:avLst>
              <a:gd name="adj1" fmla="val -21749"/>
              <a:gd name="adj2" fmla="val 49960"/>
              <a:gd name="adj3" fmla="val -21749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57A4-27AB-460C-AE7F-C9D0125E40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Arc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fini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leccionar un conjunto de prueba T tal que, ejecutando P para todo d en T, cada arco del grafo de control de flujo de P es atravesado al menos una ve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conjuntos de prueba que satisfacen el criterio de cobertura de arcos hacen ejecutar todas las condicion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erdadero y falso para todos los cas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criterio de cobertura de arcos es más poderoso que el de cobertura de instruc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8DF-14E6-44DE-9236-ECAB3379D5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jemplo: MC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54100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Qué cobertura tiene el siguiente conjunto de prueb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{&lt;x=3, y=3&gt;, &lt;x=4, y=5&gt;}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600200"/>
            <a:ext cx="274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while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x </a:t>
            </a:r>
            <a:r>
              <a:rPr b="0" lang="es-MX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x &gt; y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:= x - y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y := y - x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ndloop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CD := x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523880"/>
            <a:ext cx="2895480" cy="3810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08840" y="16002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1640" y="22860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6040" y="22860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1640" y="36576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66040" y="36576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0" idx="2"/>
          </p:cNvCxnSpPr>
          <p:nvPr/>
        </p:nvCxnSpPr>
        <p:spPr>
          <a:xfrm flipH="1" flipV="1" rot="10800000">
            <a:off x="6551280" y="243792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6"/>
            <a:endCxn id="200" idx="6"/>
          </p:cNvCxnSpPr>
          <p:nvPr/>
        </p:nvCxnSpPr>
        <p:spPr>
          <a:xfrm>
            <a:off x="6856560" y="2438280"/>
            <a:ext cx="216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9" idx="2"/>
            <a:endCxn id="201" idx="2"/>
          </p:cNvCxnSpPr>
          <p:nvPr/>
        </p:nvCxnSpPr>
        <p:spPr>
          <a:xfrm flipH="1" flipV="1" rot="10800000">
            <a:off x="7465680" y="243792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6"/>
            <a:endCxn id="201" idx="6"/>
          </p:cNvCxnSpPr>
          <p:nvPr/>
        </p:nvCxnSpPr>
        <p:spPr>
          <a:xfrm>
            <a:off x="7770960" y="2438280"/>
            <a:ext cx="216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085160" y="4419720"/>
            <a:ext cx="304560" cy="304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97" idx="3"/>
            <a:endCxn id="198" idx="7"/>
          </p:cNvCxnSpPr>
          <p:nvPr/>
        </p:nvCxnSpPr>
        <p:spPr>
          <a:xfrm flipH="1">
            <a:off x="6811560" y="186012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7" idx="5"/>
            <a:endCxn id="199" idx="1"/>
          </p:cNvCxnSpPr>
          <p:nvPr/>
        </p:nvCxnSpPr>
        <p:spPr>
          <a:xfrm>
            <a:off x="7269120" y="186012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0" idx="5"/>
            <a:endCxn id="206" idx="1"/>
          </p:cNvCxnSpPr>
          <p:nvPr/>
        </p:nvCxnSpPr>
        <p:spPr>
          <a:xfrm>
            <a:off x="6811920" y="3917520"/>
            <a:ext cx="317880" cy="54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1" idx="3"/>
            <a:endCxn id="206" idx="7"/>
          </p:cNvCxnSpPr>
          <p:nvPr/>
        </p:nvCxnSpPr>
        <p:spPr>
          <a:xfrm flipH="1">
            <a:off x="7345080" y="3917520"/>
            <a:ext cx="165600" cy="54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6415560" y="29368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&gt;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83280" y="762120"/>
            <a:ext cx="304920" cy="304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2" idx="4"/>
            <a:endCxn id="197" idx="0"/>
          </p:cNvCxnSpPr>
          <p:nvPr/>
        </p:nvCxnSpPr>
        <p:spPr>
          <a:xfrm>
            <a:off x="7135920" y="1066680"/>
            <a:ext cx="25920" cy="5342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06" idx="2"/>
            <a:endCxn id="212" idx="2"/>
          </p:cNvCxnSpPr>
          <p:nvPr/>
        </p:nvCxnSpPr>
        <p:spPr>
          <a:xfrm rot="10800000">
            <a:off x="6982560" y="913680"/>
            <a:ext cx="102600" cy="3658320"/>
          </a:xfrm>
          <a:prstGeom prst="curvedConnector5">
            <a:avLst>
              <a:gd name="adj1" fmla="val 1182746"/>
              <a:gd name="adj2" fmla="val 49995"/>
              <a:gd name="adj3" fmla="val 118274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7086600" y="51814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2" idx="6"/>
            <a:endCxn id="215" idx="6"/>
          </p:cNvCxnSpPr>
          <p:nvPr/>
        </p:nvCxnSpPr>
        <p:spPr>
          <a:xfrm>
            <a:off x="7287840" y="914040"/>
            <a:ext cx="104040" cy="4420440"/>
          </a:xfrm>
          <a:prstGeom prst="curvedConnector5">
            <a:avLst>
              <a:gd name="adj1" fmla="val 1059722"/>
              <a:gd name="adj2" fmla="val 50000"/>
              <a:gd name="adj3" fmla="val 1059722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7329960" y="28954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&lt;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240" y="1144440"/>
            <a:ext cx="64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</a:t>
            </a:r>
            <a:r>
              <a:rPr b="0" lang="es-MX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15760" y="13701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=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97760" y="59436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5" idx="4"/>
            <a:endCxn id="220" idx="0"/>
          </p:cNvCxnSpPr>
          <p:nvPr/>
        </p:nvCxnSpPr>
        <p:spPr>
          <a:xfrm>
            <a:off x="7238520" y="5486400"/>
            <a:ext cx="118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F51-438B-4A14-8E36-3C5E71D5B1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Objetivos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prueba de software es buena si revela la existencia de un def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prueba no sólo busca comprobar si el software satisface sus requerimientos, sino también si tiene o no defec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exhaustivas son impracticabl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on car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levan tiemp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uchas veces son teóricamente infinit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FB6-488F-4D11-9FB9-FB899E44AE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Condi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48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found := false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f num_items &lt;&gt; 0 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counter := 1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while (not found) and counter &lt; num_items loop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f table (couter) = elem 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found := true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counter := counter + 1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dloop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f found then write (“encontrado”)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lse write (“no encontrado”)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upongamos que elegimos el siguiente conjunto de prueb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tabla sin element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6208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no se ejecuta el loop;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tabla con tres elementos, el segundo elemento es el buscad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6208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l loop se ejecuta 2 veces, una vez sin ejecutar el then y luego ejecutándolo,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6208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e satisface el criterio de cobertura de arc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2514600"/>
            <a:ext cx="4780080" cy="33624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F67-F6BC-4213-B8EC-0C93FB9EC3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Condi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fini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leccionar un conjunto de datos de prueba T tal que, ejecutando P para cada elemento de T, cada arco del grafo de control de P se atraviesa al menos una vez, y todos los valores posibles de las componentes de las condiciones compuestas se prueban al menos una ve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1ED-33D5-45A6-A969-7F80F9169620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olíticas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bar el sistema es más importante que probar sus componentes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usuarios quieren usar el sistema para ciertos objetivos y el sistema debe asegurar que estos objetivos podrán lograrse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bar las antiguas características es más importante que probar las nuevas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usuarios pueden prescindir de la nueva funcionalidad, pero no de la que ya estaban usand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bar los casos típicos es más importante que probar los casos lími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 muy grave que el sistema no funcione en condiciones normal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9EB-35CE-4C5B-91A5-83439DF72D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nfoques de Prueba de Defec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uncional o de caja neg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pruebas se derivan de la especificación del siste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ructural o de caja blanc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pruebas se diseñan de acuerdo con la estructura e implementación de cada progra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s de interfaz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pruebas se derivan de la funcionalidad esperada y el conocimiento disponible de la interfa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5A8-6AFB-44FA-B246-D23ED4BF30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Tipos de Pruebas y Responsab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876920"/>
            <a:ext cx="167616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4876920"/>
            <a:ext cx="1676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ubsistem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4876920"/>
            <a:ext cx="167616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idades 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Módul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505320"/>
            <a:ext cx="1676160" cy="6094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ueb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Funcional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505320"/>
            <a:ext cx="1676520" cy="6094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Interfaz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3505320"/>
            <a:ext cx="1676160" cy="6094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ueb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structural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2133720"/>
            <a:ext cx="1676160" cy="609480"/>
          </a:xfrm>
          <a:prstGeom prst="flowChartAlternateProcess">
            <a:avLst/>
          </a:prstGeom>
          <a:solidFill>
            <a:srgbClr val="6ddb6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quipo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ueb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2133720"/>
            <a:ext cx="1676160" cy="609480"/>
          </a:xfrm>
          <a:prstGeom prst="flowChartAlternateProcess">
            <a:avLst/>
          </a:prstGeom>
          <a:solidFill>
            <a:srgbClr val="6ddb6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quipo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Desarroll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6" idx="2"/>
            <a:endCxn id="53" idx="0"/>
          </p:cNvCxnSpPr>
          <p:nvPr/>
        </p:nvCxnSpPr>
        <p:spPr>
          <a:xfrm>
            <a:off x="1828440" y="27428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</a:ln>
        </p:spPr>
      </p:cxnSp>
      <p:cxnSp>
        <p:nvCxnSpPr>
          <p:cNvPr id="59" name=""/>
          <p:cNvCxnSpPr>
            <a:stCxn id="57" idx="2"/>
            <a:endCxn id="55" idx="0"/>
          </p:cNvCxnSpPr>
          <p:nvPr/>
        </p:nvCxnSpPr>
        <p:spPr>
          <a:xfrm>
            <a:off x="7086240" y="27428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</a:ln>
        </p:spPr>
      </p:cxnSp>
      <p:cxnSp>
        <p:nvCxnSpPr>
          <p:cNvPr id="60" name=""/>
          <p:cNvCxnSpPr>
            <a:stCxn id="56" idx="2"/>
            <a:endCxn id="54" idx="0"/>
          </p:cNvCxnSpPr>
          <p:nvPr/>
        </p:nvCxnSpPr>
        <p:spPr>
          <a:xfrm>
            <a:off x="1828440" y="2742840"/>
            <a:ext cx="2591640" cy="762840"/>
          </a:xfrm>
          <a:prstGeom prst="straightConnector1">
            <a:avLst/>
          </a:prstGeom>
          <a:ln w="19080">
            <a:solidFill>
              <a:srgbClr val="3333cc"/>
            </a:solidFill>
            <a:prstDash val="dash"/>
            <a:miter/>
          </a:ln>
        </p:spPr>
      </p:cxnSp>
      <p:cxnSp>
        <p:nvCxnSpPr>
          <p:cNvPr id="61" name=""/>
          <p:cNvCxnSpPr>
            <a:stCxn id="57" idx="2"/>
            <a:endCxn id="54" idx="0"/>
          </p:cNvCxnSpPr>
          <p:nvPr/>
        </p:nvCxnSpPr>
        <p:spPr>
          <a:xfrm flipH="1">
            <a:off x="4419720" y="2742840"/>
            <a:ext cx="2667240" cy="762840"/>
          </a:xfrm>
          <a:prstGeom prst="straightConnector1">
            <a:avLst/>
          </a:prstGeom>
          <a:ln w="19080">
            <a:solidFill>
              <a:srgbClr val="3333cc"/>
            </a:solidFill>
            <a:prstDash val="dash"/>
            <a:miter/>
          </a:ln>
        </p:spPr>
      </p:cxnSp>
      <p:cxnSp>
        <p:nvCxnSpPr>
          <p:cNvPr id="62" name=""/>
          <p:cNvCxnSpPr>
            <a:stCxn id="53" idx="2"/>
            <a:endCxn id="50" idx="0"/>
          </p:cNvCxnSpPr>
          <p:nvPr/>
        </p:nvCxnSpPr>
        <p:spPr>
          <a:xfrm>
            <a:off x="1828440" y="41144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51" idx="0"/>
          </p:cNvCxnSpPr>
          <p:nvPr/>
        </p:nvCxnSpPr>
        <p:spPr>
          <a:xfrm>
            <a:off x="4419360" y="41144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5" idx="2"/>
            <a:endCxn id="52" idx="0"/>
          </p:cNvCxnSpPr>
          <p:nvPr/>
        </p:nvCxnSpPr>
        <p:spPr>
          <a:xfrm>
            <a:off x="7086240" y="41144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F66-C9FE-401E-A08E-078403B92E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ompar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mpíricamente se comparó la eficacia de las pruebas estructurales y de caja negra (1987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halló que las pruebas de caja negra son más efectiv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Pero la tasa de detección (número de falla descubiertas por unidad de tiempo)  es simila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También se vio que las revisiones estáticas de código (walkthrough) son más efectivas y más baratas que cualquier tipo de pruebas de defec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sta idea de que las revisiones e inspecciones de código y documentos son más eficientes, está confirmada por otros estudios posteriores (1993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89D-35C0-41BB-9991-DE799C1B72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uebas de Caja Negr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as pruebas de caja negra dependen de la especificación del sistema o componente para derivar los casos de prueb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s sistema es una “caja negra” cuyo comportamiento sólo se conoce a través de la salida que produce para cada dato de entrad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a clave es seleccionar las entradas que tengan una mayor probabilidad de pertenecer al conjunto I</a:t>
            </a:r>
            <a:r>
              <a:rPr b="0" lang="es-CL" sz="2400" spc="-1" strike="noStrike" baseline="-25000">
                <a:solidFill>
                  <a:srgbClr val="000066"/>
                </a:solidFill>
                <a:latin typeface="Tahoma"/>
              </a:rPr>
              <a:t>e.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2514600"/>
            <a:ext cx="289584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2666880"/>
            <a:ext cx="9903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es-CL" sz="1600" spc="-1" strike="noStrike" baseline="-25000">
                <a:solidFill>
                  <a:srgbClr val="000066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52280" y="266688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datos 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ntrad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35000" y="1523880"/>
            <a:ext cx="18799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ntra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que provoca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comportamient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rróne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076960" y="2133720"/>
            <a:ext cx="15228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4648320"/>
            <a:ext cx="2895840" cy="7617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4800600"/>
            <a:ext cx="9903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O</a:t>
            </a:r>
            <a:r>
              <a:rPr b="0" lang="es-CL" sz="1600" spc="-1" strike="noStrike" baseline="-25000">
                <a:solidFill>
                  <a:srgbClr val="000066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52280" y="480060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datos 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salid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57560" y="5775480"/>
            <a:ext cx="15249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sali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que revelan l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presencia 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defect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8229240" y="5257800"/>
            <a:ext cx="22860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3733920"/>
            <a:ext cx="167616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3048120"/>
            <a:ext cx="22860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924680" y="3124080"/>
            <a:ext cx="152640" cy="6098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086240" y="4114800"/>
            <a:ext cx="22860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48720" y="4114800"/>
            <a:ext cx="228600" cy="7621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D7B-A312-4B7D-A8BA-237022029D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artición en Clases de Equival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n general, los datos de entrada pueden dividirse en clases de equivalenci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19960" indent="-22392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Números positivos, cero y números negativ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19960" indent="-22392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Strings sin blancos y strings con blanc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19960" indent="-22392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Datos ordenados o datos desordenad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Los programas se comportan en forma similar para todos los datos de una misma clase de equivalenci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a forma sistemática de hacer pruebas de defectos consiste en identificar estas clases de equivalencia y crear datos de todas las clases de entrada y prever la clase de datos de salid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1600200"/>
            <a:ext cx="2666880" cy="16765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4648320"/>
            <a:ext cx="2666880" cy="16761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1981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2133720"/>
            <a:ext cx="45720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228600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24382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1981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2133720"/>
            <a:ext cx="45720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77320" y="182880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1981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1880" y="2133720"/>
            <a:ext cx="45720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2743200"/>
            <a:ext cx="1066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ntradas váli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2514600"/>
            <a:ext cx="1066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ntradas inváli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525780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5410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5105520"/>
            <a:ext cx="45720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525780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5410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5791320"/>
            <a:ext cx="1067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sali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3809880"/>
            <a:ext cx="167652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96080" y="3276720"/>
            <a:ext cx="0" cy="5331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419112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B81-C505-47E1-A1C0-528B4DE49D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con Clases de Equival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os sistemas suelen desarrollarse con la idea de la utilización normal y no se prevé qué sucederá en otros cas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vez identificadas las clases de equivalencia, se eligen casos de prueba de cada clas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sos en el “centro” de la clase o casos típic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sos en los “bordes” de la clase o casos rar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6708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-268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sistema acepta entre 4 y 8 entradas, que son enteros de 5 dígitos mayores que 10000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-268200"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da partición debe probarse con distintas combinaciones en las otras parti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76920" y="3352680"/>
            <a:ext cx="3886200" cy="1493640"/>
            <a:chOff x="4876920" y="3352680"/>
            <a:chExt cx="3886200" cy="1493640"/>
          </a:xfrm>
        </p:grpSpPr>
        <p:sp>
          <p:nvSpPr>
            <p:cNvPr id="112" name=""/>
            <p:cNvSpPr/>
            <p:nvPr/>
          </p:nvSpPr>
          <p:spPr>
            <a:xfrm>
              <a:off x="4876920" y="4541760"/>
              <a:ext cx="129528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Menor qu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10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2200" y="4541760"/>
              <a:ext cx="129528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Entre 10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y 9999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7480" y="4541760"/>
              <a:ext cx="129564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Mayor qu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9999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5880" y="3627360"/>
              <a:ext cx="0" cy="914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07360" y="355104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9.99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520" y="3398760"/>
              <a:ext cx="0" cy="1143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65720" y="342864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10.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81680" y="4084560"/>
              <a:ext cx="0" cy="457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18000" y="385596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50.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91520" y="3627360"/>
              <a:ext cx="0" cy="914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64120" y="347472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99.99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3398760"/>
              <a:ext cx="0" cy="1143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95560" y="335268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100.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20D-DC32-41D1-9E19-F487469F7D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18T19:03:28Z</cp:lastPrinted>
  <dcterms:modified xsi:type="dcterms:W3CDTF">2004-11-18T22:43:57Z</dcterms:modified>
  <cp:revision>90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