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E75-2D05-4B15-AC9A-F000E49D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639-9B6E-42C2-BFBE-7B51836D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351-0739-42C0-96B6-B9C7642B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C81-91DC-43C2-8914-E8A1F0D8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DDB-2399-4F8E-8614-7F03C96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06A-B950-441D-8CEC-71B54ADB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47F-94E4-484D-818B-AF13CD0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49D-9C24-4F61-BF6D-FCF34518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A74-BA3C-4F72-B5EC-D52073C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C60-9C93-42D3-8D56-7217F1D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1A1-3457-49A5-8AFA-2676716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474-13CE-4461-99C2-C1B6484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6B07-2256-496E-AA72-D4C67C2FBF79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rivación de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úsqueda (Key: ELEM; T:ELEM_ARRAY;Found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OOLEAN; L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ELEM_INDEX);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e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array tiene al menos un element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ost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elemento se encontró y es apuntado por L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(L) = Ke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--el elemento no está en el array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(exis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 | 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(i) = Key)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procedimiento está especificado con sus parámetros, sus precondiciones y sus postcond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la especificación pueden derivarse dos clases de equivalenci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está en el array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buscado no está en el arra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229600" cy="2286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31B-9F15-4921-AF9A-61C60D7C5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ec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bar los programas con arrays de un solo elemen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distintas pruebas con arrays de distinto tama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rivar las pruebas de modo que al menos el primer, el último y un elemento del medio del array son acced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097000"/>
          <a:ext cx="4000320" cy="18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97000"/>
                    <a:ext cx="400032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79960" y="4267080"/>
          <a:ext cx="5116320" cy="174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9960" y="4267080"/>
                    <a:ext cx="511632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F07-B497-4056-93B8-42895CB3C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pruebas de caja blanca son complementarias a las de caja neg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ncargado de las pruebas deriva los datos de prueba de la estructura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endiendo de la estructura del código, podemos saber cuantas pruebas son necesarias para tener una “cobertura completa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5029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uántas pruebas son necesari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81280"/>
            <a:ext cx="1447560" cy="6098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ódigo de l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5812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alid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las Prueb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438280"/>
            <a:ext cx="144756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0"/>
            <a:endCxn id="140" idx="2"/>
          </p:cNvCxnSpPr>
          <p:nvPr/>
        </p:nvCxnSpPr>
        <p:spPr>
          <a:xfrm flipV="1">
            <a:off x="5829120" y="3047400"/>
            <a:ext cx="1080" cy="533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1"/>
            <a:endCxn id="138" idx="1"/>
          </p:cNvCxnSpPr>
          <p:nvPr/>
        </p:nvCxnSpPr>
        <p:spPr>
          <a:xfrm flipH="1" flipV="1" rot="10800000">
            <a:off x="5105160" y="2742120"/>
            <a:ext cx="2160" cy="1143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9" idx="1"/>
          </p:cNvCxnSpPr>
          <p:nvPr/>
        </p:nvCxnSpPr>
        <p:spPr>
          <a:xfrm>
            <a:off x="6552720" y="388584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67920" y="31240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riv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79000" y="3124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plic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59D3-4887-4F60-979B-0C41E738A6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 o de Caja Blan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ejemplo, la condición del while sugiere analizar dos cas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caso de igualdad, el loop no se ejecuta; cuando son diferentes se ejecut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imer conjunto de prueba “completo”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3, y = 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4, y = 5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uego vemos que es necesario analizar </a:t>
            </a: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&gt; y y también x &lt; 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2895480" cy="3809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A4F-38A1-49A7-B149-74756DA5A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emis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defecto no puede descubrirse si no se ejecuta esa parte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riterio de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bertura de instruccione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consiste en proveer un conjunto de pruebas tales que todas las instrucciones del programa sean ejecutadas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os probl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que una instrucción ejecute correctamente una vez no garantiza que siempre será correc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enguajes de programación con estructuras anidadas no es claro que significa ejecutar todas las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signaciones, E/S, llamadas a procedimient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EE3-AFB2-4E35-B75E-A8D95706F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r un conjunto de pruebas T tal que, ejecutando el programa P para cada elemento d en T, cada instrucción de P es ejecutad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uso de un dato del conjunto de prueba puede hacer ejecutar varias instru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veniente hallar el menor conjunto que cumpla con el criterio de cobertura de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2, y=3&gt;,&lt;x=-13, y=51&gt;,&lt;x=97, y=17&gt;, &lt;x=-1,y=-1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-13, y=51&gt;, &lt;x=2, y=-3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29400" y="2285640"/>
            <a:ext cx="2362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1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2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y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3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4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09680"/>
            <a:ext cx="2286000" cy="3505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C91-7230-40B5-98FB-D2BC4BDAC3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la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cutar todas las instrucciones no siempre implica detectar todos l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n instrucciones implícitas que también debieran ser cubiertas para tener completitud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 un valor de x negativo tenemos que en el primer caso se ejecutan todas las instrucciones, pero realmente no sabemos como se comporta para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a versión extendida vemos que sólo con un valor negativo no se estaría ejecutando el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nul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67652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657600"/>
            <a:ext cx="1676520" cy="2133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D20-ADDD-4E47-A11C-CFAC635695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Grafo de Flujo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programa P, su grafo de flujo de control G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P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se construye de la siguiente for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ara cada instrucción de E/S, asignación o llamada a procedimiento, se pone un arco entre dos nodos (inicio y fin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ondicionales se anotan como dos arcos saliendo de un nod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iclos son grafos que luego de ejecutados un arco los retorna a su nodo de part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de construirse un grafo de flujo para cualquier programa escrito en un lenguaje declarativ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4382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429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6705360" y="2742840"/>
            <a:ext cx="1080" cy="686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50240" y="1143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930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74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930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074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2"/>
            <a:endCxn id="170" idx="2"/>
          </p:cNvCxnSpPr>
          <p:nvPr/>
        </p:nvCxnSpPr>
        <p:spPr>
          <a:xfrm flipH="1" flipV="1" rot="10800000">
            <a:off x="74926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6"/>
            <a:endCxn id="170" idx="6"/>
          </p:cNvCxnSpPr>
          <p:nvPr/>
        </p:nvCxnSpPr>
        <p:spPr>
          <a:xfrm>
            <a:off x="77979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2"/>
            <a:endCxn id="171" idx="2"/>
          </p:cNvCxnSpPr>
          <p:nvPr/>
        </p:nvCxnSpPr>
        <p:spPr>
          <a:xfrm flipH="1" flipV="1" rot="10800000">
            <a:off x="84070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9" idx="6"/>
            <a:endCxn id="171" idx="6"/>
          </p:cNvCxnSpPr>
          <p:nvPr/>
        </p:nvCxnSpPr>
        <p:spPr>
          <a:xfrm>
            <a:off x="87123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026560" y="39625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68" idx="7"/>
          </p:cNvCxnSpPr>
          <p:nvPr/>
        </p:nvCxnSpPr>
        <p:spPr>
          <a:xfrm flipH="1">
            <a:off x="775296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7" idx="5"/>
            <a:endCxn id="169" idx="1"/>
          </p:cNvCxnSpPr>
          <p:nvPr/>
        </p:nvCxnSpPr>
        <p:spPr>
          <a:xfrm>
            <a:off x="821052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5"/>
            <a:endCxn id="176" idx="1"/>
          </p:cNvCxnSpPr>
          <p:nvPr/>
        </p:nvCxnSpPr>
        <p:spPr>
          <a:xfrm>
            <a:off x="7753320" y="34603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3"/>
            <a:endCxn id="176" idx="7"/>
          </p:cNvCxnSpPr>
          <p:nvPr/>
        </p:nvCxnSpPr>
        <p:spPr>
          <a:xfrm flipH="1">
            <a:off x="8286480" y="34603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4271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415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8098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44956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8672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2"/>
          </p:cNvCxnSpPr>
          <p:nvPr/>
        </p:nvCxnSpPr>
        <p:spPr>
          <a:xfrm flipH="1" flipV="1" rot="10800000">
            <a:off x="6705360" y="464796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6"/>
            <a:endCxn id="185" idx="6"/>
          </p:cNvCxnSpPr>
          <p:nvPr/>
        </p:nvCxnSpPr>
        <p:spPr>
          <a:xfrm>
            <a:off x="7009920" y="4648320"/>
            <a:ext cx="252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4" idx="7"/>
          </p:cNvCxnSpPr>
          <p:nvPr/>
        </p:nvCxnSpPr>
        <p:spPr>
          <a:xfrm flipH="1">
            <a:off x="6965640" y="407016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639480" y="51055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5" idx="5"/>
            <a:endCxn id="183" idx="5"/>
          </p:cNvCxnSpPr>
          <p:nvPr/>
        </p:nvCxnSpPr>
        <p:spPr>
          <a:xfrm flipH="1" flipV="1" rot="5400000">
            <a:off x="6165720" y="4870080"/>
            <a:ext cx="2057760" cy="457920"/>
          </a:xfrm>
          <a:prstGeom prst="curvedConnector5">
            <a:avLst>
              <a:gd name="adj1" fmla="val -21749"/>
              <a:gd name="adj2" fmla="val 49960"/>
              <a:gd name="adj3" fmla="val -2174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994-2BE7-4E1A-B740-2909AC930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Arc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prueba T tal que, ejecutando P para todo d en T, cada arco del grafo de control de flujo de P es atravesado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conjuntos de prueba que satisfacen el criterio de cobertura de arcos hacen ejecutar todas las condicion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dadero y falso para todos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criterio de cobertura de arcos es más poderoso que el de cobertura de instru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AF7-AE2A-41D2-90BE-AE25DA0EDE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C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cobertura tiene el siguiente conjunto de prueb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3, y=3&gt;, &lt;x=4, y=5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6002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523880"/>
            <a:ext cx="2895480" cy="381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8840" y="16002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16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60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16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60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0" idx="2"/>
          </p:cNvCxnSpPr>
          <p:nvPr/>
        </p:nvCxnSpPr>
        <p:spPr>
          <a:xfrm flipH="1" flipV="1" rot="10800000">
            <a:off x="65512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6"/>
            <a:endCxn id="200" idx="6"/>
          </p:cNvCxnSpPr>
          <p:nvPr/>
        </p:nvCxnSpPr>
        <p:spPr>
          <a:xfrm>
            <a:off x="68565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2"/>
            <a:endCxn id="201" idx="2"/>
          </p:cNvCxnSpPr>
          <p:nvPr/>
        </p:nvCxnSpPr>
        <p:spPr>
          <a:xfrm flipH="1" flipV="1" rot="10800000">
            <a:off x="74656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6"/>
            <a:endCxn id="201" idx="6"/>
          </p:cNvCxnSpPr>
          <p:nvPr/>
        </p:nvCxnSpPr>
        <p:spPr>
          <a:xfrm>
            <a:off x="77709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085160" y="44197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7" idx="3"/>
            <a:endCxn id="198" idx="7"/>
          </p:cNvCxnSpPr>
          <p:nvPr/>
        </p:nvCxnSpPr>
        <p:spPr>
          <a:xfrm flipH="1">
            <a:off x="681156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5"/>
            <a:endCxn id="199" idx="1"/>
          </p:cNvCxnSpPr>
          <p:nvPr/>
        </p:nvCxnSpPr>
        <p:spPr>
          <a:xfrm>
            <a:off x="726912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5"/>
            <a:endCxn id="206" idx="1"/>
          </p:cNvCxnSpPr>
          <p:nvPr/>
        </p:nvCxnSpPr>
        <p:spPr>
          <a:xfrm>
            <a:off x="6811920" y="39175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1" idx="3"/>
            <a:endCxn id="206" idx="7"/>
          </p:cNvCxnSpPr>
          <p:nvPr/>
        </p:nvCxnSpPr>
        <p:spPr>
          <a:xfrm flipH="1">
            <a:off x="7345080" y="39175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415560" y="2936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g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3280" y="762120"/>
            <a:ext cx="30492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4"/>
            <a:endCxn id="197" idx="0"/>
          </p:cNvCxnSpPr>
          <p:nvPr/>
        </p:nvCxnSpPr>
        <p:spPr>
          <a:xfrm>
            <a:off x="7135920" y="1066680"/>
            <a:ext cx="25920" cy="5342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6" idx="2"/>
            <a:endCxn id="212" idx="2"/>
          </p:cNvCxnSpPr>
          <p:nvPr/>
        </p:nvCxnSpPr>
        <p:spPr>
          <a:xfrm rot="10800000">
            <a:off x="6982560" y="913680"/>
            <a:ext cx="102600" cy="3658320"/>
          </a:xfrm>
          <a:prstGeom prst="curvedConnector5">
            <a:avLst>
              <a:gd name="adj1" fmla="val 1182746"/>
              <a:gd name="adj2" fmla="val 49995"/>
              <a:gd name="adj3" fmla="val 11827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086600" y="51814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6"/>
            <a:endCxn id="215" idx="6"/>
          </p:cNvCxnSpPr>
          <p:nvPr/>
        </p:nvCxnSpPr>
        <p:spPr>
          <a:xfrm>
            <a:off x="7287840" y="914040"/>
            <a:ext cx="104040" cy="4420440"/>
          </a:xfrm>
          <a:prstGeom prst="curvedConnector5">
            <a:avLst>
              <a:gd name="adj1" fmla="val 1059722"/>
              <a:gd name="adj2" fmla="val 50000"/>
              <a:gd name="adj3" fmla="val 105972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329960" y="2895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l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240" y="114444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5760" y="13701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=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7760" y="5943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4"/>
            <a:endCxn id="220" idx="0"/>
          </p:cNvCxnSpPr>
          <p:nvPr/>
        </p:nvCxnSpPr>
        <p:spPr>
          <a:xfrm>
            <a:off x="7238520" y="5486400"/>
            <a:ext cx="118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CAA-62DC-46D7-BD12-C71E9378EF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de software es buena si revela la existencia de un def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no sólo busca comprobar si el software satisface sus requerimientos, sino también si tiene o no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exhaustivas son impracticab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n car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levan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uchas veces son teóricamente infinit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0A8-0D57-4D13-A22D-864A01B73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8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fals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num_items &lt;&gt; 0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while (not found) and counter &lt; num_items 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table (couter) = elem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tru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counter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loop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found then write (“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lse write (“no 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pongamos que elegimos el siguiente conjunto de prueb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sin ele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no se ejecuta el loop;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con tres elementos, el segundo elemento es el buscad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 loop se ejecuta 2 veces, una vez sin ejecutar el then y luego ejecutándolo,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 satisface el criterio de cobertura de ar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514600"/>
            <a:ext cx="4780080" cy="33624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A94-5BCF-4467-B94F-2756F396A2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datos de prueba T tal que, ejecutando P para cada elemento de T, cada arco del grafo de control de P se atraviesa al menos una vez, y todos los valores posibles de las componentes de las condiciones compuestas se prueban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F9D-5ECD-45E7-8E7F-282AEBD60960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olític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el sistema es más importante que probar sus component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quieren usar el sistema para ciertos objetivos y el sistema debe asegurar que estos objetivos podrán logrars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as antiguas características es más importante que probar las nuev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pueden prescindir de la nueva funcionalidad, pero no de la que ya estaban usan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os casos típicos es más importante que probar los casos lími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grave que el sistema no funcione en condiciones norma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515-7E77-4BDD-82C2-EDF8C0EA5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Prueba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uncional o de caja neg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especificación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uctural o de caja blan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iseñan de acuerdo con la estructura e implementación de cada progra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de interfaz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funcionalidad esperada y el conocimiento disponible de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461-31EC-4EC7-993E-D5A1D504B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Tipos de Pruebas y Responsab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876920"/>
            <a:ext cx="1676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idades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505320"/>
            <a:ext cx="167652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structur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Desarrol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2"/>
            <a:endCxn id="53" idx="0"/>
          </p:cNvCxnSpPr>
          <p:nvPr/>
        </p:nvCxnSpPr>
        <p:spPr>
          <a:xfrm>
            <a:off x="18284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59" name=""/>
          <p:cNvCxnSpPr>
            <a:stCxn id="57" idx="2"/>
            <a:endCxn id="55" idx="0"/>
          </p:cNvCxnSpPr>
          <p:nvPr/>
        </p:nvCxnSpPr>
        <p:spPr>
          <a:xfrm>
            <a:off x="70862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60" name=""/>
          <p:cNvCxnSpPr>
            <a:stCxn id="56" idx="2"/>
            <a:endCxn id="54" idx="0"/>
          </p:cNvCxnSpPr>
          <p:nvPr/>
        </p:nvCxnSpPr>
        <p:spPr>
          <a:xfrm>
            <a:off x="1828440" y="274284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1" name=""/>
          <p:cNvCxnSpPr>
            <a:stCxn id="57" idx="2"/>
            <a:endCxn id="54" idx="0"/>
          </p:cNvCxnSpPr>
          <p:nvPr/>
        </p:nvCxnSpPr>
        <p:spPr>
          <a:xfrm flipH="1">
            <a:off x="4419720" y="274284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2" name=""/>
          <p:cNvCxnSpPr>
            <a:stCxn id="53" idx="2"/>
            <a:endCxn id="50" idx="0"/>
          </p:cNvCxnSpPr>
          <p:nvPr/>
        </p:nvCxnSpPr>
        <p:spPr>
          <a:xfrm>
            <a:off x="18284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51" idx="0"/>
          </p:cNvCxnSpPr>
          <p:nvPr/>
        </p:nvCxnSpPr>
        <p:spPr>
          <a:xfrm>
            <a:off x="441936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2"/>
            <a:endCxn id="52" idx="0"/>
          </p:cNvCxnSpPr>
          <p:nvPr/>
        </p:nvCxnSpPr>
        <p:spPr>
          <a:xfrm>
            <a:off x="70862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5C9-C48D-42B9-93D9-3DA0A72F2E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par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mpíricamente se comparó la eficacia de las pruebas estructurales y de caja negra (1987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halló que las pruebas de caja negra son más efectiv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ero la tasa de detección (número de falla descubiertas por unidad de tiempo)  es simil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También se vio que las revisiones estáticas de código (walkthrough) son más efectivas y más baratas que cualquier tipo de pruebas de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a idea de que las revisiones e inspecciones de código y documentos son más eficientes, está confirmada por otros estudios posteriores (1993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DAC-9C14-4176-997C-21CB9837F2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uebas de Caja Neg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s pruebas de caja negra dependen de la especificación del sistema o componente para derivar los casos de prueb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 sistema es una “caja negra” cuyo comportamiento sólo se conoce a través de la salida que produce para cada dato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 clave es seleccionar las entradas que tengan una mayor probabilidad de pertenecer al conjunto I</a:t>
            </a:r>
            <a:r>
              <a:rPr b="0" lang="es-CL" sz="2400" spc="-1" strike="noStrike" baseline="-25000">
                <a:solidFill>
                  <a:srgbClr val="000066"/>
                </a:solidFill>
                <a:latin typeface="Tahoma"/>
              </a:rPr>
              <a:t>e.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514600"/>
            <a:ext cx="289584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66688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2280" y="266688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35000" y="1523880"/>
            <a:ext cx="1879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provoc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comportamien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rróne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076960" y="2133720"/>
            <a:ext cx="1522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648320"/>
            <a:ext cx="2895840" cy="7617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80060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52280" y="48006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560" y="5775480"/>
            <a:ext cx="1524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revelan 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presencia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8229240" y="5257800"/>
            <a:ext cx="22860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733920"/>
            <a:ext cx="167616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04812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924680" y="3124080"/>
            <a:ext cx="1526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86240" y="411480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4114800"/>
            <a:ext cx="2286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239-151C-4D7C-A006-05F0761C3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artición e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n general, los datos de entrada pueden dividirse en clases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Números positivos, cero y números negativ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Strings sin blancos y strings con blan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Datos ordenados o datos desordenad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Los programas se comportan en forma similar para todos los datos de una misma clase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a forma sistemática de hacer pruebas de defectos consiste en identificar estas clases de equivalencia y crear datos de todas las clases de entrada y prever la clase de datos de sali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600200"/>
            <a:ext cx="2666880" cy="1676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4648320"/>
            <a:ext cx="2666880" cy="16761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2860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4382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1828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5146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in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51055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791320"/>
            <a:ext cx="1067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09880"/>
            <a:ext cx="16765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3276720"/>
            <a:ext cx="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419112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B5D-33B1-4E88-B49F-C3FF32B6A1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co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sistemas suelen desarrollarse con la idea de la utilización normal y no se prevé qué sucederá en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vez identificadas las clases de equivalencia, se eligen casos de prueba de cada clas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el “centro” de la clase o casos típic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los “bordes” de la clase o casos ra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acepta entre 4 y 8 entradas, que son enteros de 5 dígitos mayores que 10000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partición debe probarse con distintas combinaciones en las otras part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920" y="3352680"/>
            <a:ext cx="3886200" cy="1493640"/>
            <a:chOff x="4876920" y="3352680"/>
            <a:chExt cx="3886200" cy="1493640"/>
          </a:xfrm>
        </p:grpSpPr>
        <p:sp>
          <p:nvSpPr>
            <p:cNvPr id="112" name=""/>
            <p:cNvSpPr/>
            <p:nvPr/>
          </p:nvSpPr>
          <p:spPr>
            <a:xfrm>
              <a:off x="487692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en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Entre 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y 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7480" y="4541760"/>
              <a:ext cx="1295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ay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7360" y="3551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5720" y="342864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408456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0" y="3855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5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64120" y="34747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5560" y="3352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693-4CE7-4293-8B2A-07C94040B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4-11-18T22:43:57Z</dcterms:modified>
  <cp:revision>9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