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5308-745A-4DCE-97AD-18256CB7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6E75-0B62-4A6F-93EC-7AE27E39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174B-F3E8-45D3-B7D4-675F6F32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4745-3CCF-4E3B-9C1B-CC02C67B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7E29-DBAF-458E-A3AC-04C8401D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7284-F76C-425D-B6ED-99CC3549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9B84-9968-436A-965F-E50E40BD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C027-DF92-4A5E-849D-7998E07B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7FF3-413A-4D56-A65C-A0AE4BCD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26E6-6ABB-4958-A87E-7A42961B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92E7-CF40-4BCD-84C3-9CA4F038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9504-1A54-4474-991A-4244CA0F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5355-C161-433A-B6EB-65AA1E470A72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l Proceso de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strategias de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estrategia de pruebas depende del tipo de sistema y del tipo de proceso de desarroll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ruebas </a:t>
            </a:r>
            <a:r>
              <a:rPr b="0" i="1" lang="es-MX" sz="2200" spc="-1" strike="noStrike">
                <a:solidFill>
                  <a:srgbClr val="000066"/>
                </a:solidFill>
                <a:latin typeface="Tahoma"/>
              </a:rPr>
              <a:t>Top-down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ruebas </a:t>
            </a:r>
            <a:r>
              <a:rPr b="0" i="1" lang="es-MX" sz="2200" spc="-1" strike="noStrike">
                <a:solidFill>
                  <a:srgbClr val="000066"/>
                </a:solidFill>
                <a:latin typeface="Tahoma"/>
              </a:rPr>
              <a:t>Bottom-up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ruebas de hilos de control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ruebas de esfuerzo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ruebas </a:t>
            </a:r>
            <a:r>
              <a:rPr b="0" i="1" lang="es-MX" sz="2200" spc="-1" strike="noStrike">
                <a:solidFill>
                  <a:srgbClr val="000066"/>
                </a:solidFill>
                <a:latin typeface="Tahoma"/>
              </a:rPr>
              <a:t>back-to-back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n la prueba de sistemas grandes se suele usar una mezcla de todas estas estrategi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 todas formas es mejor una actitud incrementa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AD06-5998-48A7-937E-1A415342A2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Increment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P1, P2 y P3 se aplican a un sistema formado por las componentes A y B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e incorpora la componente C y se reaplican las pruebas P1, P2 y P3. Se aplica también la prueba P4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or último se agrega la componente D y se aplican todas las otras pruebas además de una nueva P5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876920"/>
            <a:ext cx="7621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5562720"/>
            <a:ext cx="7621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5" idx="2"/>
            <a:endCxn id="106" idx="0"/>
          </p:cNvCxnSpPr>
          <p:nvPr/>
        </p:nvCxnSpPr>
        <p:spPr>
          <a:xfrm>
            <a:off x="1218960" y="5257440"/>
            <a:ext cx="1080" cy="305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2057400" y="464832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518148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571500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5410080"/>
            <a:ext cx="838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4876920"/>
            <a:ext cx="0" cy="1066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4876920"/>
            <a:ext cx="152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5943600"/>
            <a:ext cx="152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7621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029200"/>
            <a:ext cx="7621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5" idx="2"/>
            <a:endCxn id="116" idx="0"/>
          </p:cNvCxnSpPr>
          <p:nvPr/>
        </p:nvCxnSpPr>
        <p:spPr>
          <a:xfrm>
            <a:off x="4038120" y="4800240"/>
            <a:ext cx="1080" cy="2293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3657600" y="5638680"/>
            <a:ext cx="76212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6" idx="2"/>
            <a:endCxn id="118" idx="0"/>
          </p:cNvCxnSpPr>
          <p:nvPr/>
        </p:nvCxnSpPr>
        <p:spPr>
          <a:xfrm>
            <a:off x="4038120" y="5409720"/>
            <a:ext cx="1080" cy="2293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5181480" y="478476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531828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585144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5003640"/>
            <a:ext cx="0" cy="10670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5013360"/>
            <a:ext cx="152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6080040"/>
            <a:ext cx="152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495288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548640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0" y="4343400"/>
            <a:ext cx="7621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4876920"/>
            <a:ext cx="7621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8" idx="2"/>
            <a:endCxn id="129" idx="0"/>
          </p:cNvCxnSpPr>
          <p:nvPr/>
        </p:nvCxnSpPr>
        <p:spPr>
          <a:xfrm>
            <a:off x="7238520" y="4724280"/>
            <a:ext cx="1080" cy="1533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6858000" y="5410080"/>
            <a:ext cx="76212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9" idx="2"/>
            <a:endCxn id="131" idx="0"/>
          </p:cNvCxnSpPr>
          <p:nvPr/>
        </p:nvCxnSpPr>
        <p:spPr>
          <a:xfrm>
            <a:off x="7238520" y="5257440"/>
            <a:ext cx="1080" cy="153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8381880" y="388620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1880" y="441972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1880" y="495288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29600" y="4114800"/>
            <a:ext cx="0" cy="2133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229600" y="4114800"/>
            <a:ext cx="152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29600" y="5181480"/>
            <a:ext cx="152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38880" y="480060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38880" y="533412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5943600"/>
            <a:ext cx="7621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1880" y="548640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1880" y="601992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29600" y="6248520"/>
            <a:ext cx="152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31" idx="2"/>
            <a:endCxn id="141" idx="0"/>
          </p:cNvCxnSpPr>
          <p:nvPr/>
        </p:nvCxnSpPr>
        <p:spPr>
          <a:xfrm>
            <a:off x="7238520" y="5790960"/>
            <a:ext cx="1080" cy="153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46" name=""/>
          <p:cNvSpPr/>
          <p:nvPr/>
        </p:nvSpPr>
        <p:spPr>
          <a:xfrm>
            <a:off x="7238880" y="586728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29600" y="4648320"/>
            <a:ext cx="152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29600" y="5715000"/>
            <a:ext cx="152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5589720"/>
            <a:ext cx="152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78600" y="429408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5960" y="4522680"/>
            <a:ext cx="0" cy="10670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25960" y="4522680"/>
            <a:ext cx="1526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2C76-A8FE-4D3F-8B61-3710DEAF0F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Top-Dow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e hacen las pruebas de alto nivel primero y solamente después se prueban los detall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n las pruebas de alto nivel se considera solamente la interfaz de las componentes y toda su funciona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s pruebas se pueden realizar una vez construido el esqueleto del sistema y solamente se procede a desarrollar los subsistemas si pasa las pruebas de alto nive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e proceso continua hasta tener todo el sistema desarrollado y probad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21C0-7AF5-4F6C-BAF8-2713DEFA92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Top-Dow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procesos de diseño-programación-prueba son casi indistinguibl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 esta forma se pueden detectar errores de diseño antes de incurrir en costos de programa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Otra ventaja es que tempranamente se tiene un sistema prototipo ejecutable, aunque con limitada funciona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 una prueba más de la factibilidad del desarrollo y puede ser mostrado al usuario para su valida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5045-53AA-4F43-9568-6722CF024B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Dificultades con Top-Dow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 generalmente difícil generar todas las componentes como cajas vacías a ser desarrolladas posteriormente,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 implementa una versión simplificada, o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 implementa la componente complet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Muchas veces no tiene sentido hacer pruebas estructurales si no se cuenta con la funcionalidad de las compon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esqueletos de alto nivel, al no implementar funcionalidad, tampoco generan output, y el encargado de las pruebas debe desarrollar un ambiente para observar los resultad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BEA9-9F4C-4103-A38C-C0FC47E024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Bottom-Up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 lo opuesto a top-dow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e desarrolla completamente cada unidad independientemente y se prueban separad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e va integrando-probando el sistema hasta llegar al sistema comple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ventajas de bottom-up son las desventajas de top-down y vicevers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41D7-8C6D-47A4-AC1E-6DE96A6930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Bottom-Up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ara probar unidades independientes es necesario desarrollar manejadores (drivers) que simulen su ambiente de ejecu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os manejadores deben conservarse para probar nuevamente la unidad en caso de modificaciones futur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 medida que se va integrando el sistema, nuevos manejadores deben construirse para estos sistemas parcial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4A57-E38C-4014-B33E-1EB7972F40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Dificultades con Bottom-Up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rictamente, es necesario desarrollar todas las unidades del sistema antes de comenzar las prueb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errores de diseño no se detectan hasta muy adelantada la integra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 fue la estrategia original de prueba de software que fue desplazada por top-down durante la década del 70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Hoy en día ha recuperado cierta vigenci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os lenguajes orientados a objetos favorecen el desarrollar clases reutilizabl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todo el desarrollo orientado a componentes en general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A5F3-A224-44EA-9109-27ACA384E3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 de Hilos de Contro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 estrategia es especialmente apropiada para sistemas de tiempo rea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s pruebas son orientadas a eventos,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flujos de ejecución desencadenados por ciertos event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de hilos de control (threads) se aplica después que las componentes han sido probadas independientemente e integradas en subsistem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ara cada evento, se sigue el hilo de acciones desencadenadas en las distintas compon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 una estrategia apropiada para sistemas O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5622-B74A-4B3C-9B7C-29B67969E4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 de Hilos de Contro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e identifica la mayor cantidad de hilos de control posibles y se analiza su ejecu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be identificarse las componentes que afecta cada hilo y las interacciónes de las que hace us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3809880"/>
            <a:ext cx="990720" cy="45720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3809880"/>
            <a:ext cx="990360" cy="45720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3809880"/>
            <a:ext cx="990720" cy="45720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4038480"/>
            <a:ext cx="533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69" idx="3"/>
            <a:endCxn id="170" idx="1"/>
          </p:cNvCxnSpPr>
          <p:nvPr/>
        </p:nvCxnSpPr>
        <p:spPr>
          <a:xfrm>
            <a:off x="2133720" y="4038120"/>
            <a:ext cx="45792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0" idx="3"/>
            <a:endCxn id="171" idx="1"/>
          </p:cNvCxnSpPr>
          <p:nvPr/>
        </p:nvCxnSpPr>
        <p:spPr>
          <a:xfrm>
            <a:off x="3581280" y="4038120"/>
            <a:ext cx="45792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5029200" y="4038480"/>
            <a:ext cx="533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560" y="36655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I1(P3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3640" y="36813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O1(P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5029200"/>
            <a:ext cx="990360" cy="45720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10080" y="5029200"/>
            <a:ext cx="990720" cy="45720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5029200"/>
            <a:ext cx="990720" cy="45720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29000" y="5257800"/>
            <a:ext cx="533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8" idx="3"/>
            <a:endCxn id="179" idx="1"/>
          </p:cNvCxnSpPr>
          <p:nvPr/>
        </p:nvCxnSpPr>
        <p:spPr>
          <a:xfrm>
            <a:off x="4952880" y="5257440"/>
            <a:ext cx="45792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3"/>
            <a:endCxn id="180" idx="1"/>
          </p:cNvCxnSpPr>
          <p:nvPr/>
        </p:nvCxnSpPr>
        <p:spPr>
          <a:xfrm>
            <a:off x="6400800" y="5257440"/>
            <a:ext cx="45792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7848720" y="5257800"/>
            <a:ext cx="5331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03760" y="45799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I1(P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03160" y="49006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O1(P5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511440" y="5417640"/>
            <a:ext cx="457200" cy="381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35480" y="4656240"/>
            <a:ext cx="53316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51480" y="50371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I2(P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80080" y="54943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I3(P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5791320"/>
            <a:ext cx="990720" cy="45720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79" idx="2"/>
            <a:endCxn id="191" idx="0"/>
          </p:cNvCxnSpPr>
          <p:nvPr/>
        </p:nvCxnSpPr>
        <p:spPr>
          <a:xfrm>
            <a:off x="5905080" y="5486040"/>
            <a:ext cx="1080" cy="3056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6400800" y="6019920"/>
            <a:ext cx="6858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55240" y="57150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O2(P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495680"/>
            <a:ext cx="0" cy="5335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93120" y="43434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I1(P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EB26-5B8A-4822-B2C2-E3E68F9D73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Aplicación de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Ningún sistema debiera ser probado en forma monolític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sistemas grandes se componen de módulos que forman subsistemas y así sucesivam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No debiera esperarse a tener todo el sistema construido para empezar a probarl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ueden encontrarse defectos en cualquier momento de las pruebas y requerir rehacer desandar parte del camino de desarroll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5645-0C64-47FB-89A1-F61670B293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de Esfuerz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lgunos sistemas están preparados para manejar cierta “carga”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número de transacciones por unidad de tiempo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número de registros en una base de dat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xisten exigencias de carga media y máxima para el sist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robustez del sistema dependerá de cómo maneja los valores de carga más allá de lo planificad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l sistema se sigue cargando hasta que fall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4858-6EB0-464E-A59B-271A521F06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de Esfuerz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s pruebas tienen dos objetiv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omprobar el tipo de falla que se dará en caso de que la carga del sistema sobrepase los máximos anticipad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Hacer aparecer defectos que en circunstancias normales pasarían inadvertid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e tipo de pruebas es especialmente útil en sistemas distribuidos  y sistemas de informa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493F-096E-4EE3-8437-8AE5758C3C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de Constrast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de contraste (back-to-back) se usan cuando se tiene más de una versión del sist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e aplican las mismas pruebas a ambos sistemas y se comparan los resultad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o se usa sólo en casos particular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uando existe un prototipo del sistema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al desarrollar líneas de producto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n sistemas desarrollados para distintas plataform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766C-2293-4910-812F-559550D84A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tapas de Contrast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etapas de esta estrategia so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reparar un conjunto general de casos de prueba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aplicar las pruebas a una versión guardando los resultado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aplicar las pruebas a la otra versión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omparar automáticamente los archivos de resultad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03C7-EF3C-4A71-9ACB-D019503168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de regres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876"/>
              </a:spcBef>
              <a:spcAft>
                <a:spcPts val="125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Propósito: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Asegurar que cambios en el software no introducen nuevos defec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0720" indent="-450720">
              <a:spcBef>
                <a:spcPts val="876"/>
              </a:spcBef>
              <a:spcAft>
                <a:spcPts val="125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e ejecutan luego de modificar el siste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0720" indent="-450720">
              <a:spcBef>
                <a:spcPts val="876"/>
              </a:spcBef>
              <a:spcAft>
                <a:spcPts val="125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onsisten en </a:t>
            </a:r>
            <a:r>
              <a:rPr b="0" i="1" lang="es-MX" sz="2000" spc="-1" strike="noStrike">
                <a:solidFill>
                  <a:srgbClr val="000066"/>
                </a:solidFill>
                <a:latin typeface="Tahoma"/>
              </a:rPr>
              <a:t>repetir las pruebas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que ya se han hecho al sistema en una versión anterior, y comparar el resultado actual con el anterio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0720" indent="-450720">
              <a:spcBef>
                <a:spcPts val="876"/>
              </a:spcBef>
              <a:spcAft>
                <a:spcPts val="125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quí hay un beneficio enorme al tener un ambiente automatizado de prueb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6727-D576-47E1-91F7-4E9946DA9D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specificación de un prueba unitar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4000" y="2338560"/>
            <a:ext cx="81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111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Parámetro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Valor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111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Parámetro</a:t>
            </a:r>
            <a:r>
              <a:rPr b="0" lang="en-US" sz="16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Valor del parámetro 1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111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Parámetro</a:t>
            </a:r>
            <a:r>
              <a:rPr b="0" lang="en-US" sz="16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Valor del parámetro 2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111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Parámetro</a:t>
            </a:r>
            <a:r>
              <a:rPr b="0" lang="en-US" sz="1600" spc="-1" strike="noStrike" baseline="-25000">
                <a:solidFill>
                  <a:srgbClr val="000066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Valor del parámetro 3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111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Retorno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Valor retornado</a:t>
            </a:r>
            <a:r>
              <a:rPr b="0" i="1" lang="es-MX" sz="1600" spc="-1" strike="noStrike">
                <a:solidFill>
                  <a:srgbClr val="000066"/>
                </a:solidFill>
                <a:latin typeface="Tahoma"/>
              </a:rPr>
              <a:t> o bien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 ‘-’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111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Estado Inicial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Condiciones </a:t>
            </a:r>
            <a:r>
              <a:rPr b="0" i="1" lang="es-MX" sz="1600" spc="-1" strike="noStrike">
                <a:solidFill>
                  <a:srgbClr val="000066"/>
                </a:solidFill>
                <a:latin typeface="Tahoma"/>
              </a:rPr>
              <a:t>d</a:t>
            </a: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el estado inicial del sistema</a:t>
            </a:r>
            <a:r>
              <a:rPr b="0" i="1" lang="es-MX" sz="1600" spc="-1" strike="noStrike">
                <a:solidFill>
                  <a:srgbClr val="000066"/>
                </a:solidFill>
                <a:latin typeface="Tahoma"/>
              </a:rPr>
              <a:t> o bien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 ‘-’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111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Excepción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Excepción que se devuelve en este caso</a:t>
            </a:r>
            <a:r>
              <a:rPr b="0" i="1" lang="es-MX" sz="1600" spc="-1" strike="noStrike">
                <a:solidFill>
                  <a:srgbClr val="000066"/>
                </a:solidFill>
                <a:latin typeface="Tahoma"/>
              </a:rPr>
              <a:t> o bien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 ‘-’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111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Efecto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Efectos laterales </a:t>
            </a:r>
            <a:r>
              <a:rPr b="0" i="1" lang="es-MX" sz="1600" spc="-1" strike="noStrike">
                <a:solidFill>
                  <a:srgbClr val="000066"/>
                </a:solidFill>
                <a:latin typeface="Tahoma"/>
              </a:rPr>
              <a:t>para</a:t>
            </a: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 este caso o </a:t>
            </a:r>
            <a:r>
              <a:rPr b="0" i="1" lang="es-MX" sz="1600" spc="-1" strike="noStrike">
                <a:solidFill>
                  <a:srgbClr val="000066"/>
                </a:solidFill>
                <a:latin typeface="Tahoma"/>
              </a:rPr>
              <a:t>bien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‘-’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111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Observación    Qué sucedió?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111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Resultado        No probado/Cumple/No Cumpl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4470-9D14-466F-96EF-56C5E17379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Finalización de las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989000"/>
            <a:ext cx="8283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Es difícil asegurar que el último error detectado, era el único que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quedaba. Sin embargo, existen métodos para mostrar cuándo está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próximo el final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Terminar la prueba cuando el tiempo establecido para la misma ha expirado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Terminar la prueba cuando todos los casos de prueba diseñados, se ejecutan sin detectar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errores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Otros métodos más complicados de aplicar pero más efectivos son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Estimación del número total de errores del programa (en base a estadísticas de proyectos anteriores)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Estimación del porcentaje de estos errores que pueden encontrarse fácilmente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Estimación de qué fracción de errores se origina en 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ciertos 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procesos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 (áreas conflictivas)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68B1-F98E-4AA4-B2C6-E3CA1FC0ACD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riterio de Finaliz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135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spcAft>
                <a:spcPts val="56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Test de unidad: aplicar un método 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spcAft>
                <a:spcPts val="56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Test de Integración: se finaliza cuando se cumplieron los XXX meses programados y se han hallado y corregido XXX errores.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spcAft>
                <a:spcPts val="56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Test de Sistema: se finaliza cuando se cumplieron los YYY meses programados y se han hallado y YYY errores.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spcAft>
                <a:spcPts val="56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Un criterio adicional lo puede proveer la </a:t>
            </a: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cobertura de las pruebas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, o sea la fracción de las líneas ejecutadas en las prueba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spcAft>
                <a:spcPts val="56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En los dos últimos casos es importante llegar a comprobar que seguir testeando es improductivo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spcAft>
                <a:spcPts val="56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Test de Aceptación: generalmente involucra algunos meses (2-6) dependiendo del nivel de criticidad del sistema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D83A-ABA0-4791-8BE1-E522112AB5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tapas de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600200"/>
            <a:ext cx="144792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Pruebas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Unid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2286000"/>
            <a:ext cx="144792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Pruebas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Módul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2971800"/>
            <a:ext cx="144756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Pruebas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ubsistema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3657600"/>
            <a:ext cx="144792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Pruebas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istema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4343400"/>
            <a:ext cx="144792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Pruebas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Aceptació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6" idx="3"/>
            <a:endCxn id="47" idx="0"/>
          </p:cNvCxnSpPr>
          <p:nvPr/>
        </p:nvCxnSpPr>
        <p:spPr>
          <a:xfrm>
            <a:off x="2133720" y="2018880"/>
            <a:ext cx="800640" cy="267120"/>
          </a:xfrm>
          <a:prstGeom prst="bentConnector2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7" idx="3"/>
            <a:endCxn id="48" idx="0"/>
          </p:cNvCxnSpPr>
          <p:nvPr/>
        </p:nvCxnSpPr>
        <p:spPr>
          <a:xfrm>
            <a:off x="3657240" y="2704680"/>
            <a:ext cx="801000" cy="267120"/>
          </a:xfrm>
          <a:prstGeom prst="bentConnector2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8" idx="3"/>
            <a:endCxn id="49" idx="0"/>
          </p:cNvCxnSpPr>
          <p:nvPr/>
        </p:nvCxnSpPr>
        <p:spPr>
          <a:xfrm>
            <a:off x="5181120" y="3390480"/>
            <a:ext cx="801000" cy="267120"/>
          </a:xfrm>
          <a:prstGeom prst="bentConnector2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3"/>
            <a:endCxn id="50" idx="0"/>
          </p:cNvCxnSpPr>
          <p:nvPr/>
        </p:nvCxnSpPr>
        <p:spPr>
          <a:xfrm>
            <a:off x="6705720" y="4076280"/>
            <a:ext cx="800640" cy="267120"/>
          </a:xfrm>
          <a:prstGeom prst="bentConnector2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7" idx="1"/>
            <a:endCxn id="46" idx="2"/>
          </p:cNvCxnSpPr>
          <p:nvPr/>
        </p:nvCxnSpPr>
        <p:spPr>
          <a:xfrm rot="10800000">
            <a:off x="1409040" y="2437560"/>
            <a:ext cx="800640" cy="267120"/>
          </a:xfrm>
          <a:prstGeom prst="bentConnector2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8" idx="1"/>
            <a:endCxn id="47" idx="2"/>
          </p:cNvCxnSpPr>
          <p:nvPr/>
        </p:nvCxnSpPr>
        <p:spPr>
          <a:xfrm rot="10800000">
            <a:off x="2932920" y="3123360"/>
            <a:ext cx="801000" cy="267120"/>
          </a:xfrm>
          <a:prstGeom prst="bentConnector2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1"/>
            <a:endCxn id="48" idx="2"/>
          </p:cNvCxnSpPr>
          <p:nvPr/>
        </p:nvCxnSpPr>
        <p:spPr>
          <a:xfrm rot="10800000">
            <a:off x="4457160" y="3809160"/>
            <a:ext cx="800640" cy="267120"/>
          </a:xfrm>
          <a:prstGeom prst="bentConnector2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0" idx="1"/>
            <a:endCxn id="49" idx="2"/>
          </p:cNvCxnSpPr>
          <p:nvPr/>
        </p:nvCxnSpPr>
        <p:spPr>
          <a:xfrm rot="10800000">
            <a:off x="5981040" y="4494960"/>
            <a:ext cx="800640" cy="267120"/>
          </a:xfrm>
          <a:prstGeom prst="bentConnector2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918000" y="5302080"/>
            <a:ext cx="185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ruebas 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omponent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93880" y="533412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ruebas 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Integració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42960" y="5486400"/>
            <a:ext cx="15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rueb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l Usuari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1981080"/>
            <a:ext cx="6094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53720" y="1784520"/>
            <a:ext cx="24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ecuencia norm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retorno por defect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2209680"/>
            <a:ext cx="60948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1752480"/>
            <a:ext cx="3047760" cy="6858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0AFE-4914-43F9-BAB0-7E31D903E6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tapas de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ahoma"/>
              </a:rPr>
              <a:t>Pruebas de Unidad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s componentes se prueban independientemente para comprobar que operan adecuadamente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l desarrollador de cada unidad se encarga de realizar las prueb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ahoma"/>
              </a:rPr>
              <a:t>Pruebas de Módul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Un módulo es una colección de componentes relacionados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131480" indent="-22608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lase de objetos, tipos abstractos de datos, colección de elementos de una pantall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stas pruebas las aplica en general el programador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ED8D-E86A-4ACC-98EA-AA6DB97EC9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tapas de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ahoma"/>
              </a:rPr>
              <a:t>Pruebas de SubSistem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os módulos se desarrollan en forma independient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eben interactuar bien para lograr los objetivos del subsistema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994320" indent="-19872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incompatibilidad de interfac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A partir de aquí, las pruebas las aplica un equipo especializado en prueb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ahoma"/>
              </a:rPr>
              <a:t>Pruebas del Sistem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ncontrar interacciones no anticipadas de los subsistem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objetivos funcionales y no funcionales del sistem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ahoma"/>
              </a:rPr>
              <a:t>Pruebas de Aceptació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7372-1080-4B7C-8D2F-645FB2F8B5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de Acept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 es la etapa final antes de poner el sistema en produc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l sistema lo prueba el usuario final con datos reales del dominio de aplica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s pruebas buscan errores de otra naturalez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rrores u omisiones en la especificación de requerimientos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097280" indent="-21924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os datos reales no se comportan como los datos de prueba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097280" indent="-21924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sistema no provee la funcionalidad o la eficiencia requerida por el usuari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36A1-0A54-40C1-B74C-05CB6957FD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Alfa y Bet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Pruebas Alf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on las pruebas típicas de aceptación en sistemas desarrollados a medida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e realizan en el ambiente del desarrollador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cliente participa y se sigue probando hasta que se de por satisfech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0" y="1828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Pruebas Bet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on las pruebas de aceptación de software para distribuir como producto a muchos usuarios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e eligen ciertos usuarios potenciales y se les facilita una copia del software para su uso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sistema se considera probado cuando estos clientes están satisfechos con el uso del product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3DAB-F8C2-4397-B856-E6B67313AA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lanificación de las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Proceso de Pruebas: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scripción general del proces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Rastreo de Requerimientos: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da requerimiento debe ser individualmente probad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Items a Probar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e describen los distintos elementos de software a ser probado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074240" indent="-21456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módulos, subsistemas, etc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Agenda de Prueb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genda general y asignación de recursos necesarios para las prueb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Procedimientos de Registr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os resultados de las pruebas deben registrarse para posterior auditorí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Requerimientos de Software y Hardwar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Restriccione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j.: inexistencia de cierto hardware o persona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B95E-63D5-4C3B-9427-54FF303457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en el Proceso de Desarrollo del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2362320"/>
            <a:ext cx="1523880" cy="68580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specificación 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Requerimiento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2362320"/>
            <a:ext cx="1523880" cy="68580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iseño 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rquitectur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2362320"/>
            <a:ext cx="1523880" cy="68580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iseñ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tallad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3429000"/>
            <a:ext cx="1447560" cy="838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lan de Prueba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 Aceptació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3429000"/>
            <a:ext cx="1447560" cy="838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lan de Prueba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 Integració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3429000"/>
            <a:ext cx="1447920" cy="838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lan de Prueba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 Módulos 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Subsistema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15200" y="3429000"/>
            <a:ext cx="1523880" cy="68580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rogramación 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rueba de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Unidad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4876920"/>
            <a:ext cx="1523880" cy="68580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ruebas 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tegració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4876920"/>
            <a:ext cx="1524240" cy="68580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rueba de Módulo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y Subsistema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4876920"/>
            <a:ext cx="1523880" cy="68580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ruebas 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ceptació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79" idx="3"/>
            <a:endCxn id="80" idx="1"/>
          </p:cNvCxnSpPr>
          <p:nvPr/>
        </p:nvCxnSpPr>
        <p:spPr>
          <a:xfrm>
            <a:off x="1980720" y="2704680"/>
            <a:ext cx="762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0" idx="3"/>
            <a:endCxn id="81" idx="1"/>
          </p:cNvCxnSpPr>
          <p:nvPr/>
        </p:nvCxnSpPr>
        <p:spPr>
          <a:xfrm>
            <a:off x="4266720" y="2704680"/>
            <a:ext cx="8391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1" idx="3"/>
            <a:endCxn id="85" idx="0"/>
          </p:cNvCxnSpPr>
          <p:nvPr/>
        </p:nvCxnSpPr>
        <p:spPr>
          <a:xfrm>
            <a:off x="6629400" y="2704680"/>
            <a:ext cx="1448640" cy="7246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5" idx="2"/>
            <a:endCxn id="87" idx="3"/>
          </p:cNvCxnSpPr>
          <p:nvPr/>
        </p:nvCxnSpPr>
        <p:spPr>
          <a:xfrm flipH="1">
            <a:off x="6705360" y="4114440"/>
            <a:ext cx="1372320" cy="11055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1"/>
            <a:endCxn id="86" idx="3"/>
          </p:cNvCxnSpPr>
          <p:nvPr/>
        </p:nvCxnSpPr>
        <p:spPr>
          <a:xfrm flipH="1">
            <a:off x="4266720" y="5219280"/>
            <a:ext cx="91512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6" idx="1"/>
            <a:endCxn id="88" idx="3"/>
          </p:cNvCxnSpPr>
          <p:nvPr/>
        </p:nvCxnSpPr>
        <p:spPr>
          <a:xfrm flipH="1">
            <a:off x="2056680" y="5219280"/>
            <a:ext cx="68652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1219320" y="3048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4267080"/>
            <a:ext cx="0" cy="6098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3048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4267080"/>
            <a:ext cx="0" cy="6098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3048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4267080"/>
            <a:ext cx="0" cy="6098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A07F-72F3-41D3-9FAF-A6BA5C37F0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Sergio F. Ochoa</cp:lastModifiedBy>
  <cp:lastPrinted>2000-10-11T18:41:16Z</cp:lastPrinted>
  <dcterms:modified xsi:type="dcterms:W3CDTF">2005-10-27T17:26:38Z</dcterms:modified>
  <cp:revision>86</cp:revision>
  <dc:subject/>
  <dc:title>CC31B: Desarrollo de Software de Aplicaciones</dc:title>
</cp:coreProperties>
</file>