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6348-3E32-465F-86B8-235C1DB44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E47E-6180-4ECB-9E9D-5EADFCA7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59E6-A427-46CD-A515-DDC3B1A7C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0F82-7497-4759-9E24-187F97B8A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6CCD-F35B-443E-876D-B074F89E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1636-44A9-4414-959C-38C9FD1B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BF06-ADBF-416F-A611-27B19DFB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06B2-CEE5-4FC4-BD4F-BF3F61FE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2258-847A-44DB-835A-1E5FF4CB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2B1E-4433-4C41-8850-08E1F138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68D7-4102-46B6-B15A-F276B5D3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577E-0F54-4854-9D0C-E9B8446D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1049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1049"/>
              </a:spcBef>
              <a:buClr>
                <a:srgbClr val="33cc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449E-E33A-4FF5-9F54-A512D66DD396}" type="slidenum"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El Proceso de Prueb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Estrategias de Prueb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 estrategia de pruebas depende del tipo de sistema y del tipo de proceso de desarrollo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83280" indent="-2628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Pruebas </a:t>
            </a:r>
            <a:r>
              <a:rPr b="0" i="1" lang="es-MX" sz="2200" spc="-1" strike="noStrike">
                <a:solidFill>
                  <a:srgbClr val="000066"/>
                </a:solidFill>
                <a:latin typeface="Tahoma"/>
              </a:rPr>
              <a:t>Top-down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83280" indent="-2628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Pruebas </a:t>
            </a:r>
            <a:r>
              <a:rPr b="0" i="1" lang="es-MX" sz="2200" spc="-1" strike="noStrike">
                <a:solidFill>
                  <a:srgbClr val="000066"/>
                </a:solidFill>
                <a:latin typeface="Tahoma"/>
              </a:rPr>
              <a:t>Bottom-up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83280" indent="-2628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Pruebas de hilos de control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83280" indent="-2628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Pruebas de esfuerzo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83280" indent="-2628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Pruebas </a:t>
            </a:r>
            <a:r>
              <a:rPr b="0" i="1" lang="es-MX" sz="2200" spc="-1" strike="noStrike">
                <a:solidFill>
                  <a:srgbClr val="000066"/>
                </a:solidFill>
                <a:latin typeface="Tahoma"/>
              </a:rPr>
              <a:t>back-to-back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15360" indent="-3153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n la prueba de sistemas grandes se suele usar una mezcla de todas estas estrategi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5360" indent="-3153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e todas formas es mejor una actitud incremental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A71F-AC8E-409D-AD0E-7EF8AAC7DBC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uebas Incremental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s pruebas P1, P2 y P3 se aplican a un sistema formado por las componentes A y B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Se incorpora la componente C y se reaplican las pruebas P1, P2 y P3. Se aplica también la prueba P4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or último se agrega la componente D y se aplican todas las otras pruebas además de una nueva P5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4876920"/>
            <a:ext cx="76212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5562720"/>
            <a:ext cx="76212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105" idx="2"/>
            <a:endCxn id="106" idx="0"/>
          </p:cNvCxnSpPr>
          <p:nvPr/>
        </p:nvCxnSpPr>
        <p:spPr>
          <a:xfrm>
            <a:off x="1218960" y="5257440"/>
            <a:ext cx="1080" cy="3056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2057400" y="4648320"/>
            <a:ext cx="457200" cy="4572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7400" y="5181480"/>
            <a:ext cx="457200" cy="4572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5715000"/>
            <a:ext cx="457200" cy="4572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5410080"/>
            <a:ext cx="838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4876920"/>
            <a:ext cx="0" cy="10666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4876920"/>
            <a:ext cx="1522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5943600"/>
            <a:ext cx="1522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76212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5029200"/>
            <a:ext cx="76212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5" idx="2"/>
            <a:endCxn id="116" idx="0"/>
          </p:cNvCxnSpPr>
          <p:nvPr/>
        </p:nvCxnSpPr>
        <p:spPr>
          <a:xfrm>
            <a:off x="4038120" y="4800240"/>
            <a:ext cx="1080" cy="2293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18" name=""/>
          <p:cNvSpPr/>
          <p:nvPr/>
        </p:nvSpPr>
        <p:spPr>
          <a:xfrm>
            <a:off x="3657600" y="5638680"/>
            <a:ext cx="762120" cy="381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16" idx="2"/>
            <a:endCxn id="118" idx="0"/>
          </p:cNvCxnSpPr>
          <p:nvPr/>
        </p:nvCxnSpPr>
        <p:spPr>
          <a:xfrm>
            <a:off x="4038120" y="5409720"/>
            <a:ext cx="1080" cy="2293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5181480" y="4784760"/>
            <a:ext cx="457200" cy="4572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81480" y="5318280"/>
            <a:ext cx="457200" cy="4572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81480" y="5851440"/>
            <a:ext cx="457200" cy="4572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5003640"/>
            <a:ext cx="0" cy="10670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29200" y="5013360"/>
            <a:ext cx="1522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029200" y="6080040"/>
            <a:ext cx="1522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38480" y="495288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548640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0" y="4343400"/>
            <a:ext cx="76212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4876920"/>
            <a:ext cx="76212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8" idx="2"/>
            <a:endCxn id="129" idx="0"/>
          </p:cNvCxnSpPr>
          <p:nvPr/>
        </p:nvCxnSpPr>
        <p:spPr>
          <a:xfrm>
            <a:off x="7238520" y="4724280"/>
            <a:ext cx="1080" cy="1533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6858000" y="5410080"/>
            <a:ext cx="762120" cy="381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29" idx="2"/>
            <a:endCxn id="131" idx="0"/>
          </p:cNvCxnSpPr>
          <p:nvPr/>
        </p:nvCxnSpPr>
        <p:spPr>
          <a:xfrm>
            <a:off x="7238520" y="5257440"/>
            <a:ext cx="1080" cy="1530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8381880" y="3886200"/>
            <a:ext cx="457200" cy="4572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1880" y="4419720"/>
            <a:ext cx="457200" cy="4572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81880" y="4952880"/>
            <a:ext cx="457200" cy="4572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229600" y="4114800"/>
            <a:ext cx="0" cy="21337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229600" y="4114800"/>
            <a:ext cx="1522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229600" y="5181480"/>
            <a:ext cx="1522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238880" y="480060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238880" y="533412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5943600"/>
            <a:ext cx="76212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1880" y="5486400"/>
            <a:ext cx="457200" cy="4572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1880" y="6019920"/>
            <a:ext cx="457200" cy="4572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229600" y="6248520"/>
            <a:ext cx="1522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31" idx="2"/>
            <a:endCxn id="141" idx="0"/>
          </p:cNvCxnSpPr>
          <p:nvPr/>
        </p:nvCxnSpPr>
        <p:spPr>
          <a:xfrm>
            <a:off x="7238520" y="5790960"/>
            <a:ext cx="1080" cy="1530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46" name=""/>
          <p:cNvSpPr/>
          <p:nvPr/>
        </p:nvSpPr>
        <p:spPr>
          <a:xfrm>
            <a:off x="7238880" y="586728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229600" y="4648320"/>
            <a:ext cx="1522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29600" y="5715000"/>
            <a:ext cx="1522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29200" y="5589720"/>
            <a:ext cx="1522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78600" y="4294080"/>
            <a:ext cx="457200" cy="4572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25960" y="4522680"/>
            <a:ext cx="0" cy="10670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25960" y="4522680"/>
            <a:ext cx="1526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E532-D549-4286-A9B3-E19303ED23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uebas Top-Dow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Se hacen las pruebas de alto nivel primero y solamente después se prueban los detall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n las pruebas de alto nivel se considera solamente la interfaz de las componentes y toda su funcionalidad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tas pruebas se pueden realizar una vez construido el esqueleto del sistema y solamente se procede a desarrollar los subsistemas si pasa las pruebas de alto nivel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te proceso continua hasta tener todo el sistema desarrollado y probad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C879-36AA-4207-B103-13E3CCB092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uebas Top-Dow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os procesos de diseño-programación-prueba son casi indistinguibl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e esta forma se pueden detectar errores de diseño antes de incurrir en costos de programa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Otra ventaja es que tempranamente se tiene un sistema prototipo ejecutable, aunque con limitada funcionalidad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 una prueba más de la factibilidad del desarrollo y puede ser mostrado al usuario para su valida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AE14-69CB-49F7-B92E-1B2B291D99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Dificultades con Top-Dow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 generalmente difícil generar todas las componentes como cajas vacías a ser desarrolladas posteriormente,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se implementa una versión simplificada, o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se implementa la componente completa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Muchas veces no tiene sentido hacer pruebas estructurales si no se cuenta con la funcionalidad de las component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os esqueletos de alto nivel, al no implementar funcionalidad, tampoco generan output, y el encargado de las pruebas debe desarrollar un ambiente para observar los resultad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225B-0BEA-4212-9631-89D0994599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uebas Bottom-Up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 lo opuesto a top-dow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Se desarrolla completamente cada unidad independientemente y se prueban separad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Se va integrando-probando el sistema hasta llegar al sistema complet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s ventajas de bottom-up son las desventajas de top-down y vicevers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F177-A951-481A-A86F-E410779EFE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uebas Bottom-Up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ara probar unidades independientes es necesario desarrollar manejadores (drivers) que simulen su ambiente de ejecu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tos manejadores deben conservarse para probar nuevamente la unidad en caso de modificaciones futur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A medida que se va integrando el sistema, nuevos manejadores deben construirse para estos sistemas parcial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07B8-1D5C-4498-BF70-F89DE4E182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Dificultades con Bottom-Up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trictamente, es necesario desarrollar todas las unidades del sistema antes de comenzar las prueb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os errores de diseño no se detectan hasta muy adelantada la integra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ta fue la estrategia original de prueba de software que fue desplazada por top-down durante la década del 70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Hoy en día ha recuperado cierta vigencia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90840" indent="-2656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los lenguajes orientados a objetos favorecen el desarrollar clases reutilizable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0840" indent="-2656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todo el desarrollo orientado a componentes en general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9D04-355A-4DF4-B668-F05E9E9609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ueba de Hilos de Control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0769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ta estrategia es especialmente apropiada para sistemas de tiempo real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tas pruebas son orientadas a eventos,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flujos de ejecución desencadenados por ciertos event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s pruebas de hilos de control (threads) se aplica después que las componentes han sido probadas independientemente e integradas en subsistem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ara cada evento, se sigue el hilo de acciones desencadenadas en las distintas component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 una estrategia apropiada para sistemas O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0948-C4F1-4EF9-B541-EADA2DC179B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ueba de Hilos de Control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Se identifica la mayor cantidad de hilos de control posibles y se analiza su ejecu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ebe identificarse las componentes que afecta cada hilo y las interacciónes de las que hace us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3809880"/>
            <a:ext cx="990720" cy="45720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90920" y="3809880"/>
            <a:ext cx="990360" cy="45720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038480" y="3809880"/>
            <a:ext cx="990720" cy="45720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4038480"/>
            <a:ext cx="5335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73" name=""/>
          <p:cNvCxnSpPr>
            <a:stCxn id="169" idx="3"/>
            <a:endCxn id="170" idx="1"/>
          </p:cNvCxnSpPr>
          <p:nvPr/>
        </p:nvCxnSpPr>
        <p:spPr>
          <a:xfrm>
            <a:off x="2133720" y="4038120"/>
            <a:ext cx="45792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0" idx="3"/>
            <a:endCxn id="171" idx="1"/>
          </p:cNvCxnSpPr>
          <p:nvPr/>
        </p:nvCxnSpPr>
        <p:spPr>
          <a:xfrm>
            <a:off x="3581280" y="4038120"/>
            <a:ext cx="45792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>
            <a:off x="5029200" y="4038480"/>
            <a:ext cx="5335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560" y="36655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imes New Roman"/>
              </a:rPr>
              <a:t>I1(P3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83640" y="368136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imes New Roman"/>
              </a:rPr>
              <a:t>O1(P4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5029200"/>
            <a:ext cx="990360" cy="45720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10080" y="5029200"/>
            <a:ext cx="990720" cy="45720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5029200"/>
            <a:ext cx="990720" cy="45720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29000" y="5257800"/>
            <a:ext cx="5335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78" idx="3"/>
            <a:endCxn id="179" idx="1"/>
          </p:cNvCxnSpPr>
          <p:nvPr/>
        </p:nvCxnSpPr>
        <p:spPr>
          <a:xfrm>
            <a:off x="4952880" y="5257440"/>
            <a:ext cx="45792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3"/>
            <a:endCxn id="180" idx="1"/>
          </p:cNvCxnSpPr>
          <p:nvPr/>
        </p:nvCxnSpPr>
        <p:spPr>
          <a:xfrm>
            <a:off x="6400800" y="5257440"/>
            <a:ext cx="45792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84" name=""/>
          <p:cNvSpPr/>
          <p:nvPr/>
        </p:nvSpPr>
        <p:spPr>
          <a:xfrm>
            <a:off x="7848720" y="5257800"/>
            <a:ext cx="53316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03760" y="45799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imes New Roman"/>
              </a:rPr>
              <a:t>I1(P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003160" y="49006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imes New Roman"/>
              </a:rPr>
              <a:t>O1(P5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511440" y="5417640"/>
            <a:ext cx="457200" cy="3812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35480" y="4656240"/>
            <a:ext cx="533160" cy="4572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51480" y="50371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imes New Roman"/>
              </a:rPr>
              <a:t>I2(P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980080" y="54943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imes New Roman"/>
              </a:rPr>
              <a:t>I3(P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5791320"/>
            <a:ext cx="990720" cy="45720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79" idx="2"/>
            <a:endCxn id="191" idx="0"/>
          </p:cNvCxnSpPr>
          <p:nvPr/>
        </p:nvCxnSpPr>
        <p:spPr>
          <a:xfrm>
            <a:off x="5905080" y="5486040"/>
            <a:ext cx="1080" cy="3056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6400800" y="6019920"/>
            <a:ext cx="6858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555240" y="57150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imes New Roman"/>
              </a:rPr>
              <a:t>O2(P4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4495680"/>
            <a:ext cx="0" cy="5335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793120" y="434340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imes New Roman"/>
              </a:rPr>
              <a:t>I1(P2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EC53-D238-4BF4-B3BC-76DFEFA125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Aplicación de Prueb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Ningún sistema debiera ser probado en forma monolític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os sistemas grandes se componen de módulos que forman subsistemas y así sucesivament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No debiera esperarse a tener todo el sistema construido para empezar a probarl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ueden encontrarse defectos en cualquier momento de las pruebas y requerir rehacer desandar parte del camino de desarroll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972B-AAED-4FD8-957C-1686E21DF3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uebas de Esfuerz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Algunos sistemas están preparados para manejar cierta “carga”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número de transacciones por unidad de tiempo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número de registros en una base de dat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xisten exigencias de carga media y máxima para el sistem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 robustez del sistema dependerá de cómo maneja los valores de carga más allá de lo planificad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l sistema se sigue cargando hasta que fall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C81E-5EC9-42C2-A99F-3F798D136A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uebas de Esfuerz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tas pruebas tienen dos objetivo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comprobar el tipo de falla que se dará en caso de que la carga del sistema sobrepase los máximos anticipad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Hacer aparecer defectos que en circunstancias normales pasarían inadvertid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te tipo de pruebas es especialmente útil en sistemas distribuidos  y sistemas de informa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33DB-DDD1-4179-86DA-9F21186BDD0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uebas de Constraste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s pruebas de contraste (back-to-back) se usan cuando se tiene más de una versión del sistem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Se aplican las mismas pruebas a ambos sistemas y se comparan los resultad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to se usa sólo en casos particular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cuando existe un prototipo del sistema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al desarrollar líneas de producto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n sistemas desarrollados para distintas plataforma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A4C3-EA3F-4F2E-B79A-1707FDD23EF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Etapas de Contraste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s etapas de esta estrategia son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preparar un conjunto general de casos de prueba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aplicar las pruebas a una versión guardando los resultado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aplicar las pruebas a la otra versión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comparar automáticamente los archivos de resultad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1188-332D-4073-8C61-7019FBEDF4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uebas de regres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135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876"/>
              </a:spcBef>
              <a:spcAft>
                <a:spcPts val="1250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Propósito: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 Asegurar que cambios en el software no introducen nuevos defect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50720" indent="-450720">
              <a:spcBef>
                <a:spcPts val="876"/>
              </a:spcBef>
              <a:spcAft>
                <a:spcPts val="1250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Se ejecutan luego de modificar el sistem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50720" indent="-450720">
              <a:spcBef>
                <a:spcPts val="876"/>
              </a:spcBef>
              <a:spcAft>
                <a:spcPts val="1250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onsisten en </a:t>
            </a:r>
            <a:r>
              <a:rPr b="0" i="1" lang="es-MX" sz="2000" spc="-1" strike="noStrike">
                <a:solidFill>
                  <a:srgbClr val="000066"/>
                </a:solidFill>
                <a:latin typeface="Tahoma"/>
              </a:rPr>
              <a:t>repetir las pruebas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 que ya se han hecho al sistema en una versión anterior, y comparar el resultado actual con el anterior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50720" indent="-450720">
              <a:spcBef>
                <a:spcPts val="876"/>
              </a:spcBef>
              <a:spcAft>
                <a:spcPts val="1250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Aquí hay un beneficio enorme al tener un ambiente automatizado de prueb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6B1C-0976-4CD1-BBCB-D4CCAE06EEE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Especificación de un prueba unitari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4000" y="2338560"/>
            <a:ext cx="813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111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Parámetro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Valor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2111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Tahoma"/>
              </a:rPr>
              <a:t>Parámetro</a:t>
            </a:r>
            <a:r>
              <a:rPr b="0" lang="en-US" sz="1600" spc="-1" strike="noStrike" baseline="-25000">
                <a:solidFill>
                  <a:srgbClr val="000066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66"/>
                </a:solidFill>
                <a:latin typeface="Tahoma"/>
              </a:rPr>
              <a:t>Valor del parámetro 1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2111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Tahoma"/>
              </a:rPr>
              <a:t>Parámetro</a:t>
            </a:r>
            <a:r>
              <a:rPr b="0" lang="en-US" sz="1600" spc="-1" strike="noStrike" baseline="-25000">
                <a:solidFill>
                  <a:srgbClr val="000066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66"/>
                </a:solidFill>
                <a:latin typeface="Tahoma"/>
              </a:rPr>
              <a:t>Valor del parámetro 2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2111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Tahoma"/>
              </a:rPr>
              <a:t>Parámetro</a:t>
            </a:r>
            <a:r>
              <a:rPr b="0" lang="en-US" sz="1600" spc="-1" strike="noStrike" baseline="-25000">
                <a:solidFill>
                  <a:srgbClr val="000066"/>
                </a:solidFill>
                <a:latin typeface="Tahoma"/>
              </a:rPr>
              <a:t>3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66"/>
                </a:solidFill>
                <a:latin typeface="Tahoma"/>
              </a:rPr>
              <a:t>Valor del parámetro 3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2111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Retorno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66"/>
                </a:solidFill>
                <a:latin typeface="Tahoma"/>
              </a:rPr>
              <a:t>Valor retornado</a:t>
            </a:r>
            <a:r>
              <a:rPr b="0" i="1" lang="es-MX" sz="1600" spc="-1" strike="noStrike">
                <a:solidFill>
                  <a:srgbClr val="000066"/>
                </a:solidFill>
                <a:latin typeface="Tahoma"/>
              </a:rPr>
              <a:t> o bien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 ‘-’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2111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Estado Inicial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66"/>
                </a:solidFill>
                <a:latin typeface="Tahoma"/>
              </a:rPr>
              <a:t>Condiciones </a:t>
            </a:r>
            <a:r>
              <a:rPr b="0" i="1" lang="es-MX" sz="1600" spc="-1" strike="noStrike">
                <a:solidFill>
                  <a:srgbClr val="000066"/>
                </a:solidFill>
                <a:latin typeface="Tahoma"/>
              </a:rPr>
              <a:t>d</a:t>
            </a:r>
            <a:r>
              <a:rPr b="0" i="1" lang="en-US" sz="1600" spc="-1" strike="noStrike">
                <a:solidFill>
                  <a:srgbClr val="000066"/>
                </a:solidFill>
                <a:latin typeface="Tahoma"/>
              </a:rPr>
              <a:t>el estado inicial del sistema</a:t>
            </a:r>
            <a:r>
              <a:rPr b="0" i="1" lang="es-MX" sz="1600" spc="-1" strike="noStrike">
                <a:solidFill>
                  <a:srgbClr val="000066"/>
                </a:solidFill>
                <a:latin typeface="Tahoma"/>
              </a:rPr>
              <a:t> o bien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 ‘-’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2111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Excepción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66"/>
                </a:solidFill>
                <a:latin typeface="Tahoma"/>
              </a:rPr>
              <a:t>Excepción que se devuelve en este caso</a:t>
            </a:r>
            <a:r>
              <a:rPr b="0" i="1" lang="es-MX" sz="1600" spc="-1" strike="noStrike">
                <a:solidFill>
                  <a:srgbClr val="000066"/>
                </a:solidFill>
                <a:latin typeface="Tahoma"/>
              </a:rPr>
              <a:t> o bien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 ‘-’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2111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Efecto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66"/>
                </a:solidFill>
                <a:latin typeface="Tahoma"/>
              </a:rPr>
              <a:t>Efectos laterales </a:t>
            </a:r>
            <a:r>
              <a:rPr b="0" i="1" lang="es-MX" sz="1600" spc="-1" strike="noStrike">
                <a:solidFill>
                  <a:srgbClr val="000066"/>
                </a:solidFill>
                <a:latin typeface="Tahoma"/>
              </a:rPr>
              <a:t>para</a:t>
            </a:r>
            <a:r>
              <a:rPr b="0" i="1" lang="en-US" sz="1600" spc="-1" strike="noStrike">
                <a:solidFill>
                  <a:srgbClr val="000066"/>
                </a:solidFill>
                <a:latin typeface="Tahoma"/>
              </a:rPr>
              <a:t> este caso o </a:t>
            </a:r>
            <a:r>
              <a:rPr b="0" i="1" lang="es-MX" sz="1600" spc="-1" strike="noStrike">
                <a:solidFill>
                  <a:srgbClr val="000066"/>
                </a:solidFill>
                <a:latin typeface="Tahoma"/>
              </a:rPr>
              <a:t>bien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‘-’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2111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Observación    Qué sucedió?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2111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Resultado        No probado/Cumple/No Cumple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7D10-9B8B-4B2A-8E44-81D72728330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Finalización de las Prueb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989000"/>
            <a:ext cx="8283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Es difícil asegurar que el último error detectado, era el único que</a:t>
            </a: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quedaba. Sin embargo, existen métodos para mostrar cuándo está</a:t>
            </a: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próximo el final</a:t>
            </a: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Terminar la prueba cuando el tiempo establecido para la misma ha expirado</a:t>
            </a: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Terminar la prueba cuando todos los casos de prueba diseñados, se ejecutan sin detectar</a:t>
            </a: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errores</a:t>
            </a: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Otros métodos más complicados de aplicar pero más efectivos son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Estimación del número total de errores del programa (en base a estadísticas de proyectos anteriores)</a:t>
            </a: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Estimación del porcentaje de estos errores que pueden encontrarse fácilmente</a:t>
            </a: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Estimación de qué fracción de errores se origina en </a:t>
            </a: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ciertos </a:t>
            </a: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procesos</a:t>
            </a: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 (áreas conflictivas)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36F8-FE27-4F6C-8D8E-7BE10BB932E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Criterio de Finaliza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8135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spcAft>
                <a:spcPts val="56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Test de unidad: aplicar un método 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88"/>
              </a:spcBef>
              <a:spcAft>
                <a:spcPts val="56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Test de Integración: se finaliza cuando se cumplieron los XXX meses programados y se han hallado y corregido XXX errores. 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88"/>
              </a:spcBef>
              <a:spcAft>
                <a:spcPts val="56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Test de Sistema: se finaliza cuando se cumplieron los YYY meses programados y se han hallado y YYY errores. 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88"/>
              </a:spcBef>
              <a:spcAft>
                <a:spcPts val="56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Un criterio adicional lo puede proveer la </a:t>
            </a:r>
            <a:r>
              <a:rPr b="1" lang="es-MX" sz="1800" spc="-1" strike="noStrike">
                <a:solidFill>
                  <a:srgbClr val="000066"/>
                </a:solidFill>
                <a:latin typeface="Tahoma"/>
              </a:rPr>
              <a:t>cobertura de las pruebas</a:t>
            </a: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, o sea la fracción de las líneas ejecutadas en las pruebas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88"/>
              </a:spcBef>
              <a:spcAft>
                <a:spcPts val="56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En los dos últimos casos es importante llegar a comprobar que seguir testeando es improductivo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88"/>
              </a:spcBef>
              <a:spcAft>
                <a:spcPts val="56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Test de Aceptación: generalmente involucra algunos meses (2-6) dependiendo del nivel de criticidad del sistema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AA30-6676-4019-AFA5-97A4F343C3B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Etapas de Prueb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600200"/>
            <a:ext cx="144792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Pruebas 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Unida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2286000"/>
            <a:ext cx="144792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Pruebas 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Módulo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733920" y="2971800"/>
            <a:ext cx="144756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Pruebas 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Subsistema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57800" y="3657600"/>
            <a:ext cx="144792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Pruebas 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Sistema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4343400"/>
            <a:ext cx="144792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Pruebas 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Aceptació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6" idx="3"/>
            <a:endCxn id="47" idx="0"/>
          </p:cNvCxnSpPr>
          <p:nvPr/>
        </p:nvCxnSpPr>
        <p:spPr>
          <a:xfrm>
            <a:off x="2133720" y="2018880"/>
            <a:ext cx="800640" cy="267120"/>
          </a:xfrm>
          <a:prstGeom prst="bentConnector2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7" idx="3"/>
            <a:endCxn id="48" idx="0"/>
          </p:cNvCxnSpPr>
          <p:nvPr/>
        </p:nvCxnSpPr>
        <p:spPr>
          <a:xfrm>
            <a:off x="3657240" y="2704680"/>
            <a:ext cx="801000" cy="267120"/>
          </a:xfrm>
          <a:prstGeom prst="bentConnector2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8" idx="3"/>
            <a:endCxn id="49" idx="0"/>
          </p:cNvCxnSpPr>
          <p:nvPr/>
        </p:nvCxnSpPr>
        <p:spPr>
          <a:xfrm>
            <a:off x="5181120" y="3390480"/>
            <a:ext cx="801000" cy="267120"/>
          </a:xfrm>
          <a:prstGeom prst="bentConnector2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3"/>
            <a:endCxn id="50" idx="0"/>
          </p:cNvCxnSpPr>
          <p:nvPr/>
        </p:nvCxnSpPr>
        <p:spPr>
          <a:xfrm>
            <a:off x="6705720" y="4076280"/>
            <a:ext cx="800640" cy="267120"/>
          </a:xfrm>
          <a:prstGeom prst="bentConnector2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7" idx="1"/>
            <a:endCxn id="46" idx="2"/>
          </p:cNvCxnSpPr>
          <p:nvPr/>
        </p:nvCxnSpPr>
        <p:spPr>
          <a:xfrm rot="10800000">
            <a:off x="1409040" y="2437560"/>
            <a:ext cx="800640" cy="267120"/>
          </a:xfrm>
          <a:prstGeom prst="bentConnector2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8" idx="1"/>
            <a:endCxn id="47" idx="2"/>
          </p:cNvCxnSpPr>
          <p:nvPr/>
        </p:nvCxnSpPr>
        <p:spPr>
          <a:xfrm rot="10800000">
            <a:off x="2932920" y="3123360"/>
            <a:ext cx="801000" cy="267120"/>
          </a:xfrm>
          <a:prstGeom prst="bentConnector2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1"/>
            <a:endCxn id="48" idx="2"/>
          </p:cNvCxnSpPr>
          <p:nvPr/>
        </p:nvCxnSpPr>
        <p:spPr>
          <a:xfrm rot="10800000">
            <a:off x="4457160" y="3809160"/>
            <a:ext cx="800640" cy="267120"/>
          </a:xfrm>
          <a:prstGeom prst="bentConnector2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0" idx="1"/>
            <a:endCxn id="49" idx="2"/>
          </p:cNvCxnSpPr>
          <p:nvPr/>
        </p:nvCxnSpPr>
        <p:spPr>
          <a:xfrm rot="10800000">
            <a:off x="5981040" y="4494960"/>
            <a:ext cx="800640" cy="267120"/>
          </a:xfrm>
          <a:prstGeom prst="bentConnector2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918000" y="5302080"/>
            <a:ext cx="185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ruebas d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omponent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93880" y="5334120"/>
            <a:ext cx="15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ruebas d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Integració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42960" y="5486400"/>
            <a:ext cx="15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rueba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del Usuari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43600" y="1981080"/>
            <a:ext cx="6094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53720" y="1784520"/>
            <a:ext cx="24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secuencia norm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retorno por defecto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43600" y="2209680"/>
            <a:ext cx="60948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1752480"/>
            <a:ext cx="3047760" cy="6858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2807-D19C-4089-B778-74FCF61CDE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Etapas de Prueb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ahoma"/>
              </a:rPr>
              <a:t>Pruebas de Unidad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las componentes se prueban independientemente para comprobar que operan adecuadamente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l desarrollador de cada unidad se encarga de realizar las prueba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ahoma"/>
              </a:rPr>
              <a:t>Pruebas de Módulo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Un módulo es una colección de componentes relacionados: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2" marL="1131480" indent="-226080">
              <a:spcBef>
                <a:spcPts val="751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lase de objetos, tipos abstractos de datos, colección de elementos de una pantall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stas pruebas las aplica en general el programador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540C-DDBF-419A-B012-ECF402BB01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Etapas de Prueb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ahoma"/>
              </a:rPr>
              <a:t>Pruebas de SubSistema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los módulos se desarrollan en forma independiente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deben interactuar bien para lograr los objetivos del subsistema: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2" marL="994320" indent="-198720">
              <a:spcBef>
                <a:spcPts val="751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incompatibilidad de interfac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A partir de aquí, las pruebas las aplica un equipo especializado en prueba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ahoma"/>
              </a:rPr>
              <a:t>Pruebas del Sistema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ncontrar interacciones no anticipadas de los subsistema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objetivos funcionales y no funcionales del sistema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ahoma"/>
              </a:rPr>
              <a:t>Pruebas de Aceptación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B783-49D2-4D01-8297-C22B57EF67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uebas de Acepta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ta es la etapa final antes de poner el sistema en produc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l sistema lo prueba el usuario final con datos reales del dominio de aplica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tas pruebas buscan errores de otra naturaleza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rrores u omisiones en la especificación de requerimientos: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2" marL="1097280" indent="-219240">
              <a:spcBef>
                <a:spcPts val="751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los datos reales no se comportan como los datos de prueba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097280" indent="-219240">
              <a:spcBef>
                <a:spcPts val="751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l sistema no provee la funcionalidad o la eficiencia requerida por el usuari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FFF3-21CC-4455-8A47-2AF069A7FD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uebas Alfa y Bet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Pruebas Alfa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son las pruebas típicas de aceptación en sistemas desarrollados a medida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se realizan en el ambiente del desarrollador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l cliente participa y se sigue probando hasta que se de por satisfech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0" y="18288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Pruebas Beta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90840" indent="-26568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son las pruebas de aceptación de software para distribuir como producto a muchos usuarios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90840" indent="-26568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se eligen ciertos usuarios potenciales y se les facilita una copia del software para su uso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90840" indent="-26568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l sistema se considera probado cuando estos clientes están satisfechos con el uso del product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7406-A3D1-4966-9119-79CAF25CA8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lanificación de las Prueb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Proceso de Pruebas: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descripción general del proces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Rastreo de Requerimientos: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ada requerimiento debe ser individualmente probad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Items a Probar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se describen los distintos elementos de software a ser probados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074240" indent="-214560"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módulos, subsistemas, etc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Agenda de Pruebas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agenda general y asignación de recursos necesarios para las prueb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Procedimientos de Registro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los resultados de las pruebas deben registrarse para posterior auditorí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Requerimientos de Software y Hardware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Restricciones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j.: inexistencia de cierto hardware o personal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F306-E7EA-448F-BE36-3AD4AB6977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uebas en el Proceso de Desarrollo del Software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2362320"/>
            <a:ext cx="1523880" cy="68580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Especificación 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Requerimiento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43200" y="2362320"/>
            <a:ext cx="1523880" cy="68580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Diseño 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rquitectur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05520" y="2362320"/>
            <a:ext cx="1523880" cy="68580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Diseñ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Detallad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3429000"/>
            <a:ext cx="1447560" cy="838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Plan de Prueba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de Aceptació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3429000"/>
            <a:ext cx="1447560" cy="838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Plan de Prueba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de Integració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81480" y="3429000"/>
            <a:ext cx="1447920" cy="838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Plan de Prueba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de Módulos 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Subsistema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15200" y="3429000"/>
            <a:ext cx="1523880" cy="68580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Programación 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Prueba de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Unidad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43200" y="4876920"/>
            <a:ext cx="1523880" cy="68580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Pruebas 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Integració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81480" y="4876920"/>
            <a:ext cx="1524240" cy="68580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Prueba de Módulo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y Subsistema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4876920"/>
            <a:ext cx="1523880" cy="68580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Pruebas 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ceptació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89" name=""/>
          <p:cNvCxnSpPr>
            <a:stCxn id="79" idx="3"/>
            <a:endCxn id="80" idx="1"/>
          </p:cNvCxnSpPr>
          <p:nvPr/>
        </p:nvCxnSpPr>
        <p:spPr>
          <a:xfrm>
            <a:off x="1980720" y="2704680"/>
            <a:ext cx="76284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80" idx="3"/>
            <a:endCxn id="81" idx="1"/>
          </p:cNvCxnSpPr>
          <p:nvPr/>
        </p:nvCxnSpPr>
        <p:spPr>
          <a:xfrm>
            <a:off x="4266720" y="2704680"/>
            <a:ext cx="83916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81" idx="3"/>
            <a:endCxn id="85" idx="0"/>
          </p:cNvCxnSpPr>
          <p:nvPr/>
        </p:nvCxnSpPr>
        <p:spPr>
          <a:xfrm>
            <a:off x="6629400" y="2704680"/>
            <a:ext cx="1448640" cy="7246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5" idx="2"/>
            <a:endCxn id="87" idx="3"/>
          </p:cNvCxnSpPr>
          <p:nvPr/>
        </p:nvCxnSpPr>
        <p:spPr>
          <a:xfrm flipH="1">
            <a:off x="6705360" y="4114440"/>
            <a:ext cx="1372320" cy="110556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1"/>
            <a:endCxn id="86" idx="3"/>
          </p:cNvCxnSpPr>
          <p:nvPr/>
        </p:nvCxnSpPr>
        <p:spPr>
          <a:xfrm flipH="1">
            <a:off x="4266720" y="5219280"/>
            <a:ext cx="91512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6" idx="1"/>
            <a:endCxn id="88" idx="3"/>
          </p:cNvCxnSpPr>
          <p:nvPr/>
        </p:nvCxnSpPr>
        <p:spPr>
          <a:xfrm flipH="1">
            <a:off x="2056680" y="5219280"/>
            <a:ext cx="68652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1219320" y="304812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4267080"/>
            <a:ext cx="0" cy="6098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05320" y="304812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05320" y="4267080"/>
            <a:ext cx="0" cy="6098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67280" y="304812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67280" y="4267080"/>
            <a:ext cx="0" cy="6098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D398-8809-496A-998C-9476B298AB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1T17:06:55Z</dcterms:created>
  <dc:creator>cecilia</dc:creator>
  <dc:description/>
  <dc:language>en-US</dc:language>
  <cp:lastModifiedBy>Sergio F. Ochoa</cp:lastModifiedBy>
  <cp:lastPrinted>2000-10-11T18:41:16Z</cp:lastPrinted>
  <dcterms:modified xsi:type="dcterms:W3CDTF">2005-10-27T17:26:38Z</dcterms:modified>
  <cp:revision>86</cp:revision>
  <dc:subject/>
  <dc:title>CC31B: Desarrollo de Software de Aplicaciones</dc:title>
</cp:coreProperties>
</file>