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CB6E-5EA0-4976-BD08-F3578FDD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C08-28F4-4A52-ACD9-2A40B60C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00B-60BA-4EC6-88E2-37B395080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B21E-46F6-4C84-A4E2-5E383409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2B0-715D-4DB5-BC81-F11B1467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07E-A9CE-4F88-AB9A-6B342ABB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6A3-D919-466E-A3DF-6A06973B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D8A5-FEC8-4D03-A276-3786B27B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63F-9574-4A5A-A7BE-2D85B8071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080-40BA-421C-91AA-B3B89834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DBE-A50F-4390-A35E-D4AED18A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E107-C532-4DBE-934C-D8E4A379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319C-506A-451E-BFE3-92A32EB0F12C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l Proceso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trategi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estrategia de pruebas depende del tipo de sistema y del tipo de proceso de desarroll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Top-down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Bottom-up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de hilos de control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de esfuerzo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83280" indent="-2628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uebas </a:t>
            </a:r>
            <a:r>
              <a:rPr b="0" i="1" lang="es-MX" sz="2200" spc="-1" strike="noStrike">
                <a:solidFill>
                  <a:srgbClr val="000066"/>
                </a:solidFill>
                <a:latin typeface="Tahoma"/>
              </a:rPr>
              <a:t>back-to-back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 prueba de sistemas grandes se suele usar una mezcla de todas estas estrategi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5360" indent="-3153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todas formas es mejor una actitud increment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4BD-8D8E-42EA-811A-A200DEF4A9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Incremental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P1, P2 y P3 se aplican a un sistema formado por las componentes A y B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incorpora la componente C y se reaplican las pruebas P1, P2 y P3. Se aplica también la prueba P4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or último se agrega la componente D y se aplican todas las otras pruebas además de una nueva P5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48769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5627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5" idx="2"/>
            <a:endCxn id="106" idx="0"/>
          </p:cNvCxnSpPr>
          <p:nvPr/>
        </p:nvCxnSpPr>
        <p:spPr>
          <a:xfrm>
            <a:off x="1218960" y="525744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2057400" y="464832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51814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571500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5410080"/>
            <a:ext cx="838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4876920"/>
            <a:ext cx="0" cy="1066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48769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94360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02920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2"/>
            <a:endCxn id="116" idx="0"/>
          </p:cNvCxnSpPr>
          <p:nvPr/>
        </p:nvCxnSpPr>
        <p:spPr>
          <a:xfrm>
            <a:off x="4038120" y="4800240"/>
            <a:ext cx="1080" cy="229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3657600" y="5638680"/>
            <a:ext cx="76212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2"/>
            <a:endCxn id="118" idx="0"/>
          </p:cNvCxnSpPr>
          <p:nvPr/>
        </p:nvCxnSpPr>
        <p:spPr>
          <a:xfrm>
            <a:off x="4038120" y="5409720"/>
            <a:ext cx="1080" cy="229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5181480" y="478476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81480" y="53182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585144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5003640"/>
            <a:ext cx="0" cy="1067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501336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608004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548640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0" y="434340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487692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2"/>
            <a:endCxn id="129" idx="0"/>
          </p:cNvCxnSpPr>
          <p:nvPr/>
        </p:nvCxnSpPr>
        <p:spPr>
          <a:xfrm>
            <a:off x="7238520" y="4724280"/>
            <a:ext cx="1080" cy="1533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6858000" y="5410080"/>
            <a:ext cx="762120" cy="381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9" idx="2"/>
            <a:endCxn id="131" idx="0"/>
          </p:cNvCxnSpPr>
          <p:nvPr/>
        </p:nvCxnSpPr>
        <p:spPr>
          <a:xfrm>
            <a:off x="7238520" y="5257440"/>
            <a:ext cx="1080" cy="153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8381880" y="388620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1880" y="441972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1880" y="49528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29600" y="4114800"/>
            <a:ext cx="0" cy="2133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29600" y="411480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229600" y="518148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38880" y="480060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533412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594360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1880" y="548640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1880" y="601992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62485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1" idx="2"/>
            <a:endCxn id="141" idx="0"/>
          </p:cNvCxnSpPr>
          <p:nvPr/>
        </p:nvCxnSpPr>
        <p:spPr>
          <a:xfrm>
            <a:off x="7238520" y="5790960"/>
            <a:ext cx="1080" cy="1530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146" name=""/>
          <p:cNvSpPr/>
          <p:nvPr/>
        </p:nvSpPr>
        <p:spPr>
          <a:xfrm>
            <a:off x="7238880" y="5867280"/>
            <a:ext cx="990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29600" y="46483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571500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5589720"/>
            <a:ext cx="15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8600" y="4294080"/>
            <a:ext cx="45720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5960" y="4522680"/>
            <a:ext cx="0" cy="10670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5960" y="4522680"/>
            <a:ext cx="1526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469-6ADA-4D50-A388-1713AF21CF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Top-Dow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hacen las pruebas de alto nivel primero y solamente después se prueban los detal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n las pruebas de alto nivel se considera solamente la interfaz de las componentes y toda su funcion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se pueden realizar una vez construido el esqueleto del sistema y solamente se procede a desarrollar los subsistemas si pasa las pruebas de alto nive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e proceso continua hasta tener todo el sistema desarrollado y prob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B8B-CAD4-40D4-A7AD-4F0701A7994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Top-Dow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procesos de diseño-programación-prueba son casi indistinguib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 esta forma se pueden detectar errores de diseño antes de incurrir en costos de progra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Otra ventaja es que tempranamente se tiene un sistema prototipo ejecutable, aunque con limitada funciona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una prueba más de la factibilidad del desarrollo y puede ser mostrado al usuario para su valid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5FEC-0A6C-49D7-8156-0668A4E0DB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icultades con Top-Dow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generalmente difícil generar todas las componentes como cajas vacías a ser desarrolladas posteriormente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implementa una versión simplificada, o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e implementa la componente comple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Muchas veces no tiene sentido hacer pruebas estructurales si no se cuenta con la funcionalidad de las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esqueletos de alto nivel, al no implementar funcionalidad, tampoco generan output, y el encargado de las pruebas debe desarrollar un ambiente para observar l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E94-535A-4AB1-B512-0F4D78B610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Bottom-Up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lo opuesto a top-dow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desarrolla completamente cada unidad independientemente y se prueban separad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va integrando-probando el sistema hasta llegar al sistema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ventajas de bottom-up son las desventajas de top-down y vicevers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12B-6208-4857-AFA9-366DBE5D5F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Bottom-Up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a probar unidades independientes es necesario desarrollar manejadores (drivers) que simulen su ambiente de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os manejadores deben conservarse para probar nuevamente la unidad en caso de modificaciones futur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 medida que se va integrando el sistema, nuevos manejadores deben construirse para estos sistemas parci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1ABA-A4D0-4954-9EA7-BCFD4EC0E2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icultades con Bottom-Up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rictamente, es necesario desarrollar todas las unidades del sistema antes de comenzar las prueb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errores de diseño no se detectan hasta muy adelantada la integr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fue la estrategia original de prueba de software que fue desplazada por top-down durante la década del 70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Hoy en día ha recuperado cierta vigenci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lenguajes orientados a objetos favorecen el desarrollar clases reutilizab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todo el desarrollo orientado a componentes en general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D47-993E-42E8-A186-8BF6A73636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 de Hilos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estrategia es especialmente apropiada para sistemas de tiempo re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son orientadas a eventos,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flujos de ejecución desencadenados por ciertos even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 hilos de control (threads) se aplica después que las componentes han sido probadas independientemente e integradas en subsiste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ara cada evento, se sigue el hilo de acciones desencadenadas en las distintas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 una estrategia apropiada para sistemas O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E93-874B-4476-87F9-2AA62ACD3E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 de Hilos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identifica la mayor cantidad de hilos de control posibles y se analiza su ejecu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ebe identificarse las componentes que afecta cada hilo y las interacciónes de las que hace us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380988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3809880"/>
            <a:ext cx="99036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380988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03848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69" idx="3"/>
            <a:endCxn id="170" idx="1"/>
          </p:cNvCxnSpPr>
          <p:nvPr/>
        </p:nvCxnSpPr>
        <p:spPr>
          <a:xfrm>
            <a:off x="2133720" y="403812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0" idx="3"/>
            <a:endCxn id="171" idx="1"/>
          </p:cNvCxnSpPr>
          <p:nvPr/>
        </p:nvCxnSpPr>
        <p:spPr>
          <a:xfrm>
            <a:off x="3581280" y="403812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5029200" y="403848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560" y="36655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1(P3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3640" y="36813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O1(P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029200"/>
            <a:ext cx="99036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502920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02920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5257800"/>
            <a:ext cx="5335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8" idx="3"/>
            <a:endCxn id="179" idx="1"/>
          </p:cNvCxnSpPr>
          <p:nvPr/>
        </p:nvCxnSpPr>
        <p:spPr>
          <a:xfrm>
            <a:off x="4952880" y="525744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3"/>
            <a:endCxn id="180" idx="1"/>
          </p:cNvCxnSpPr>
          <p:nvPr/>
        </p:nvCxnSpPr>
        <p:spPr>
          <a:xfrm>
            <a:off x="6400800" y="5257440"/>
            <a:ext cx="4579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7848720" y="5257800"/>
            <a:ext cx="5331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03760" y="45799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1(P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3160" y="49006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O1(P5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511440" y="5417640"/>
            <a:ext cx="457200" cy="3812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35480" y="4656240"/>
            <a:ext cx="533160" cy="45720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51480" y="50371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2(P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80080" y="54943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3(P1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5791320"/>
            <a:ext cx="990720" cy="457200"/>
          </a:xfrm>
          <a:prstGeom prst="flowChartAlternateProcess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79" idx="2"/>
            <a:endCxn id="191" idx="0"/>
          </p:cNvCxnSpPr>
          <p:nvPr/>
        </p:nvCxnSpPr>
        <p:spPr>
          <a:xfrm>
            <a:off x="5905080" y="5486040"/>
            <a:ext cx="1080" cy="3056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93" name=""/>
          <p:cNvSpPr/>
          <p:nvPr/>
        </p:nvSpPr>
        <p:spPr>
          <a:xfrm>
            <a:off x="6400800" y="6019920"/>
            <a:ext cx="68580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55240" y="57150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O2(P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4495680"/>
            <a:ext cx="0" cy="5335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93120" y="43434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1(P2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CC29-D9C7-417D-92F9-9EFFC1FAB0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plicación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ingún sistema debiera ser probado en forma monolític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sistemas grandes se componen de módulos que forman subsistemas y así sucesiv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o debiera esperarse a tener todo el sistema construido para empezar a probarl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Pueden encontrarse defectos en cualquier momento de las pruebas y requerir rehacer desandar parte del camino de desarroll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6193-2C69-46D2-B456-C9108D16A7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Esfuerz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os sistemas están preparados para manejar cierta “carga”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úmero de transacciones por unidad de tiemp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número de registros en una base de da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exigencias de carga media y máxima para 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robustez del sistema dependerá de cómo maneja los valores de carga más allá de lo planific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sistema se sigue cargando hasta que fal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7B36-B450-49A2-8B55-A87E74D574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Esfuerz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tienen dos objetiv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robar el tipo de falla que se dará en caso de que la carga del sistema sobrepase los máximos anticip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Hacer aparecer defectos que en circunstancias normales pasarían inadverti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e tipo de pruebas es especialmente útil en sistemas distribuidos  y sistemas de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D90-7B3D-4C39-B8C5-CEDAD60EF4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Constrast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pruebas de contraste (back-to-back) se usan cuando se tiene más de una versión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e aplican las mismas pruebas a ambos sistemas y se comparan los result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o se usa sólo en casos particular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uando existe un prototipo del sistem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l desarrollar líneas de produc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 sistemas desarrollados para distintas plataform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F84-B2A9-46FA-9845-BDD9C90E49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Contrast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tapas de esta estrategia so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reparar un conjunto general de casos de prueba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plicar las pruebas a una versión guardando los resultad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plicar las pruebas a la otra versió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mparar automáticamente los archivos de resultad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BDA2-5E0D-4F49-9F0B-E62C429BE6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regres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opósito: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Asegurar que cambios en el software no introducen nuevos defec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ejecutan luego de modificar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nsisten en </a:t>
            </a:r>
            <a:r>
              <a:rPr b="0" i="1" lang="es-MX" sz="2000" spc="-1" strike="noStrike">
                <a:solidFill>
                  <a:srgbClr val="000066"/>
                </a:solidFill>
                <a:latin typeface="Tahoma"/>
              </a:rPr>
              <a:t>repetir las pruebas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que ya se han hecho al sistema en una versión anterior, y comparar el resultado actual con el anterio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450720" indent="-450720">
              <a:spcBef>
                <a:spcPts val="876"/>
              </a:spcBef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quí hay un beneficio enorme al tener un ambiente automatizado de prueb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7E5-E897-4629-B43D-50298FD35F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pecificación de un prueba unitar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000" y="2338560"/>
            <a:ext cx="813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Valor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del parámetro 1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del parámetro 2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Parámetro</a:t>
            </a:r>
            <a:r>
              <a:rPr b="0" lang="en-US" sz="1600" spc="-1" strike="noStrike" baseline="-25000">
                <a:solidFill>
                  <a:srgbClr val="000066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del parámetro 3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torno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Valor retornado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 o bie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Estado Inicial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Condiciones 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el estado inicial del sistema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 o bie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Excepció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Excepción que se devuelve en este caso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 o bien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Efecto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Efectos laterales 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para</a:t>
            </a:r>
            <a:r>
              <a:rPr b="0" i="1" lang="en-US" sz="1600" spc="-1" strike="noStrike">
                <a:solidFill>
                  <a:srgbClr val="000066"/>
                </a:solidFill>
                <a:latin typeface="Tahoma"/>
              </a:rPr>
              <a:t> este caso o </a:t>
            </a:r>
            <a:r>
              <a:rPr b="0" i="1" lang="es-MX" sz="1600" spc="-1" strike="noStrike">
                <a:solidFill>
                  <a:srgbClr val="000066"/>
                </a:solidFill>
                <a:latin typeface="Tahoma"/>
              </a:rPr>
              <a:t>bien</a:t>
            </a: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‘-’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66"/>
                </a:solidFill>
                <a:latin typeface="Tahoma"/>
              </a:rPr>
              <a:t>Observación    Qué sucedió?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2111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Resultado        No probado/Cumple/No Cumpl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25B-F47B-41A6-A828-07E188481F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Finalización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989000"/>
            <a:ext cx="8283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 difícil asegurar que el último error detectado, era el único que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quedaba. Sin embargo, existen métodos para mostrar cuándo está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róximo el final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Terminar la prueba cuando el tiempo establecido para la misma ha expirado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Terminar la prueba cuando todos los casos de prueba diseñados, se ejecutan sin detectar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rrores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Otros métodos más complicados de aplicar pero más efectivos son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imación del número total de errores del programa (en base a estadísticas de proyectos anteriores)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imación del porcentaje de estos errores que pueden encontrarse fácilmente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Estimación de qué fracción de errores se origina en 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ciertos </a:t>
            </a:r>
            <a:r>
              <a:rPr b="0" lang="es-ES" sz="1800" spc="-1" strike="noStrike">
                <a:solidFill>
                  <a:srgbClr val="000066"/>
                </a:solidFill>
                <a:latin typeface="Tahoma"/>
              </a:rPr>
              <a:t>procesos</a:t>
            </a: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 (áreas conflictivas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56C-1F6D-4FC3-8EB9-46B230F596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riterio de Finaliz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1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unidad: aplicar un método 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Integración: se finaliza cuando se cumplieron los XXX meses programados y se han hallado y corregido XXX errores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Sistema: se finaliza cuando se cumplieron los YYY meses programados y se han hallado y YYY errores.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Un criterio adicional lo puede proveer la </a:t>
            </a:r>
            <a:r>
              <a:rPr b="1" lang="es-MX" sz="1800" spc="-1" strike="noStrike">
                <a:solidFill>
                  <a:srgbClr val="000066"/>
                </a:solidFill>
                <a:latin typeface="Tahoma"/>
              </a:rPr>
              <a:t>cobertura de las pruebas</a:t>
            </a: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, o sea la fracción de las líneas ejecutadas en las pruebas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En los dos últimos casos es importante llegar a comprobar que seguir testeando es improductivo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788"/>
              </a:spcBef>
              <a:spcAft>
                <a:spcPts val="561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Test de Aceptación: generalmente involucra algunos meses (2-6) dependiendo del nivel de criticidad del sistem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274-A712-4304-851D-CD857DB2BE7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6002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Unida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22860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Módul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2971800"/>
            <a:ext cx="144756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ubsistem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36576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istem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1680" y="4343400"/>
            <a:ext cx="1447920" cy="838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Aceptació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6" idx="3"/>
            <a:endCxn id="47" idx="0"/>
          </p:cNvCxnSpPr>
          <p:nvPr/>
        </p:nvCxnSpPr>
        <p:spPr>
          <a:xfrm>
            <a:off x="2133720" y="2018880"/>
            <a:ext cx="80064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7" idx="3"/>
            <a:endCxn id="48" idx="0"/>
          </p:cNvCxnSpPr>
          <p:nvPr/>
        </p:nvCxnSpPr>
        <p:spPr>
          <a:xfrm>
            <a:off x="3657240" y="2704680"/>
            <a:ext cx="80100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8" idx="3"/>
            <a:endCxn id="49" idx="0"/>
          </p:cNvCxnSpPr>
          <p:nvPr/>
        </p:nvCxnSpPr>
        <p:spPr>
          <a:xfrm>
            <a:off x="5181120" y="3390480"/>
            <a:ext cx="80100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3"/>
            <a:endCxn id="50" idx="0"/>
          </p:cNvCxnSpPr>
          <p:nvPr/>
        </p:nvCxnSpPr>
        <p:spPr>
          <a:xfrm>
            <a:off x="6705720" y="4076280"/>
            <a:ext cx="800640" cy="267120"/>
          </a:xfrm>
          <a:prstGeom prst="bentConnector2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7" idx="1"/>
            <a:endCxn id="46" idx="2"/>
          </p:cNvCxnSpPr>
          <p:nvPr/>
        </p:nvCxnSpPr>
        <p:spPr>
          <a:xfrm rot="10800000">
            <a:off x="1409040" y="2437560"/>
            <a:ext cx="80064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1"/>
            <a:endCxn id="47" idx="2"/>
          </p:cNvCxnSpPr>
          <p:nvPr/>
        </p:nvCxnSpPr>
        <p:spPr>
          <a:xfrm rot="10800000">
            <a:off x="2932920" y="3123360"/>
            <a:ext cx="80100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1"/>
            <a:endCxn id="48" idx="2"/>
          </p:cNvCxnSpPr>
          <p:nvPr/>
        </p:nvCxnSpPr>
        <p:spPr>
          <a:xfrm rot="10800000">
            <a:off x="4457160" y="3809160"/>
            <a:ext cx="80064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0" idx="1"/>
            <a:endCxn id="49" idx="2"/>
          </p:cNvCxnSpPr>
          <p:nvPr/>
        </p:nvCxnSpPr>
        <p:spPr>
          <a:xfrm rot="10800000">
            <a:off x="5981040" y="4494960"/>
            <a:ext cx="800640" cy="267120"/>
          </a:xfrm>
          <a:prstGeom prst="bentConnector2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918000" y="530208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omponent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93880" y="533412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tegra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42960" y="5486400"/>
            <a:ext cx="15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rueb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l 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198108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53720" y="178452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secuencia norm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retorno por defecto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2209680"/>
            <a:ext cx="60948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1752480"/>
            <a:ext cx="3047760" cy="6858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853-1719-4B56-BF60-C666E84147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Unidad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componentes se prueban independientemente para comprobar que operan adecuada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l desarrollador de cada unidad se encarga de realizar las prueb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Módul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módulo es una colección de componentes relacionado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31480" indent="-22608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lase de objetos, tipos abstractos de datos, colección de elementos de una pantal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tas pruebas las aplica en general el programador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4B9E-08EB-4478-AA99-2FD92210CA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tapas de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SubSiste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os módulos se desarrollan en forma independi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deben interactuar bien para lograr los objetivos del subsistema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994320" indent="-19872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ncompatibilidad de interfac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A partir de aquí, las pruebas las aplica un equipo especializado en prueb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l Sistem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ncontrar interacciones no anticipadas de los subsistem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objetivos funcionales y no funcionales del sistem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Pruebas de Aceptación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412-D3E3-48FA-8EEB-4297946887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de Acep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 es la etapa final antes de poner el sistema en produ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sistema lo prueba el usuario final con datos reales del dominio de aplic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stas pruebas buscan errores de otra naturalez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rrores u omisiones en la especificación de requerimiento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datos reales no se comportan como los datos de prueb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97280" indent="-21924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no provee la funcionalidad o la eficiencia requerida por el usuar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296-54AB-4D3A-B6C1-F46E2646AA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Alfa y Be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uebas Alf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n las pruebas típicas de aceptación en sistemas desarrollados a medid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realizan en el ambiente del desarrollador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cliente participa y se sigue probando hasta que se de por satisfech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uebas Bet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n las pruebas de aceptación de software para distribuir como producto a muchos usuario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eligen ciertos usuarios potenciales y se les facilita una copia del software para su us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se considera probado cuando estos clientes están satisfechos con el uso del produc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231-8167-48B5-A779-5DD085728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lanificación de las Prueb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oceso de Pruebas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cripción general del proces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astreo de Requerimientos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requerimiento debe ser individualmente proba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Items a Probar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describen los distintos elementos de software a ser probad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074240" indent="-214560">
              <a:spcBef>
                <a:spcPts val="675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módulos, subsistemas, etc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Agenda de Prueb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genda general y asignación de recursos necesarios para las prueb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Procedimientos de Registr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resultados de las pruebas deben registrarse para posterior auditorí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equerimientos de Software y Hardwar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98440" indent="-2984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estriccione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646200" indent="-2484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j.: inexistencia de cierto hardware o person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CA05-D0F1-4FD1-9F16-1F62DB364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uebas en el Proceso de Desarrollo del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3623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Especificación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Requerimiento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23623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iseño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rquitectur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23623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iseñ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tallad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3429000"/>
            <a:ext cx="144756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lan de Prueb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 Acept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3429000"/>
            <a:ext cx="144756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lan de Prueb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 Integr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3429000"/>
            <a:ext cx="1447920" cy="838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lan de Prueb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de Módulos 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Subsistem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342900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ogramación 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 de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Un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48769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Integr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4876920"/>
            <a:ext cx="152424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 de Módulo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y Subsistem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876920"/>
            <a:ext cx="1523880" cy="68580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Pruebas 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66"/>
                </a:solidFill>
                <a:latin typeface="Tahoma"/>
              </a:rPr>
              <a:t>Acepta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79" idx="3"/>
            <a:endCxn id="80" idx="1"/>
          </p:cNvCxnSpPr>
          <p:nvPr/>
        </p:nvCxnSpPr>
        <p:spPr>
          <a:xfrm>
            <a:off x="1980720" y="2704680"/>
            <a:ext cx="76284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0" idx="3"/>
            <a:endCxn id="81" idx="1"/>
          </p:cNvCxnSpPr>
          <p:nvPr/>
        </p:nvCxnSpPr>
        <p:spPr>
          <a:xfrm>
            <a:off x="4266720" y="2704680"/>
            <a:ext cx="8391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81" idx="3"/>
            <a:endCxn id="85" idx="0"/>
          </p:cNvCxnSpPr>
          <p:nvPr/>
        </p:nvCxnSpPr>
        <p:spPr>
          <a:xfrm>
            <a:off x="6629400" y="2704680"/>
            <a:ext cx="1448640" cy="7246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5" idx="2"/>
            <a:endCxn id="87" idx="3"/>
          </p:cNvCxnSpPr>
          <p:nvPr/>
        </p:nvCxnSpPr>
        <p:spPr>
          <a:xfrm flipH="1">
            <a:off x="6705360" y="4114440"/>
            <a:ext cx="1372320" cy="11055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1"/>
            <a:endCxn id="86" idx="3"/>
          </p:cNvCxnSpPr>
          <p:nvPr/>
        </p:nvCxnSpPr>
        <p:spPr>
          <a:xfrm flipH="1">
            <a:off x="4266720" y="5219280"/>
            <a:ext cx="9151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6" idx="1"/>
            <a:endCxn id="88" idx="3"/>
          </p:cNvCxnSpPr>
          <p:nvPr/>
        </p:nvCxnSpPr>
        <p:spPr>
          <a:xfrm flipH="1">
            <a:off x="2056680" y="5219280"/>
            <a:ext cx="6865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1219320" y="3048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267080"/>
            <a:ext cx="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3048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4267080"/>
            <a:ext cx="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04812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67280" y="4267080"/>
            <a:ext cx="0" cy="6098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9FE-F50B-448B-BA93-5CC01B7674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Sergio F. Ochoa</cp:lastModifiedBy>
  <cp:lastPrinted>2000-10-11T18:41:16Z</cp:lastPrinted>
  <dcterms:modified xsi:type="dcterms:W3CDTF">2005-10-27T17:26:38Z</dcterms:modified>
  <cp:revision>86</cp:revision>
  <dc:subject/>
  <dc:title>CC31B: Desarrollo de Software de Aplicaciones</dc:title>
</cp:coreProperties>
</file>