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06F-DA15-4C66-BCED-7B179118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4EA-FF27-4A67-9FE3-B368385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C0C-BB1A-43DD-892E-3AB81795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0D1-AD91-4B20-B070-B52B2E84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DED-70D3-4F3B-AA13-91201202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69E-D579-4D12-BFEF-E8B7335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CDE-8318-4070-BCFE-1C31BCAD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ECF-7EF8-4162-9B23-15AEA70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3A3-0BCE-4D8F-932B-E2C7E39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648-16A3-44E0-8CF8-9AB626B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379-C443-4BA1-BB29-CB139C9C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560-39F1-4ADF-A89E-271A391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E96A-7FC6-474D-A0DE-AB5D041F0917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y Valid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odificabi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editores de pantall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ditor de A corre actualmente en el monitor de 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presume que sus editores son adaptables y portables a muchos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B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monitores y está a la búsqueda de un editor para sus monitor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ea que el editor sea adaptable a futuras versiones de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ómo puede saber B si el editor de A será adaptable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perime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 proporciona un nuevo monitor y da a A una semana para adaptar su edi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B43-7421-47EA-912C-AB29C40376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Cualidades Subjetivas…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prensi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ece ser ineludible que finalmente casi todos los juicios que pueden hacerse acerca del software son subjetivos y opin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solu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ité de evalu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legar la decisión en alguien en quien todos confía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F2D-E288-4D5D-B0BC-4FCD4DC1E1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ualidades Implíci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muchas cualidades que por obvias son dejadas fuera de la especificación de requerimientos. Son un juicio de sentido comú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a consulta en un cajero automático no puede tardar más de 1 minuto en el 95% de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mantenibilidad de los sistemas es una cualidad muy deseable y raramente especificada como parte de los requerimientos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difícil de cuantificar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lamente anticipando los posibles cambios, uno puede evaluar el costo de aplicarl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42F-F960-4AB0-8450-CBB6201A7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enfoques fundament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est: experimentar con el comportamiento d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nálisis: comprobar propiedad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clasificación de la verific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inámica: requiere ejecutar el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ática: no requiere ejecu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fortunadamente todos los enfoques son complement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D1C-5A2F-495A-9035-F0955E0AF5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forma más natural de verificar un software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jecutarlo en una serie de situaciones representativ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r que su comportamiento sea el espera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ay que elegir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onjunto de datos de prueba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propiado porque no es posible probar absolutamente todas las posibil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ser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los menos posible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ara tener menos trabaj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o deben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cubrir la mayor cantidad de cas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osib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tarea de elegir el conjunto de datos de prueba es algo complej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puente que mostró soportar 100 toneladas podemos asumir que también soportará 10 toneladas. ¿Analogí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2C7-2D11-484A-9082-06FE839FF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Búsqueda Bin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 (clave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; tabla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Tabla;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out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oolea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tabla.primero; fin := tabla.ultim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inicio &lt; fin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(inicio + fi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mo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2 &lt;&gt; 0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 - 1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clave &lt;= tabla (medio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in := medi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medio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 := clave = tabla (medio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DE3-6603-4126-9E22-502C5B474D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inu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general los productos de ingeniería cuentan con la propiedad de continu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queños cambios en el ambiente provocan sólo pequeños cambios en el comportamiento del produ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 software no cuentan con esta propiedad de continu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000-FCA9-4B89-AAB0-D3E77E2D4B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: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ueba del software es una actividad crítica de la ingeniería de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aplicarse en form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istemátic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plicitar claramente los resultados esper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scribir la forma de obtener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ocumentar los resultados obten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áctica, la prueba del software se ha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forma desestructu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n aplicar criterios clar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75A-9C39-4E32-AE83-9C432F873A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l software pueden usarse par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mostrar la existencia de errores, nunca su ausenci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[Dijkstra, 1972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24800" y="4300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co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3960" y="42670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9120" y="53262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si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523224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4197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4100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696-A03C-481D-B028-42BC864BBA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Utilidad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pruebas no dan certeza sobre la corrección del software, ¿tienen alguna utilida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bien no proporcionan certeza,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las pruebas pueden aumentar nuestra confianz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n que el sistema se comportará como es esper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 esencial de las pruebas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elegir un conjunto de datos de prueba apropiad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aplicar las pruebas en forma sistemática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7E9-A2F1-4DFD-B1B4-8555E03C90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-13680" y="25416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eva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y 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requerimien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9600" y="27306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iseño 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8800" y="2541600"/>
            <a:ext cx="22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duc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l diseño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enguaj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892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Para qué otra etapa más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¡Ya tenemos el software!!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432-DA10-473B-B06F-EEE6407A1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lores Aleatori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aleatorios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prueba suelen no ser los más apropi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ólo el desarrollador del programa sabe cuáles son 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sens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ara cada aplicación y cuáles los resultados espe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el ejemplo no sirven una cantidad de casos de diferentes valores de (x,y), sino solamente 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igual a y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distinto de y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909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y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z);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0"/>
            <a:ext cx="2514600" cy="27432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020-AE5F-407C-9206-64F2617E28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ocalizable, Repetible y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no solamente deben detectar la presencia de errores, sino que deben indica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uál es el error y dónde se encuentr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ben organizarse para que provean información acerca de la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ocalización de los error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también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pet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 aplicadas dos veces, debieran producir los mism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influencia del ambiente de ejecución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atenta contra la repetibilidad de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sultados esperados deben definirs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pendiendo de los datos de entrada y de otros eventos del amb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F11-385B-4CE4-8ECF-883DCE3E51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riables no Inicializ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 variable x no está inicializada y se tiene este trozo de programa, ¿cuál será el result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anormal”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normal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ueba no es repet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lenguajes no chequean que las variables estén inicializadas, por razones de efici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0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a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320040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72D-1082-48A6-8EE5-63965A187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l software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uficientemente precisa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omo para guiar las prueb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o consecuencia del estímulo X, el sistema debe producir la salida Y en menos de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prueba debe aplicars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r el estímulo X a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edir el tiempo hasta que produzca la sal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que la salida sea Y y el tiempo sea menor o igual a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, ¿qué sucede si ocurren otros eventos después de dar el estímulo X? ¿Cómo se prueba un sistema concurr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D1D-8C35-43A8-90FA-926EE24E80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 establecen formalmente los resultad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 una operación, será más fácil probar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 | 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)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+1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 el programa produce un array “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a”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 tal que satisface esta fórmula, el software será correcto con respecto a esta especific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pecificaciones formales pueden ser útiles también para generar datos de prueba automátic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estructuradas aumentan la confiabi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A4F-20F0-4B49-9F1B-BC3661A9B5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ases Teórica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 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P un progra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D su dominio de entrada y R su recorrido de salidas (D y R pueden ser infinit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elemento de D a P, este producirá un elemento de R (función parcial): 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P: D </a:t>
            </a:r>
            <a:r>
              <a:rPr b="1" lang="es-MX" sz="2200" spc="-1" strike="noStrike">
                <a:solidFill>
                  <a:srgbClr val="000066"/>
                </a:solidFill>
                <a:latin typeface="ZapfDingbats"/>
                <a:ea typeface="ZapfDingbats"/>
              </a:rPr>
              <a:t>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 R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n OR (output requirements) los requerimientos sobre los datos de salida especificados formal o inform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ado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satisface 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3F2-D40D-4E46-BBB7-16F9EEF744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fectos, Fallas y Fal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esencia de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rror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fec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se demuestra encontrando un d tal que P(d) es in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l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el síntoma de que existe un error; se da durante la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 un error puede existir en el código sin causar ninguna fa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objetivo de las pruebas es tratar de que todos los defectos existentes provoquen fall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t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un estado intermedio incorrecto en que entra un programa durante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DDB-BC3C-4702-ADBD-77A5CBD200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sobre Faltas y Fall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falla solamente ocurre si existe una fal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 defecto no provoca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a falta no produce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6306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5E5-EDC3-4F3D-B559-808BE92379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asos y Conjunt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aso de prueba d es un elemento del dominio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, es un conjunto finito de casos de prueba: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para T, si es correcto para todos los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. Se dice entonces que T es exitoso para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 es ideal 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| P(d) es incorrect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onjunto de prueba ideal siempre muestra la existencia de defectos si estos existe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es un conjunto ideal y T es exitoso para P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 es 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0B8-02EB-42C1-8074-F088554A50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Selec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el criterio de selección de los elementos de D que forman parte del conjunto de prueba 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una condición que debe cumplir el conjunto de prueba; representa todos los subconjuntos de D que satisfacen dicha cond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: si D es el conjunto de los enteros, el conjunto de prueba deberá tener al menos un dato negativo, uno cero y uno posi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 = {&lt;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...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&gt; |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3 y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,j,k | (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lt;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j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=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gt; 0)}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satisface C si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8BE-1034-42C6-8B2B-C281E0982E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s Human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ún adoptando los mejores métodos y siendo extremadamente cuidadosos, todos los procesos humanos pueden introducir a err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ntes, galletitas, suelas de zapatos, clavos, 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ben ser verificados en todas sus etap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lan inicial (¿es algo razonable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ceso de desarrollo (¿se lleva a cabo el plan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final (¿cumple con las necesidades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6A9-4436-477E-87E1-E9BEEE876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nsistent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y T2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1 es exitos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2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mple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| T no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 sea que si se dispone de un criterio C consistente y completo, cualquier conjunto de prueba será útil para determinar la corrección de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mentablemente no existe un algoritmo o método para determinar si un criterio de selección de un conjunto de prueba es consistente o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086-361E-4A92-876C-2DD40111C3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l software es el proceso a través del cual se corrobora que el software satisface sus objetiv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autores que hacen diferencia entre verificación y valid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ción: el software es correcto, está implementado acorde a su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alidación: el software es útil para satisfacer las necesidades del usu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CE3-EE40-43C7-8741-232ECCA016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 de pequeños progra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usa el programa como en un caso típico y se constata si se comporta de la manera espera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áctica solamente puede hacerse para programas muy chicos e irreleva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o da ninguna garantía sobre el comportamiento del sistema en casos distintos de los prob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802-2C8A-4F0C-8174-EB485E28B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mportancia de la C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672240" y="2046240"/>
            <a:ext cx="18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9680" y="1828800"/>
            <a:ext cx="177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mé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 f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creativ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0384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LIDA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écnicas de control de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cción de los casos de prueb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seguramiento de la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397320"/>
            <a:ext cx="7391520" cy="761760"/>
          </a:xfrm>
          <a:prstGeom prst="rightArrow">
            <a:avLst>
              <a:gd name="adj1" fmla="val 50000"/>
              <a:gd name="adj2" fmla="val 242580"/>
            </a:avLst>
          </a:prstGeom>
          <a:gradFill rotWithShape="0">
            <a:gsLst>
              <a:gs pos="0">
                <a:srgbClr val="0080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9BA-3081-4BAE-B272-C11193F55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odo debe ser ver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odas las cualidades relevantes del sistema deben ser verific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rrección: la implementación se comporta de acuerdo con la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ort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ific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formanc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be realizarse por distintas personas durante distintas etapas del desarrollo del softwar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gente del equipo de desarrollo podría realizar es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792-052E-40D7-8E2E-0D5263594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Resultado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pués de hacer una serie de pruebas de verificación no se llega a una conclusión taja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bueno y lo ponemos en comercialización”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malo y debemos desecharlo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ás bien se llega a tener una idea conceptual de la ca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upuestos sobre la verific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presencia de defectos no puede evitarse en grandes sistemas de 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, algunos defectos pueden tolerars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corrección es relativa y difícil de evalua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C88-A0CB-49C0-9DB4-AD2F27D6A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Objetiva o Subjetiv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as pruebas del sistema son objetiv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ar una entrada y verificar la corrección de la salid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dir el tiempo de respuesta de una trans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tras cualidades no pueden medirse tan objetiv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sólo puede decirse algo acerca de cuán difícil sería portar el software a un ambiente particula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odificabilidad: el sistema será más o menos modificable de acuerdo al cambio a aplic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8006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eseable sin embargo poder decir algo más general sobre las cualidades del software: estimaciones subjetiv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el software está desarrollado en java, o sea que podrá correr en cualquier máquin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F1F-5941-43DC-BC4E-913D4BA2C7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05T16:29:12Z</cp:lastPrinted>
  <dcterms:modified xsi:type="dcterms:W3CDTF">2005-10-25T17:30:38Z</dcterms:modified>
  <cp:revision>10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