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87C-21E2-4788-B8C7-5A3B5013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3FF-90CC-4B30-9E33-A628167B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EB8-C5C7-4EC6-BFC7-D91C7002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3AB-9E52-4B29-A73F-3738AF1A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B76-02A5-4F44-8E6A-B318C87A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0C8-2823-47FD-A103-2FF7C169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207-AABB-49F7-BF91-592DF070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465-34A1-433E-9FF4-FF78556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91B-4771-47CD-B153-1C9754D4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1E4-FA99-4E00-AB65-3B952E5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154-6803-4CD5-A1CB-6191881F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C20-34E8-424D-B004-7FA36AFE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07B0-3423-4393-8523-C32B35285E68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y Valid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Modificabi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editores de pantall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editor de A corre actualmente en el monitor de B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presume que sus editores son adaptables y portables a muchos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B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monitores y está a la búsqueda de un editor para sus monitor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ea que el editor sea adaptable a futuras versiones de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24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Cómo puede saber B si el editor de A será adaptable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perimen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 proporciona un nuevo monitor y da a A una semana para adaptar su edito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CE4-EC5E-44A3-8505-D7787D4A97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Cualidades Subjetivas…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prensi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ece ser ineludible que finalmente casi todos los juicios que pueden hacerse acerca del software son subjetivos y opinab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as solu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ité de evalu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legar la decisión en alguien en quien todos confía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CA0-BBFC-454B-9B74-6A877EFB43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ualidades Implíci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muchas cualidades que por obvias son dejadas fuera de la especificación de requerimientos. Son un juicio de sentido comú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a consulta en un cajero automático no puede tardar más de 1 minuto en el 95% de los ca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mantenibilidad de los sistemas es una cualidad muy deseable y raramente especificada como parte de los requerimientos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muy difícil de cuantificar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olamente anticipando los posibles cambios, uno puede evaluar el costo de aplicarl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BC6-1EC6-421C-9F9F-7BBB65B5A8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nfoques de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enfoques fundament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est: experimentar con el comportamiento del siste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nálisis: comprobar propiedades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tra clasificación de la verifica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inámica: requiere ejecutar el softwa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tática: no requiere ejecu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fortunadamente todos los enfoques son complementar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6BE-BF35-4DC7-8728-90630832C0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forma más natural de verificar un software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jecutarlo en una serie de situaciones representativ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r que su comportamiento sea el esperad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Hay que elegir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onjunto de datos de prueba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propiado porque no es posible probar absolutamente todas las posibilidad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ben ser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los menos posible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ara tener menos trabaj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o deben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cubrir la mayor cantidad de cas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osibl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tarea de elegir el conjunto de datos de prueba es algo complej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puente que mostró soportar 100 toneladas podemos asumir que también soportará 10 toneladas. ¿Analogía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47E-44A7-4DCB-BD25-DF51290F66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Búsqueda Binar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procedur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 (clave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; tabla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Tabla;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out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oolea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tabla.primero; fin := tabla.ultim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inicio &lt; fin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(inicio + fi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mo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2 &lt;&gt; 0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 - 1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clave &lt;= tabla (medio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in := medi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medio +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 := clave = tabla (medio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97A-EF74-46B1-A72C-700D9B3753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ntinu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general los productos de ingeniería cuentan con la propiedad de continui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queños cambios en el ambiente provocan sólo pequeños cambios en el comportamiento del produc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 software no cuentan con esta propiedad de continu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556-67D4-444E-A1F0-B5A90C4A7D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: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ueba del software es una actividad crítica de la ingeniería de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be aplicarse en form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istemátic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plicitar claramente los resultados esper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scribir la forma de obtener los result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ocumentar los resultados obteni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 práctica, la prueba del software se hac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 forma desestructura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n aplicar criterios clar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5AE-39B4-447A-B3D3-D19E9B9BC4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l software pueden usarse par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mostrar la existencia de errores, nunca su ausenci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[Dijkstra, 1972]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324800" y="4300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co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23960" y="42670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stema incorre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19120" y="53262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si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1880" y="523224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44197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541008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210-3490-4D97-A2C1-4FA5AD9E5C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Utilidad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pruebas no dan certeza sobre la corrección del software, ¿tienen alguna utilida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bien no proporcionan certeza,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las pruebas pueden aumentar nuestra confianz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n que el sistema se comportará como es esper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 esencial de las pruebas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elegir un conjunto de datos de prueba apropiad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aplicar las pruebas en forma sistemática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5C2-5D47-470B-94BD-6B8BD5C2D1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 de Desarrol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-13680" y="2541600"/>
            <a:ext cx="28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eva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y 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requerimien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9600" y="273060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iseño 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8800" y="2541600"/>
            <a:ext cx="22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ducció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l diseño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enguajes 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9892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Para qué otra etapa más?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¡Ya tenemos el software!!!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184-12C1-4A97-BEE6-FB8AD8BECC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lores Aleatori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5480" y="1752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aleatorios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prueba suelen no ser los más apropi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ólo el desarrollador del programa sabe cuáles son 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sens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ara cada aplicación y cuáles los resultados esper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el ejemplo no sirven una cantidad de casos de diferentes valores de (x,y), sino solamente d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igual a y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distinto de y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590920"/>
            <a:ext cx="2209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y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z);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0"/>
            <a:ext cx="2514600" cy="27432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80D-59C6-4522-AF8F-8783FF4C96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Localizable, Repetible y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no solamente deben detectar la presencia de errores, sino que deben indica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uál es el error y dónde se encuentr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ben organizarse para que provean información acerca de la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l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ocalización de los error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también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pet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 aplicadas dos veces, debieran producir los mism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influencia del ambiente de ejecución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atenta contra la repetibilidad de las prueb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sultados esperados deben definirs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pendiendo de los datos de entrada y de otros eventos del amb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DC8-F57F-4916-A39A-B3D9818529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riables no Inicializad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 variable x no está inicializada y se tiene este trozo de programa, ¿cuál será el resultad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anormal”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normal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ueba no es repetib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os lenguajes no chequean que las variables estén inicializadas, por razones de eficienci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590920"/>
            <a:ext cx="297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0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a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90920"/>
            <a:ext cx="3200400" cy="2209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ECF-CB68-4E7F-8105-CCA99CEAAA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l software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uficientemente precisa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omo para guiar las prueb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o consecuencia del estímulo X, el sistema debe producir la salida Y en menos de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prueba debe aplicars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r el estímulo X al sistem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edir el tiempo hasta que produzca la sal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robar que la salida sea Y y el tiempo sea menor o igual a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, ¿qué sucede si ocurren otros eventos después de dar el estímulo X? ¿Cómo se prueba un sistema concurre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504-A4CB-4FDD-BA13-CBEEAB433D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Form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 establecen formalmente los resultado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 una operación, será más fácil probar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i | 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)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+1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 el programa produce un array “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a”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 tal que satisface esta fórmula, el software será correcto con respecto a esta especifica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specificaciones formales pueden ser útiles también para generar datos de prueba automátic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estructuradas aumentan la confiabi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8DA-33E9-45B9-9094-D2F726C96B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Bases Teóricas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 formal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P un progra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D su dominio de entrada y R su recorrido de salidas (D y R pueden ser infinitos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do un elemento de D a P, este producirá un elemento de R (función parcial): 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P: D </a:t>
            </a:r>
            <a:r>
              <a:rPr b="1" lang="es-MX" sz="2200" spc="-1" strike="noStrike">
                <a:solidFill>
                  <a:srgbClr val="000066"/>
                </a:solidFill>
                <a:latin typeface="ZapfDingbats"/>
                <a:ea typeface="ZapfDingbats"/>
              </a:rPr>
              <a:t>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 R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n OR (output requirements) los requerimientos sobre los datos de salida especificados formal o informal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ado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satisface 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E32-AB44-4E52-87B7-AF6BAA9EF5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efectos, Fallas y Fal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esencia de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rror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o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fec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se demuestra encontrando un d tal que P(d) es in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l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el síntoma de que existe un error; se da durante la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 un error puede existir en el código sin causar ninguna fal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objetivo de las pruebas es tratar de que todos los defectos existentes provoquen fall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t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un estado intermedio incorrecto en que entra un programa durante su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7EE-DDE4-4BAD-9F21-CDCCCAF449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sobre Faltas y Fall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falla solamente ocurre si existe una fal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 defecto no provoca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a falta no produce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630600" cy="27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A0B-AEFB-498F-983D-538ADD0D95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asos y Conjunt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aso de prueba d es un elemento del dominio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, es un conjunto finito de casos de prueba: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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para T, si es correcto para todos los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T. Se dice entonces que T es exitoso para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 es ideal 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| P(d) es incorrect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onjunto de prueba ideal siempre muestra la existencia de defectos si estos existe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es un conjunto ideal y T es exitoso para P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 es 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27D-BF17-4255-AD84-1BBA9EF895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Selec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el criterio de selección de los elementos de D que forman parte del conjunto de prueba 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una condición que debe cumplir el conjunto de prueba; representa todos los subconjuntos de D que satisfacen dicha cond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jemplo: si D es el conjunto de los enteros, el conjunto de prueba deberá tener al menos un dato negativo, uno cero y uno positiv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 = {&lt;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...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n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&gt; |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3 y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,j,k | (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i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lt;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j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=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gt; 0)}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satisface C si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8DD-F2EA-4D09-AA05-903C9673C9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s Human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ún adoptando los mejores métodos y siendo extremadamente cuidadosos, todos los procesos humanos pueden introducir a err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uentes, galletitas, suelas de zapatos, clavos, 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ben ser verificados en todas sus etap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lan inicial (¿es algo razonable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ceso de desarrollo (¿se lleva a cabo el plan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final (¿cumple con las necesidades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8EE-AD8A-4341-9188-9B02C0FE48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piedades de C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nsistent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y T2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1 es exitos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2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mple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| T no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 sea que si se dispone de un criterio C consistente y completo, cualquier conjunto de prueba será útil para determinar la corrección de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mentablemente no existe un algoritmo o método para determinar si un criterio de selección de un conjunto de prueba es consistente o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808-1BDD-4510-995A-3100B3464C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l software es el proceso a través del cual se corrobora que el software satisface sus objetiv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autores que hacen diferencia entre verificación y valid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ción: el software es correcto, está implementado acorde a su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alidación: el software es útil para satisfacer las necesidades del usuari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8ED-F00F-4020-873D-E5EE9883C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 de pequeños progra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usa el programa como en un caso típico y se constata si se comporta de la manera espera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áctica solamente puede hacerse para programas muy chicos e irreleva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o da ninguna garantía sobre el comportamiento del sistema en casos distintos de los prob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446-A272-4CAA-A5EF-BEB928941D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Importancia de la Ca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672240" y="2046240"/>
            <a:ext cx="187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erc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9680" y="1828800"/>
            <a:ext cx="1770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oméstic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 fi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creativ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40384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ALIDAD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écnicas de control de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ección de los casos de prueb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seguramiento de la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397320"/>
            <a:ext cx="7391520" cy="761760"/>
          </a:xfrm>
          <a:prstGeom prst="rightArrow">
            <a:avLst>
              <a:gd name="adj1" fmla="val 50000"/>
              <a:gd name="adj2" fmla="val 242580"/>
            </a:avLst>
          </a:prstGeom>
          <a:gradFill rotWithShape="0">
            <a:gsLst>
              <a:gs pos="0">
                <a:srgbClr val="0080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535-60AF-4125-BD81-16A1E3F727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odo debe ser ver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odas las cualidades relevantes del sistema deben ser verificad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rrección: la implementación se comporta de acuerdo con la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ort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ific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formanc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be realizarse por distintas personas durante distintas etapas del desarrollo del softwar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gente del equipo de desarrollo podría realizar es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72D-6D54-494C-9D6C-A5A5718492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Resultado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spués de hacer una serie de pruebas de verificación no se llega a una conclusión taja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bueno y lo ponemos en comercialización”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malo y debemos desecharlo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ás bien se llega a tener una idea conceptual de la ca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upuestos sobre la verific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presencia de defectos no puede evitarse en grandes sistemas de soft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, algunos defectos pueden tolerars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corrección es relativa y difícil de evalua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5EC-5F6E-41E2-AA5E-606C96E2B7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Objetiva o Subjetiv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lgunas pruebas del sistema son objetiv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ar una entrada y verificar la corrección de la salid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dir el tiempo de respuesta de una transac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2160" y="17524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tras cualidades no pueden medirse tan objetivam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sólo puede decirse algo acerca de cuán difícil sería portar el software a un ambiente particular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odificabilidad: el sistema será más o menos modificable de acuerdo al cambio a aplic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80060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eseable sin embargo poder decir algo más general sobre las cualidades del software: estimaciones subjetiva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el software está desarrollado en java, o sea que podrá correr en cualquier máquin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0D2-B254-4B20-A399-4FEE121ECE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05T16:29:12Z</cp:lastPrinted>
  <dcterms:modified xsi:type="dcterms:W3CDTF">2005-10-25T17:30:38Z</dcterms:modified>
  <cp:revision>109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