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A895-94DD-429A-B781-5228149C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B85D-4B50-4E94-840F-CB27B537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9D8-34F8-4EF5-ACB2-3D24DD8D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522C-0D1E-4175-BD22-8A5214C2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0B49-B04D-4A6A-ACB9-9C1F10C2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7CDC-D0E2-49D1-A978-3872A374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EAF2-4A0D-49E0-830E-31ED6579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2B78-B6C0-4A63-AC3F-5B80FE3F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E14-8FC0-46EF-9848-45FA8006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952-586F-44B1-979E-BFA49D60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A0B6-BA47-4740-A6FA-305EB8B9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D4E-D37C-4244-958A-7D33A07E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38E0-6A6F-45C3-9852-856F748FCA38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rificación y Validación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jemplo: Modificabilida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abricante 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abrica editores de pantalla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editor de A corre actualmente en el monitor de B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 presume que sus editores son adaptables y portables a muchos monit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abricante B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abrica monitores y está a la búsqueda de un editor para sus monitores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ea que el editor sea adaptable a futuras versiones de monit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24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Cómo puede saber B si el editor de A será adaptable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xperiment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B proporciona un nuevo monitor y da a A una semana para adaptar su edito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24D5-4F16-4C96-80DC-876D051AE6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Más Cualidades Subjetivas…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318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sabi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mprensibi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arece ser ineludible que finalmente casi todos los juicios que pueden hacerse acerca del software son subjetivos y opinab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lgunas solucion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mité de evaluac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elegar la decisión en alguien en quien todos confía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D85-6B7B-4261-8B14-FF68807403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ualidades Implícit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muchas cualidades que por obvias son dejadas fuera de la especificación de requerimientos. Son un juicio de sentido comú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a consulta en un cajero automático no puede tardar más de 1 minuto en el 95% de los cas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mantenibilidad de los sistemas es una cualidad muy deseable y raramente especificada como parte de los requerimientos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s muy difícil de cuantificar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olamente anticipando los posibles cambios, uno puede evaluar el costo de aplicarl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1BC9-30FE-413C-9A76-D71BE29264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nfoques de Verific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dos enfoques fundamental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Test: experimentar con el comportamiento del sistema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nálisis: comprobar propiedades del sistem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Otra clasificación de la verificació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inámica: requiere ejecutar el softwar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stática: no requiere ejecució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fortunadamente todos los enfoques son complementari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5F8-B2BA-4D65-9026-F285FDE833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Testing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forma más natural de verificar un software 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jecutarlo en una serie de situaciones representativ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verificar que su comportamiento sea el esperad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Hay que elegir un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conjunto de datos de prueba 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propiado porque no es posible probar absolutamente todas las posibilidad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eben ser </a:t>
            </a:r>
            <a:r>
              <a:rPr b="0" i="1" lang="es-MX" sz="2200" spc="-1" strike="noStrike" u="sng">
                <a:solidFill>
                  <a:srgbClr val="000066"/>
                </a:solidFill>
                <a:uFillTx/>
                <a:latin typeface="Tahoma"/>
              </a:rPr>
              <a:t>los menos posibles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para tener menos trabajo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ero deben </a:t>
            </a:r>
            <a:r>
              <a:rPr b="0" i="1" lang="es-MX" sz="2200" spc="-1" strike="noStrike" u="sng">
                <a:solidFill>
                  <a:srgbClr val="000066"/>
                </a:solidFill>
                <a:uFillTx/>
                <a:latin typeface="Tahoma"/>
              </a:rPr>
              <a:t>cubrir la mayor cantidad de casos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posibl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tarea de elegir el conjunto de datos de prueba es algo complej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puente que mostró soportar 100 toneladas podemos asumir que también soportará 10 toneladas. ¿Analogía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40A-DEEB-48B3-8C52-EC01E2B873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jemplo: Búsqueda Binar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procedure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busqueda-binaria (clave: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n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elem; tabla: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n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elemTabla; 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contrado: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out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Boolean)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begi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8648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inicio := tabla.primero; fin := tabla.ultimo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8648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while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inicio &lt; fin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loop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(inicio + fin)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mod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2 &lt;&gt; 0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3" marL="56304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medio := (inicio + fin - 1) / 2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3" marL="56304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medio := (inicio + fin) / 2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ndif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clave &lt;= tabla (medio) 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fin := medio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inicio := medio + 1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ndif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ndloop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contrado := clave = tabla (medio)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37620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000066"/>
                </a:solidFill>
                <a:latin typeface="Tahoma"/>
              </a:rPr>
              <a:t>end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busqueda-binaria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8C2-D349-43AF-A2DD-B110611E53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ontinuida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 general los productos de ingeniería cuentan con la propiedad de continuidad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equeños cambios en el ambiente provocan sólo pequeños cambios en el comportamiento del product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productos de software no cuentan con esta propiedad de continu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383B-4041-4A25-BFEA-F113343B98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Testing: Prueba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prueba del software es una actividad crítica de la ingeniería de softwar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be aplicarse en form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sistemátic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xplicitar claramente los resultados esperad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escribir la forma de obtener los resultad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ocumentar los resultados obteni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 la práctica, la prueba del software se hac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n forma desestructurad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in aplicar criterios clar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4A0E-6446-4C1A-9C55-479CA8FBEA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Objetivos de la Prueba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del software pueden usarse par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demostrar la existencia de errores, nunca su ausenci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[Dijkstra, 1972]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324800" y="430056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uebas con error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23960" y="42670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stema incorrec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19120" y="532620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uebas sin error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1880" y="5232240"/>
            <a:ext cx="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441972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5410080"/>
            <a:ext cx="1905120" cy="304920"/>
          </a:xfrm>
          <a:prstGeom prst="rightArrow">
            <a:avLst>
              <a:gd name="adj1" fmla="val 50000"/>
              <a:gd name="adj2" fmla="val 156198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1855-1E3F-4640-9AC8-68D55FCAD2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Utilidad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 las pruebas no dan certeza sobre la corrección del software, ¿tienen alguna utilidad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 bien no proporcionan certeza,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las pruebas pueden aumentar nuestra confianz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en que el sistema se comportará como es espera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 esencial de las pruebas 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 u="sng">
                <a:solidFill>
                  <a:srgbClr val="000066"/>
                </a:solidFill>
                <a:uFillTx/>
                <a:latin typeface="Tahoma"/>
              </a:rPr>
              <a:t>elegir un conjunto de datos de prueba apropiados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 u="sng">
                <a:solidFill>
                  <a:srgbClr val="000066"/>
                </a:solidFill>
                <a:uFillTx/>
                <a:latin typeface="Tahoma"/>
              </a:rPr>
              <a:t>aplicar las pruebas en forma sistemática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0D5D-B7EF-4935-8D00-592F688F37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ceso de Desarroll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-13680" y="2541600"/>
            <a:ext cx="283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Relevamien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y especific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 requerimient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99600" y="273060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iseño 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oftwa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68800" y="2541600"/>
            <a:ext cx="221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ducció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l diseño 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enguajes 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gram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98920" y="2968560"/>
            <a:ext cx="1263600" cy="473040"/>
          </a:xfrm>
          <a:prstGeom prst="rightArrow">
            <a:avLst>
              <a:gd name="adj1" fmla="val 50000"/>
              <a:gd name="adj2" fmla="val 66781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2968560"/>
            <a:ext cx="1263600" cy="473040"/>
          </a:xfrm>
          <a:prstGeom prst="rightArrow">
            <a:avLst>
              <a:gd name="adj1" fmla="val 50000"/>
              <a:gd name="adj2" fmla="val 66781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Para qué otra etapa más?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¡Ya tenemos el software!!!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C382-11CD-40BF-B074-63E474181F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alores Aleatorios de Prueb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95480" y="17524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datos aleatorios 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 prueba suelen no ser los más apropi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8520" indent="-30852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ólo el desarrollador del programa sabe cuáles son lo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datos sensible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ara cada aplicación y cuáles los resultados esper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8520" indent="-30852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 el ejemplo no sirven una cantidad de casos de diferentes valores de (x,y), sino solamente d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caso con x igual a y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caso con x distinto de y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590920"/>
            <a:ext cx="2209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read (x); read (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 x = y </a:t>
            </a: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z := 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z :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endi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write (z);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286000"/>
            <a:ext cx="2514600" cy="27432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DD9D-BD60-42BE-9FE1-CCEF42EB9A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Localizable, Repetible y Precis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no solamente deben detectar la presencia de errores, sino que deben indicar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cuál es el error y dónde se encuentr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deben organizarse para que provean información acerca de la </a:t>
            </a:r>
            <a:r>
              <a:rPr b="0" i="1" lang="es-MX" sz="2400" spc="-1" strike="noStrike">
                <a:solidFill>
                  <a:srgbClr val="000066"/>
                </a:solidFill>
                <a:latin typeface="Tahoma"/>
              </a:rPr>
              <a:t>l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ocalización de los errore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también deben ser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repetible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: aplicadas dos veces, debieran producir los mismos result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influencia del ambiente de ejecución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atenta contra la repetibilidad de las prueb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resultados esperados deben definirse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ependiendo de los datos de entrada y de otros eventos del ambi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D28-2311-466E-A34F-E32BFFE1D2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ariables no Inicializad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33920" y="17524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 la variable x no está inicializada y se tiene este trozo de programa, ¿cuál será el resultado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 veces “anormal”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 veces “normal”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 prueba no es repetibl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lgunos lenguajes no chequean que las variables estén inicializadas, por razones de eficienci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590920"/>
            <a:ext cx="2971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 x = 0 </a:t>
            </a: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write (“anormal”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write (“normal”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endi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590920"/>
            <a:ext cx="3200400" cy="22096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69D0-9AC5-4672-94B0-77A7C14777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specificaciones Precis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especificacione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el software deben ser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suficientemente precisa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como para guiar las prueb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mo consecuencia del estímulo X, el sistema debe producir la salida Y en menos de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t segundos”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Qué prueba debe aplicars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ar el estímulo X al sistem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medir el tiempo hasta que produzca la salid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mprobar que la salida sea Y y el tiempo sea menor o igual a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t segun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ero, ¿qué sucede si ocurren otros eventos después de dar el estímulo X? ¿Cómo se prueba un sistema concurrent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A00-B715-45FA-B8D0-0AEBED7284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specificaciones Form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 las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especificaciones establecen formalmente los resultado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e una operación, será más fácil probarl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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i | 1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i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N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a(i)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a(i+1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i el programa produce un array “</a:t>
            </a:r>
            <a:r>
              <a:rPr b="0" i="1" lang="es-MX" sz="2200" spc="-1" strike="noStrike">
                <a:solidFill>
                  <a:srgbClr val="000066"/>
                </a:solidFill>
                <a:latin typeface="Tahoma"/>
              </a:rPr>
              <a:t>a”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 tal que satisface esta fórmula, el software será correcto con respecto a esta especificació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especificaciones formales pueden ser útiles también para generar datos de prueba automáticam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s pruebas estructuradas aumentan la confiabilidad del softwar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C0F-0CE5-4CC8-889C-C47D73C9F5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Bases Teóricas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finición formal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a P un programa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a D su dominio de entrada y R su recorrido de salidas (D y R pueden ser infinitos)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ado un elemento de D a P, este producirá un elemento de R (función parcial): </a:t>
            </a:r>
            <a:r>
              <a:rPr b="1" lang="es-MX" sz="2200" spc="-1" strike="noStrike">
                <a:solidFill>
                  <a:srgbClr val="000066"/>
                </a:solidFill>
                <a:latin typeface="Tahoma"/>
              </a:rPr>
              <a:t>P: D </a:t>
            </a:r>
            <a:r>
              <a:rPr b="1" lang="es-MX" sz="2200" spc="-1" strike="noStrike">
                <a:solidFill>
                  <a:srgbClr val="000066"/>
                </a:solidFill>
                <a:latin typeface="ZapfDingbats"/>
                <a:ea typeface="ZapfDingbats"/>
              </a:rPr>
              <a:t></a:t>
            </a:r>
            <a:r>
              <a:rPr b="1" lang="es-MX" sz="2200" spc="-1" strike="noStrike">
                <a:solidFill>
                  <a:srgbClr val="000066"/>
                </a:solidFill>
                <a:latin typeface="Tahoma"/>
              </a:rPr>
              <a:t> R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an OR (output requirements) los requerimientos sobre los datos de salida especificados formal o informalment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ado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(d) es correcto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(d) satisface O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 es correcto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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(d) es correct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4A71-FC92-4082-BF1C-02D5D85A06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efectos, Fallas y Falt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presencia de un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error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o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defecto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se demuestra encontrando un d tal que P(d) es incorre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fall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es el síntoma de que existe un error; se da durante la ejecu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ero un error puede existir en el código sin causar ninguna fall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 objetivo de las pruebas es tratar de que todos los defectos existentes provoquen fall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</a:t>
            </a:r>
            <a:r>
              <a:rPr b="0" i="1" lang="es-MX" sz="2400" spc="-1" strike="noStrike" u="sng">
                <a:solidFill>
                  <a:srgbClr val="000066"/>
                </a:solidFill>
                <a:uFillTx/>
                <a:latin typeface="Tahoma"/>
              </a:rPr>
              <a:t>falta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es un estado intermedio incorrecto en que entra un programa durante su ejecu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2C9-1705-4B6E-8289-7FD86C5FCF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Más sobre Faltas y Fall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falla solamente ocurre si existe una falt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Qué ocurre si un defecto no provoca una fall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Qué ocurre si una falta no produce una fall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3630600" cy="27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EE07-C9F5-4ADA-82C2-EDE2511C2D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asos y Conjuntos de Prueb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 caso de prueba d es un elemento del dominio 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 conjunto de prueba T, es un conjunto finito de casos de prueba: T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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 es correcto para T, si es correcto para todos los d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T. Se dice entonces que T es exitoso para P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 conjunto de prueba T es ideal s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 es incorrecto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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d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T | P(d) es incorrecto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conjunto de prueba ideal siempre muestra la existencia de defectos si estos existe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 es un conjunto ideal y T es exitoso para P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P es corre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134E-03B6-4F72-8575-9456A37CBA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Selec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 es el criterio de selección de los elementos de D que forman parte del conjunto de prueba T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 es una condición que debe cumplir el conjunto de prueba; representa todos los subconjuntos de D que satisfacen dicha condi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jemplo: si D es el conjunto de los enteros, el conjunto de prueba deberá tener al menos un dato negativo, uno cero y uno positiv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 = {&lt;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,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,...,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n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&gt; | n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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3 y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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i,j,k | (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i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&lt; 0, 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j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= 0, x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&gt; 0)}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 satisface C si T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6AB-6600-4AD2-ACC4-9890CD5CC8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cesos Human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ún adoptando los mejores métodos y siendo extremadamente cuidadosos, todos los procesos humanos pueden introducir a error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uentes, galletitas, suelas de zapatos, clavos, etc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productos deben ser verificados en todas sus etap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lan inicial (¿es algo razonable?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roceso de desarrollo (¿se lleva a cabo el plan?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roducto final (¿cumple con las necesidades?)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3665-ED40-4A3E-AA4C-EA1811844A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piedades de C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 es </a:t>
            </a:r>
            <a:r>
              <a:rPr b="0" i="1" lang="es-MX" sz="2400" spc="-1" strike="noStrike">
                <a:solidFill>
                  <a:srgbClr val="000066"/>
                </a:solidFill>
                <a:latin typeface="Tahoma"/>
              </a:rPr>
              <a:t>consistente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T1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C y T2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C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T1 es exitoso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T2 es exitos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 es </a:t>
            </a:r>
            <a:r>
              <a:rPr b="0" i="1" lang="es-MX" sz="2400" spc="-1" strike="noStrike">
                <a:solidFill>
                  <a:srgbClr val="000066"/>
                </a:solidFill>
                <a:latin typeface="Tahoma"/>
              </a:rPr>
              <a:t>completo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 es incorrecto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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T </a:t>
            </a:r>
            <a:r>
              <a:rPr b="0" lang="es-MX" sz="2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C | T no es exitos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O sea que si se dispone de un criterio C consistente y completo, cualquier conjunto de prueba será útil para determinar la corrección de P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mentablemente no existe un algoritmo o método para determinar si un criterio de selección de un conjunto de prueba es consistente o comple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C61-CDF8-4CEC-924A-13CBD0FA3E1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rificación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verificación del software es el proceso a través del cual se corrobora que el software satisface sus objetiv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autores que hacen diferencia entre verificación y validación de softwa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verificación: el software es correcto, está implementado acorde a sus especificacion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validación: el software es útil para satisfacer las necesidades del usuari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955-75D5-4705-9176-9D2D2BAA55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Objetivos de la Verific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ueba de pequeños program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 usa el programa como en un caso típico y se constata si se comporta de la manera esperad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 práctica solamente puede hacerse para programas muy chicos e irrelevant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no da ninguna garantía sobre el comportamiento del sistema en casos distintos de los proba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3EF7-9A2E-49A6-90DB-41C4C38DA8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Importancia de la Calida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6672240" y="2046240"/>
            <a:ext cx="1873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duc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merci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 softwa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59680" y="1828800"/>
            <a:ext cx="17701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gra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oméstic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n fin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recreativ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4038480"/>
            <a:ext cx="4572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ALIDAD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écnicas de control de calida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ección de los casos de prueb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seguramiento de la calida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3397320"/>
            <a:ext cx="7391520" cy="761760"/>
          </a:xfrm>
          <a:prstGeom prst="rightArrow">
            <a:avLst>
              <a:gd name="adj1" fmla="val 50000"/>
              <a:gd name="adj2" fmla="val 242580"/>
            </a:avLst>
          </a:prstGeom>
          <a:gradFill rotWithShape="0">
            <a:gsLst>
              <a:gs pos="0">
                <a:srgbClr val="008000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E382-F5FD-460E-9B91-6188494872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Todo debe ser verifica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odas las cualidades relevantes del sistema deben ser verificad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rrección: la implementación se comporta de acuerdo con las especificacion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ortabilidad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modificabilidad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erformance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verificación debe realizarse por distintas personas durante distintas etapas del desarrollo del software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 gente del equipo de desarrollo podría realizar est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8C07-7C2B-453E-B9BE-27EAE5AAF0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Resultado de la Verific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spués de hacer una serie de pruebas de verificación no se llega a una conclusión tajant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roducto está bueno y lo ponemos en comercialización”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producto está malo y debemos desecharlo”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ás bien se llega a tener una idea conceptual de la calidad del softwar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upuestos sobre la verificación de softwa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 presencia de defectos no puede evitarse en grandes sistemas de softwar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 veces, algunos defectos pueden tolerars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 corrección es relativa y difícil de evaluar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CC7-E115-41C6-BD67-A25E5106A2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rificación Objetiva o Subjetiv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lgunas pruebas del sistema son objetiv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ar una entrada y verificar la corrección de la salid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edir el tiempo de respuesta de una transac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2160" y="1752480"/>
            <a:ext cx="5181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Otras cualidades no pueden medirse tan objetivament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tabilidad: sólo puede decirse algo acerca de cuán difícil sería portar el software a un ambiente particular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odificabilidad: el sistema será más o menos modificable de acuerdo al cambio a aplic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4800600"/>
            <a:ext cx="8305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deseable sin embargo poder decir algo más general sobre las cualidades del software: estimaciones subjetiva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tabilidad: el software está desarrollado en java, o sea que podrá correr en cualquier máquin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FBA-254F-49EC-9297-06C7D9715C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F. Ochoa</cp:lastModifiedBy>
  <cp:lastPrinted>2000-10-05T16:29:12Z</cp:lastPrinted>
  <dcterms:modified xsi:type="dcterms:W3CDTF">2005-10-25T17:30:38Z</dcterms:modified>
  <cp:revision>109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